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B41-2129-4B6E-BAB7-CFD2B605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F45-1842-495E-9D5E-7B07853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4A9-8094-47CB-B93B-38A056DA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4E8-ACFE-4D3E-8085-359147D9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E9C-D55A-41B2-ACA7-0BB6D14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D5F-49A0-47E7-B731-7D3EA965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50E-91BF-4034-92CC-078334A5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45D-9552-4A86-B5F3-5285978A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FB3-E458-483D-95D7-A347C75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EEA-830C-41A7-AE21-D197056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4D0-FA9F-4B17-B871-AC4A33D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298-9EF8-47B3-8470-722A668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A53C-4B46-4F72-A6E5-A6CE0AAB5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.unipi.it/~boerger" TargetMode="External"/><Relationship Id="rId2" Type="http://schemas.openxmlformats.org/officeDocument/2006/relationships/hyperlink" Target="http://www.di.unipi.it/~boerger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00"/>
                </a:solidFill>
                <a:latin typeface="Arial"/>
              </a:rPr>
              <a:t>Asynchronous ASMs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565080"/>
            <a:ext cx="929628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n Bö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artimento di Informatica, Universita di Pi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unipi.it/~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boer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: problem stat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1200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Design a distributed algorithm  for reaching workload balance among the agents of a ring (using only communication between right/left neighb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ing message passing mechanism and effective task transfer abstract, assuming fixed number of agents and total work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ic Idea: every agent (ring nod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ely s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workload inf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mss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is righ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a task transfer mss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his left neighbor, transfering a task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lance the workload with the left neighb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dates his workload to balance it with his right neighbor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at eventually the difference between the workload of two nodes becom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AD8-ACE6-4829-B731-07BB48B9E3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ing Load Balance ASM: Agent Signa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gent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 a ring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ents equipped with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ftNeighb, rightNeighb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external func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orkLoa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rent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ighb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workload of lef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nsferLoad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load transfered by rightNeigh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tl_stat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{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nformRightNeighb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Lef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heckWithRightNeighb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tially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tl_state = informRightNeigh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ighbLoad = transferLoad = und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16B-4842-4B79-997D-5E8E0CBEDF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SM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2160"/>
            <a:ext cx="277488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nd(workLoad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ghtNeighb.neighb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= workLo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028880" y="412920"/>
            <a:ext cx="6959520" cy="2609640"/>
            <a:chOff x="1028880" y="412920"/>
            <a:chExt cx="6959520" cy="2609640"/>
          </a:xfrm>
        </p:grpSpPr>
        <p:sp>
          <p:nvSpPr>
            <p:cNvPr id="51" name=""/>
            <p:cNvSpPr/>
            <p:nvPr/>
          </p:nvSpPr>
          <p:spPr>
            <a:xfrm>
              <a:off x="1511280" y="425520"/>
              <a:ext cx="1270080" cy="1079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in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60840" y="660240"/>
              <a:ext cx="172080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end(workLoad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60640" y="1917720"/>
              <a:ext cx="132084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86680" y="412920"/>
              <a:ext cx="1320480" cy="1104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checkWi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Neigh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67480" y="17906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Lef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8880" y="1803240"/>
              <a:ext cx="2320920" cy="3070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BalanceWithRightNeigh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1" idx="6"/>
              <a:endCxn id="54" idx="2"/>
            </p:cNvCxnSpPr>
            <p:nvPr/>
          </p:nvCxnSpPr>
          <p:spPr>
            <a:xfrm>
              <a:off x="2781000" y="964800"/>
              <a:ext cx="3506040" cy="10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54" idx="3"/>
              <a:endCxn id="53" idx="7"/>
            </p:cNvCxnSpPr>
            <p:nvPr/>
          </p:nvCxnSpPr>
          <p:spPr>
            <a:xfrm flipH="1">
              <a:off x="4987080" y="1355400"/>
              <a:ext cx="1492920" cy="72468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3" idx="1"/>
              <a:endCxn id="51" idx="5"/>
            </p:cNvCxnSpPr>
            <p:nvPr/>
          </p:nvCxnSpPr>
          <p:spPr>
            <a:xfrm flipH="1" flipV="1">
              <a:off x="2595240" y="1345680"/>
              <a:ext cx="1459440" cy="734400"/>
            </a:xfrm>
            <a:prstGeom prst="straightConnector1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</p:cxnSp>
      </p:grpSp>
      <p:grpSp>
        <p:nvGrpSpPr>
          <p:cNvPr id="60" name=""/>
          <p:cNvGrpSpPr/>
          <p:nvPr/>
        </p:nvGrpSpPr>
        <p:grpSpPr>
          <a:xfrm>
            <a:off x="0" y="3235320"/>
            <a:ext cx="9144000" cy="992880"/>
            <a:chOff x="0" y="3235320"/>
            <a:chExt cx="9144000" cy="992880"/>
          </a:xfrm>
        </p:grpSpPr>
        <p:sp>
          <p:nvSpPr>
            <p:cNvPr id="61" name=""/>
            <p:cNvSpPr/>
            <p:nvPr/>
          </p:nvSpPr>
          <p:spPr>
            <a:xfrm>
              <a:off x="5676840" y="323532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Lef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neighb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311280"/>
              <a:ext cx="346716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BalanceWithRightNeighb 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arrived(transferLoad) the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0" y="4286160"/>
            <a:ext cx="9144000" cy="1511640"/>
            <a:chOff x="0" y="4286160"/>
            <a:chExt cx="9144000" cy="1511640"/>
          </a:xfrm>
        </p:grpSpPr>
        <p:sp>
          <p:nvSpPr>
            <p:cNvPr id="64" name=""/>
            <p:cNvSpPr/>
            <p:nvPr/>
          </p:nvSpPr>
          <p:spPr>
            <a:xfrm>
              <a:off x="4660920" y="4286160"/>
              <a:ext cx="4483080" cy="146556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fer task to lef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let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 = workLoad &gt; neighbLoad 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ftNeighb.transferLoad:=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</a:t>
              </a:r>
              <a:r>
                <a:rPr b="0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 transf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neighb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7080" y="5216400"/>
              <a:ext cx="2286000" cy="5814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rived(l)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n-US" sz="3200" spc="-1" strike="noStrike" baseline="1000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286160"/>
              <a:ext cx="4483080" cy="9169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pt task from rightNeigh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workLoad:= workLoad + transferLo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transferLoad:= unde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C49-B219-407F-910D-FF84336A8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ng Load Balance ASM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: Correctness proper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840" y="1028520"/>
            <a:ext cx="89661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ition: In every distributed run of agents equipped with the ring load balance ASM, eventually the  workload difference between two neighboring nodes becom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of (assuming that every enabled agent will eventually make a move): induction on the wieght of run workload differences. Let w = total workLoad of all nodes, a= |Agent|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1: t|a. Then eventually workLoad(n)=w/a for every node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ase 2: otherwise. Then eventually the workLoad of some neighboring nodes will differ by 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2EF-A1AC-40BA-A098-C229D361A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9880" y="0"/>
            <a:ext cx="78613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571320"/>
            <a:ext cx="890280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.Reisig: Elements of Distributed Algorithm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nger-Verlag 19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ection 37 (in particular Fig. 37.1) and Section 82 for a correctness proo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Chapter 6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oad Bal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069-7EFC-41C1-89BE-5D068423D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27Z</dcterms:modified>
  <cp:revision>750</cp:revision>
  <dc:subject>The ASM Method</dc:subject>
  <dc:title>The ASM Method</dc:title>
</cp:coreProperties>
</file>