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AF6-2A4E-4FD9-A93A-AF41B39C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346-41CD-4948-A189-3607F014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74C-9EB9-46D5-B865-EDFBC407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EA0-6FED-4AD6-99FC-29107291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FB1-C6EC-42C3-9E03-01455D14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31C-6FCD-4711-A9A3-365DFD31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877-4DDD-45C4-BD34-8AA8F33A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8DA-B297-4CD8-82C3-01B15D8E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DE9-C218-4683-8BE7-0B48D885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233-B51F-468D-AFD0-DCB41269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313-EC62-4C7D-A4E2-6655447A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BF0-11C9-40AF-B26C-D9BDB3A6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B6FC-6ABC-4FA9-9C52-0B8AF0A15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aster/Slave Agreemen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problem stat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000"/>
            <a:ext cx="89661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for a master launching orders to slave agents, to be confirmed by them and to be executed iff all of them confirm to the master the acceptance of the or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enquires about a job to be launched and then waits for answers from the s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laves answer the enquiry and then wait for the order or the cancellation of the launched job from the m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orders or cancels the job depending on whether all slaves answered to accept it or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the master becomes idle, with all slaves either idle too or executing the accepted jo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849-38A7-4A4A-96D4-E1F9E5B0BE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: Agent Sign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748800"/>
            <a:ext cx="89661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istinguished ag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der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der   external function yielding jobs to be sent to the sl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tl_state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le, waitingForAnswe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la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et of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 equipped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ked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true,false}   recording whether a job request has been launched by the master to the sl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nswer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accept,refuse,undef} recording whether a job request has been acceped by the slav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tl_stat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dle, waitingForOrder, bus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tl_state = idle, order = answer =undef, asked = 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B. Abstraction from message passing: functions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sked, answer, or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hared in writing resp.reading among slaves and mas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8749-6433-4432-9392-69009FF184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070000"/>
            <a:ext cx="47498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ire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foral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s.asked :=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Master/Slave Agreement A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879560"/>
            <a:ext cx="4343400" cy="1465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OrCancel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or som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s.answer = refu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order:=canc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order:=jo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89040"/>
            <a:ext cx="4762440" cy="6732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s Arrived 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for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answ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accept, refuse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11360" y="577800"/>
            <a:ext cx="7931160" cy="1159200"/>
            <a:chOff x="711360" y="577800"/>
            <a:chExt cx="7931160" cy="1159200"/>
          </a:xfrm>
        </p:grpSpPr>
        <p:grpSp>
          <p:nvGrpSpPr>
            <p:cNvPr id="53" name=""/>
            <p:cNvGrpSpPr/>
            <p:nvPr/>
          </p:nvGrpSpPr>
          <p:grpSpPr>
            <a:xfrm>
              <a:off x="711360" y="577800"/>
              <a:ext cx="7702200" cy="930240"/>
              <a:chOff x="711360" y="577800"/>
              <a:chExt cx="7702200" cy="930240"/>
            </a:xfrm>
          </p:grpSpPr>
          <p:sp>
            <p:nvSpPr>
              <p:cNvPr id="54" name=""/>
              <p:cNvSpPr/>
              <p:nvPr/>
            </p:nvSpPr>
            <p:spPr>
              <a:xfrm>
                <a:off x="711360" y="581040"/>
                <a:ext cx="102852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id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70200" y="577800"/>
                <a:ext cx="102888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wait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F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135400" y="752400"/>
                <a:ext cx="1812960" cy="577800"/>
              </a:xfrm>
              <a:prstGeom prst="hexagon">
                <a:avLst>
                  <a:gd name="adj" fmla="val 7844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nswer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iv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80440" y="782640"/>
                <a:ext cx="933120" cy="5202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OrderOrCance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146320" y="782640"/>
                <a:ext cx="109836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Enqui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9" name=""/>
              <p:cNvCxnSpPr>
                <a:stCxn id="54" idx="6"/>
                <a:endCxn id="58" idx="1"/>
              </p:cNvCxnSpPr>
              <p:nvPr/>
            </p:nvCxnSpPr>
            <p:spPr>
              <a:xfrm flipV="1">
                <a:off x="1739520" y="1040760"/>
                <a:ext cx="407160" cy="396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8" idx="3"/>
                <a:endCxn id="55" idx="2"/>
              </p:cNvCxnSpPr>
              <p:nvPr/>
            </p:nvCxnSpPr>
            <p:spPr>
              <a:xfrm>
                <a:off x="3244680" y="1041120"/>
                <a:ext cx="4262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5" idx="6"/>
                <a:endCxn id="56" idx="1"/>
              </p:cNvCxnSpPr>
              <p:nvPr/>
            </p:nvCxnSpPr>
            <p:spPr>
              <a:xfrm>
                <a:off x="4699080" y="1041120"/>
                <a:ext cx="4370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stCxn id="56" idx="3"/>
                <a:endCxn id="57" idx="1"/>
              </p:cNvCxnSpPr>
              <p:nvPr/>
            </p:nvCxnSpPr>
            <p:spPr>
              <a:xfrm>
                <a:off x="6948360" y="1041120"/>
                <a:ext cx="53280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>
              <a:stCxn id="57" idx="3"/>
              <a:endCxn id="54" idx="4"/>
            </p:cNvCxnSpPr>
            <p:nvPr/>
          </p:nvCxnSpPr>
          <p:spPr>
            <a:xfrm flipH="1">
              <a:off x="1225080" y="1041480"/>
              <a:ext cx="7189200" cy="467280"/>
            </a:xfrm>
            <a:prstGeom prst="bentConnector4">
              <a:avLst>
                <a:gd name="adj1" fmla="val -3179"/>
                <a:gd name="adj2" fmla="val 148959"/>
              </a:avLst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64" name=""/>
          <p:cNvSpPr/>
          <p:nvPr/>
        </p:nvSpPr>
        <p:spPr>
          <a:xfrm>
            <a:off x="216000" y="5667480"/>
            <a:ext cx="321300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sked then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accept, refuse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=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ed:=fa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8680" y="5931000"/>
            <a:ext cx="4749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Arrived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d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 job, cancel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3994200"/>
            <a:ext cx="9144000" cy="1778040"/>
            <a:chOff x="0" y="3994200"/>
            <a:chExt cx="9144000" cy="1778040"/>
          </a:xfrm>
        </p:grpSpPr>
        <p:grpSp>
          <p:nvGrpSpPr>
            <p:cNvPr id="67" name=""/>
            <p:cNvGrpSpPr/>
            <p:nvPr/>
          </p:nvGrpSpPr>
          <p:grpSpPr>
            <a:xfrm>
              <a:off x="0" y="3994200"/>
              <a:ext cx="9144000" cy="1151640"/>
              <a:chOff x="0" y="3994200"/>
              <a:chExt cx="9144000" cy="1151640"/>
            </a:xfrm>
          </p:grpSpPr>
          <p:sp>
            <p:nvSpPr>
              <p:cNvPr id="68" name=""/>
              <p:cNvSpPr/>
              <p:nvPr/>
            </p:nvSpPr>
            <p:spPr>
              <a:xfrm>
                <a:off x="0" y="3994200"/>
                <a:ext cx="102888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id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870280" y="3994200"/>
                <a:ext cx="1028520" cy="927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wait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F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22360" y="4305240"/>
                <a:ext cx="1098720" cy="3070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80280" y="4200480"/>
                <a:ext cx="1368360" cy="514440"/>
              </a:xfrm>
              <a:prstGeom prst="hexagon">
                <a:avLst>
                  <a:gd name="adj" fmla="val 66498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= jo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65560" y="4168800"/>
                <a:ext cx="1812960" cy="577800"/>
              </a:xfrm>
              <a:prstGeom prst="hexagon">
                <a:avLst>
                  <a:gd name="adj" fmla="val 78442"/>
                  <a:gd name="vf" fmla="val 115470"/>
                </a:avLst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rd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rriv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483760" y="4146480"/>
                <a:ext cx="660240" cy="622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bus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4" name=""/>
              <p:cNvCxnSpPr>
                <a:stCxn id="68" idx="6"/>
                <a:endCxn id="70" idx="1"/>
              </p:cNvCxnSpPr>
              <p:nvPr/>
            </p:nvCxnSpPr>
            <p:spPr>
              <a:xfrm>
                <a:off x="1028520" y="4457520"/>
                <a:ext cx="39420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5" name=""/>
              <p:cNvCxnSpPr>
                <a:stCxn id="70" idx="3"/>
                <a:endCxn id="69" idx="2"/>
              </p:cNvCxnSpPr>
              <p:nvPr/>
            </p:nvCxnSpPr>
            <p:spPr>
              <a:xfrm>
                <a:off x="2521080" y="4457520"/>
                <a:ext cx="34992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6" name=""/>
              <p:cNvCxnSpPr>
                <a:stCxn id="69" idx="6"/>
                <a:endCxn id="72" idx="1"/>
              </p:cNvCxnSpPr>
              <p:nvPr/>
            </p:nvCxnSpPr>
            <p:spPr>
              <a:xfrm>
                <a:off x="3898440" y="4457520"/>
                <a:ext cx="26712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7" name=""/>
              <p:cNvCxnSpPr>
                <a:stCxn id="72" idx="3"/>
                <a:endCxn id="71" idx="1"/>
              </p:cNvCxnSpPr>
              <p:nvPr/>
            </p:nvCxnSpPr>
            <p:spPr>
              <a:xfrm>
                <a:off x="5978520" y="4457520"/>
                <a:ext cx="40248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cxnSp>
            <p:nvCxnSpPr>
              <p:cNvPr id="78" name=""/>
              <p:cNvCxnSpPr>
                <a:stCxn id="71" idx="3"/>
                <a:endCxn id="73" idx="2"/>
              </p:cNvCxnSpPr>
              <p:nvPr/>
            </p:nvCxnSpPr>
            <p:spPr>
              <a:xfrm>
                <a:off x="7748640" y="4457520"/>
                <a:ext cx="735840" cy="1080"/>
              </a:xfrm>
              <a:prstGeom prst="straightConnector1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</p:cxnSp>
          <p:sp>
            <p:nvSpPr>
              <p:cNvPr id="79" name=""/>
              <p:cNvSpPr/>
              <p:nvPr/>
            </p:nvSpPr>
            <p:spPr>
              <a:xfrm>
                <a:off x="7083360" y="4838760"/>
                <a:ext cx="44460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o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45480" y="4470480"/>
                <a:ext cx="48240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yes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8483760" y="5149800"/>
              <a:ext cx="660240" cy="622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d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1" idx="2"/>
              <a:endCxn id="81" idx="2"/>
            </p:cNvCxnSpPr>
            <p:nvPr/>
          </p:nvCxnSpPr>
          <p:spPr>
            <a:xfrm flipH="1" rot="16200000">
              <a:off x="7400160" y="4377960"/>
              <a:ext cx="746640" cy="1420200"/>
            </a:xfrm>
            <a:prstGeom prst="bentConnector2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6EF-7DEF-4BB2-B353-323F817947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aster/Slave Agreemen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orrectn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run of a set of master and slaves, all equipped with the corresponding  master/slave ASM, after the master has started an Enquiry, eventually the master becomes idle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ther all slaves become done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slaves become busy executing the job ordered by the m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of. Follows by run indu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035-4A9E-4DFC-B380-D79E778EA4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the definition of a Petri net in Section 30 (Fig.30.1) and a detailed correctness proof in Section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Master/Slave Agree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94E-3F9C-4A2A-862D-3150047A02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37Z</dcterms:modified>
  <cp:revision>769</cp:revision>
  <dc:subject>The ASM Method</dc:subject>
  <dc:title>The ASM Method</dc:title>
</cp:coreProperties>
</file>