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7AE-71AC-47A0-B712-A302BA9B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C69-AF8B-4172-A69D-B418A4F5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7A5-1BE7-44FA-BAA2-EDC01D6C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FA2-CA1E-484A-8952-F68B9063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C13-C7E4-4C13-ADB3-7AA4EA27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CBD-310E-4751-8491-577698B7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0E0-A81B-43AA-812C-0D6CC5F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F51-5A1D-4D40-BEB0-7DD394A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338-E5C8-4C3C-B780-EFFBA5A4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BEB-6FEE-48A5-A672-942CA76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B85-D421-4BB0-8467-BD4BF18C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C57-1251-4FE8-B332-4C92D89B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405B-F43E-4801-832F-188713686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(non-exclusive and exclusive resource sharing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966160" cy="61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 Design a distributed algorithm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lowing at each step one agent to start a read or a write operation in a given file, up to  max-read&gt;0 simultaneous reads but only 1 write (not overlapping with any read)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elow we define agent rules for read/write access to files which in a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tributed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run of an async ASM (of agents all of which are equipped with those rules) reach the requested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In the example we do not define the partial order for such distributed ru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8AB-5D26-41FA-8B5E-B985A100B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ultiple Reads One Writ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agents which are allowed to access files for read/write op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ished:File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Bool indicating whether an agent has finished his current file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set of fil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equippe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at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ating the number of agents which are currently reading or writing the f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-read,max-wri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al number of agents allowed to simultaneously use the file for reading/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C00-D987-4D54-9EC4-603F401E23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Multiple Reads One Write: agent rules for act=read/wri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888840"/>
            <a:ext cx="9144000" cy="1904760"/>
            <a:chOff x="0" y="888840"/>
            <a:chExt cx="9144000" cy="1904760"/>
          </a:xfrm>
        </p:grpSpPr>
        <p:sp>
          <p:nvSpPr>
            <p:cNvPr id="50" name=""/>
            <p:cNvSpPr/>
            <p:nvPr/>
          </p:nvSpPr>
          <p:spPr>
            <a:xfrm>
              <a:off x="228600" y="88884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972720"/>
              <a:ext cx="2057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in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938160"/>
              <a:ext cx="4114800" cy="585000"/>
            </a:xfrm>
            <a:prstGeom prst="hexagon">
              <a:avLst>
                <a:gd name="adj" fmla="val 175846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-accessible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8200" y="2107800"/>
              <a:ext cx="685800" cy="6858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3200" y="2192040"/>
              <a:ext cx="1371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act-decre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00600" y="2157480"/>
              <a:ext cx="2895480" cy="585000"/>
            </a:xfrm>
            <a:prstGeom prst="hexagon">
              <a:avLst>
                <a:gd name="adj" fmla="val 123738"/>
                <a:gd name="vf" fmla="val 11547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nished(fil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2" idx="3"/>
              <a:endCxn id="51" idx="1"/>
            </p:cNvCxnSpPr>
            <p:nvPr/>
          </p:nvCxnSpPr>
          <p:spPr>
            <a:xfrm>
              <a:off x="5714640" y="123120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50" idx="6"/>
              <a:endCxn id="52" idx="1"/>
            </p:cNvCxnSpPr>
            <p:nvPr/>
          </p:nvCxnSpPr>
          <p:spPr>
            <a:xfrm>
              <a:off x="914040" y="123120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1" idx="3"/>
              <a:endCxn id="53" idx="0"/>
            </p:cNvCxnSpPr>
            <p:nvPr/>
          </p:nvCxnSpPr>
          <p:spPr>
            <a:xfrm>
              <a:off x="8534160" y="1231560"/>
              <a:ext cx="267120" cy="87696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2"/>
              <a:endCxn id="55" idx="3"/>
            </p:cNvCxnSpPr>
            <p:nvPr/>
          </p:nvCxnSpPr>
          <p:spPr>
            <a:xfrm flipH="1">
              <a:off x="7695360" y="2450520"/>
              <a:ext cx="7628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0" y="123156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24508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55" idx="1"/>
              <a:endCxn id="54" idx="3"/>
            </p:cNvCxnSpPr>
            <p:nvPr/>
          </p:nvCxnSpPr>
          <p:spPr>
            <a:xfrm flipH="1">
              <a:off x="4114080" y="2450520"/>
              <a:ext cx="6865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63" name=""/>
          <p:cNvSpPr/>
          <p:nvPr/>
        </p:nvSpPr>
        <p:spPr>
          <a:xfrm>
            <a:off x="0" y="4876920"/>
            <a:ext cx="9144000" cy="12826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f instead of 1 one wants to allow multiple simultaneous file access attempt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x-rea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becomes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ulati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unter to have the expected overall eff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acce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ile) bec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ser (file) + newUse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x-act (f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here newUsers indicates the number of users attempting to access the file for re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632040"/>
            <a:ext cx="9144000" cy="733320"/>
            <a:chOff x="0" y="363204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670200"/>
              <a:ext cx="306072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act-accessible(file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ser (file) &lt; max-act (fil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40080" y="3632040"/>
              <a:ext cx="27306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write(file) =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0800" y="3632040"/>
              <a:ext cx="2743200" cy="73332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max-read (file) =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write-in/decrease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user (file):= user(file) </a:t>
              </a:r>
              <a:r>
                <a:rPr b="1" lang="it-IT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8AD-1DF2-42FA-971D-5EFF1893BC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840" y="558360"/>
            <a:ext cx="914400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. Modeling and Analysis with Petri N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er 1998, Ch.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ultiple Reads One Wr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8BC-D032-4340-A78C-5B06D65F03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53Z</dcterms:modified>
  <cp:revision>715</cp:revision>
  <dc:subject/>
  <dc:title>ASM allowing multiple reads but only one write</dc:title>
</cp:coreProperties>
</file>