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3E9-795D-4040-B69B-7C2090C6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82C-370F-4BFF-BC98-278CA75A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507-364A-416F-BA10-FEF62198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65E-6465-47C3-B203-8FE7914C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BE8-FE4C-47EC-9599-C819A68B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8BB-B781-44ED-A55F-03F137E0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7CB-7443-47FD-A925-9808C635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2BC-0442-47FC-A542-B0F85E7E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4B4-D2E3-4A3D-B1E7-F586DCC3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4AA-AB97-40EA-A1FE-7AE1C7E1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062-7159-4000-8B25-72ED922E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938-5C6D-4274-B1F6-CB390C8D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086F-6F23-4385-91C4-30442E04B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on-deterministic Sorting AS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0265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deterministic sorting by iterating local swa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ose i,j in dom(a) s.t.i &lt; j &amp; a(i) &gt; a(j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(i) := a(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(j) := a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orting and Samp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014-4C97-45CB-937C-DA2609C74F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Sampling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increasing real-time moments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or firing a rule in a discrete time sequenc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85503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89089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Goal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ximate a continuous set of ru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rule(t,t’) with t&lt;t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which are to be fired in a discrete time sequence,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y a finite number of samples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 with increasing sequence of real interval bounda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cab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oose t &gt; currtime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le(currtime,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amples := add(t,samples)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currtime :=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 currtime is a monitored function which is supposed to evolve continu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cab8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Sorting and Samp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113-ADBE-433E-A763-A4DBCA984C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2-04-08T20:51:46Z</dcterms:modified>
  <cp:revision>708</cp:revision>
  <dc:subject/>
  <dc:title>Illustrating ASM choose-construct</dc:title>
</cp:coreProperties>
</file>