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7EFB-3DF4-4BFB-811B-008456E6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EF3-1654-4FB0-9BAA-5D6D46FD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440-6284-4218-A4B1-C167D649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DFC-8780-486E-8150-14253762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566-22A7-4830-AB0D-64AF143F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F5C7-5847-4586-9CAF-32CEE01A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24F-47AB-48AB-BBA7-C63A7742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C76-76D9-4E5D-8F49-D80D6BBC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937B-C02B-4525-A7C8-FDF559D9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AAE-C63D-43CD-9933-C1B930CC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757E-F807-4092-89DB-1493073F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9398-1F05-4FD9-8B3D-1704B8FC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0F47-C1AD-43E5-B335-21D1E8E23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trol structure of the execution semantics of Pipe statements in SpecC: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ipe(Init,cond,Incr,p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,…,p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7840" y="1987560"/>
            <a:ext cx="7435800" cy="4400640"/>
            <a:chOff x="177840" y="1987560"/>
            <a:chExt cx="7435800" cy="4400640"/>
          </a:xfrm>
        </p:grpSpPr>
        <p:sp>
          <p:nvSpPr>
            <p:cNvPr id="43" name=""/>
            <p:cNvSpPr/>
            <p:nvPr/>
          </p:nvSpPr>
          <p:spPr>
            <a:xfrm>
              <a:off x="311040" y="2057400"/>
              <a:ext cx="749520" cy="635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81360" y="1987560"/>
              <a:ext cx="914400" cy="77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ill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7840" y="5613480"/>
              <a:ext cx="1015920" cy="761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inish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670200" y="5600880"/>
              <a:ext cx="1104840" cy="787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flush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85120" y="3498840"/>
              <a:ext cx="1028520" cy="787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runn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95760" y="1916280"/>
            <a:ext cx="4379760" cy="3684600"/>
            <a:chOff x="3695760" y="1916280"/>
            <a:chExt cx="4379760" cy="3684600"/>
          </a:xfrm>
        </p:grpSpPr>
        <p:sp>
          <p:nvSpPr>
            <p:cNvPr id="49" name=""/>
            <p:cNvSpPr/>
            <p:nvPr/>
          </p:nvSpPr>
          <p:spPr>
            <a:xfrm>
              <a:off x="6350040" y="2197080"/>
              <a:ext cx="1498680" cy="355680"/>
            </a:xfrm>
            <a:prstGeom prst="hexagon">
              <a:avLst>
                <a:gd name="adj" fmla="val 105339"/>
                <a:gd name="vf" fmla="val 115470"/>
              </a:avLst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17840" y="1916280"/>
              <a:ext cx="1295640" cy="9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FillLoo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cond,Incr,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...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67480" y="2928960"/>
              <a:ext cx="59688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69080" y="2928960"/>
              <a:ext cx="520560" cy="368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" name=""/>
            <p:cNvCxnSpPr>
              <a:stCxn id="49" idx="2"/>
              <a:endCxn id="46" idx="0"/>
            </p:cNvCxnSpPr>
            <p:nvPr/>
          </p:nvCxnSpPr>
          <p:spPr>
            <a:xfrm flipH="1">
              <a:off x="4222800" y="2552760"/>
              <a:ext cx="2877120" cy="30484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4" idx="6"/>
              <a:endCxn id="50" idx="1"/>
            </p:cNvCxnSpPr>
            <p:nvPr/>
          </p:nvCxnSpPr>
          <p:spPr>
            <a:xfrm>
              <a:off x="3695760" y="2374920"/>
              <a:ext cx="622440" cy="18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0" idx="3"/>
              <a:endCxn id="49" idx="1"/>
            </p:cNvCxnSpPr>
            <p:nvPr/>
          </p:nvCxnSpPr>
          <p:spPr>
            <a:xfrm flipV="1">
              <a:off x="5613480" y="2374920"/>
              <a:ext cx="736920" cy="18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9" idx="3"/>
              <a:endCxn id="47" idx="6"/>
            </p:cNvCxnSpPr>
            <p:nvPr/>
          </p:nvCxnSpPr>
          <p:spPr>
            <a:xfrm flipH="1">
              <a:off x="7613640" y="2374920"/>
              <a:ext cx="235440" cy="1518120"/>
            </a:xfrm>
            <a:prstGeom prst="bentConnector3">
              <a:avLst>
                <a:gd name="adj1" fmla="val -96477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57" name=""/>
          <p:cNvGrpSpPr/>
          <p:nvPr/>
        </p:nvGrpSpPr>
        <p:grpSpPr>
          <a:xfrm>
            <a:off x="1193760" y="5673600"/>
            <a:ext cx="2476440" cy="680040"/>
            <a:chOff x="1193760" y="5673600"/>
            <a:chExt cx="2476440" cy="680040"/>
          </a:xfrm>
        </p:grpSpPr>
        <p:sp>
          <p:nvSpPr>
            <p:cNvPr id="58" name=""/>
            <p:cNvSpPr/>
            <p:nvPr/>
          </p:nvSpPr>
          <p:spPr>
            <a:xfrm>
              <a:off x="1765440" y="5673600"/>
              <a:ext cx="1295280" cy="68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FlushLoo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...p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>
              <a:stCxn id="46" idx="2"/>
              <a:endCxn id="58" idx="3"/>
            </p:cNvCxnSpPr>
            <p:nvPr/>
          </p:nvCxnSpPr>
          <p:spPr>
            <a:xfrm flipH="1">
              <a:off x="3060720" y="5994720"/>
              <a:ext cx="609840" cy="19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8" idx="1"/>
              <a:endCxn id="45" idx="6"/>
            </p:cNvCxnSpPr>
            <p:nvPr/>
          </p:nvCxnSpPr>
          <p:spPr>
            <a:xfrm flipH="1" flipV="1">
              <a:off x="1193760" y="5994360"/>
              <a:ext cx="572040" cy="1944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1060560" y="2190600"/>
            <a:ext cx="1720800" cy="368280"/>
            <a:chOff x="1060560" y="2190600"/>
            <a:chExt cx="1720800" cy="368280"/>
          </a:xfrm>
        </p:grpSpPr>
        <p:sp>
          <p:nvSpPr>
            <p:cNvPr id="62" name=""/>
            <p:cNvSpPr/>
            <p:nvPr/>
          </p:nvSpPr>
          <p:spPr>
            <a:xfrm>
              <a:off x="1600200" y="2190600"/>
              <a:ext cx="596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In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3" name=""/>
            <p:cNvCxnSpPr>
              <a:stCxn id="62" idx="3"/>
              <a:endCxn id="44" idx="2"/>
            </p:cNvCxnSpPr>
            <p:nvPr/>
          </p:nvCxnSpPr>
          <p:spPr>
            <a:xfrm>
              <a:off x="2197080" y="2374560"/>
              <a:ext cx="584640" cy="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43" idx="6"/>
              <a:endCxn id="62" idx="1"/>
            </p:cNvCxnSpPr>
            <p:nvPr/>
          </p:nvCxnSpPr>
          <p:spPr>
            <a:xfrm flipV="1">
              <a:off x="1060560" y="2374560"/>
              <a:ext cx="540000" cy="7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8160" y="2692440"/>
            <a:ext cx="1295280" cy="2921040"/>
            <a:chOff x="38160" y="2692440"/>
            <a:chExt cx="1295280" cy="2921040"/>
          </a:xfrm>
        </p:grpSpPr>
        <p:sp>
          <p:nvSpPr>
            <p:cNvPr id="66" name=""/>
            <p:cNvSpPr/>
            <p:nvPr/>
          </p:nvSpPr>
          <p:spPr>
            <a:xfrm>
              <a:off x="38160" y="3843360"/>
              <a:ext cx="12952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dvan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t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45" idx="0"/>
              <a:endCxn id="66" idx="2"/>
            </p:cNvCxnSpPr>
            <p:nvPr/>
          </p:nvCxnSpPr>
          <p:spPr>
            <a:xfrm flipV="1">
              <a:off x="685800" y="4485960"/>
              <a:ext cx="360" cy="11278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66" idx="0"/>
              <a:endCxn id="43" idx="4"/>
            </p:cNvCxnSpPr>
            <p:nvPr/>
          </p:nvCxnSpPr>
          <p:spPr>
            <a:xfrm flipV="1">
              <a:off x="685800" y="2692440"/>
              <a:ext cx="360" cy="11512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69" name=""/>
          <p:cNvGrpSpPr/>
          <p:nvPr/>
        </p:nvGrpSpPr>
        <p:grpSpPr>
          <a:xfrm>
            <a:off x="4775040" y="3892680"/>
            <a:ext cx="3848400" cy="2477880"/>
            <a:chOff x="4775040" y="3892680"/>
            <a:chExt cx="3848400" cy="2477880"/>
          </a:xfrm>
        </p:grpSpPr>
        <p:grpSp>
          <p:nvGrpSpPr>
            <p:cNvPr id="70" name=""/>
            <p:cNvGrpSpPr/>
            <p:nvPr/>
          </p:nvGrpSpPr>
          <p:grpSpPr>
            <a:xfrm>
              <a:off x="4775040" y="4286160"/>
              <a:ext cx="3848400" cy="2084400"/>
              <a:chOff x="4775040" y="4286160"/>
              <a:chExt cx="3848400" cy="2084400"/>
            </a:xfrm>
          </p:grpSpPr>
          <p:sp>
            <p:nvSpPr>
              <p:cNvPr id="71" name=""/>
              <p:cNvSpPr/>
              <p:nvPr/>
            </p:nvSpPr>
            <p:spPr>
              <a:xfrm>
                <a:off x="5931000" y="6002280"/>
                <a:ext cx="444240" cy="3682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50040" y="5816520"/>
                <a:ext cx="1498680" cy="355680"/>
              </a:xfrm>
              <a:prstGeom prst="hexagon">
                <a:avLst>
                  <a:gd name="adj" fmla="val 105339"/>
                  <a:gd name="vf" fmla="val 115470"/>
                </a:avLst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197760" y="4694400"/>
                <a:ext cx="1803240" cy="68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pawn(p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...p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eq Inc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077320" y="5634000"/>
                <a:ext cx="546120" cy="3682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ye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5" name=""/>
              <p:cNvCxnSpPr>
                <a:stCxn id="47" idx="4"/>
                <a:endCxn id="73" idx="0"/>
              </p:cNvCxnSpPr>
              <p:nvPr/>
            </p:nvCxnSpPr>
            <p:spPr>
              <a:xfrm>
                <a:off x="7099200" y="4286160"/>
                <a:ext cx="360" cy="40860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76" name=""/>
              <p:cNvCxnSpPr>
                <a:stCxn id="73" idx="2"/>
                <a:endCxn id="72" idx="0"/>
              </p:cNvCxnSpPr>
              <p:nvPr/>
            </p:nvCxnSpPr>
            <p:spPr>
              <a:xfrm>
                <a:off x="7099200" y="5374440"/>
                <a:ext cx="720" cy="44244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77" name=""/>
              <p:cNvCxnSpPr>
                <a:stCxn id="72" idx="1"/>
                <a:endCxn id="46" idx="6"/>
              </p:cNvCxnSpPr>
              <p:nvPr/>
            </p:nvCxnSpPr>
            <p:spPr>
              <a:xfrm flipH="1">
                <a:off x="4775040" y="5994360"/>
                <a:ext cx="1575360" cy="720"/>
              </a:xfrm>
              <a:prstGeom prst="straightConnector1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72" idx="3"/>
              <a:endCxn id="47" idx="6"/>
            </p:cNvCxnSpPr>
            <p:nvPr/>
          </p:nvCxnSpPr>
          <p:spPr>
            <a:xfrm flipH="1" flipV="1">
              <a:off x="7613640" y="3892680"/>
              <a:ext cx="235440" cy="2102040"/>
            </a:xfrm>
            <a:prstGeom prst="bentConnector3">
              <a:avLst>
                <a:gd name="adj1" fmla="val -96477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trol State ASM for SpecC pipe st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 Mueller and R. Doemer and A. Gerstlauer: The Formal Execution Semantics of Spe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: TR ICS-01-59 of University of California at Irvine, November 30,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Control State ASM for SpecC pipe st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6:04Z</dcterms:modified>
  <cp:revision>716</cp:revision>
  <dc:subject>The ASM Method</dc:subject>
  <dc:title>The ASM Method</dc:title>
</cp:coreProperties>
</file>