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1B25-3CF8-422A-BF4E-7708C18E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737-E833-447C-9698-110DAD41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BED8-F7A4-4474-8EDC-CDB5ED71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2348-5204-4697-92F9-8F02B60B0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A88-8535-4B7E-A598-F0D8A74D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2C18-3EF0-4315-872A-BD852DCB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2561-CC62-4FB5-BD0B-FD95A3DA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D9C-32FD-4360-8A7D-5E195D0A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DE9B-BDCB-49CD-93A8-7E60FCF8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3A79-1CB8-4C8A-B304-4CD17E59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EECB-7470-4C7F-A7CD-252113A9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5DF5-2C0E-4664-BB53-DFAF3283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C929-4835-47D2-AD79-6538474F0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inement Exercise: ASMs with Stack Opera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0840" y="723960"/>
            <a:ext cx="396252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using static concate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(Elem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ck:= Elem.stack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OVE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stack = Elem.q   then stack:= 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se errormsg:=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81560" y="673200"/>
            <a:ext cx="4762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using dynamic head,nex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DD(Elem) =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let pos = new(POS)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next(pos):= he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head:= p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tack(pos):= E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MOVE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if head </a:t>
            </a:r>
            <a:r>
              <a:rPr b="1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unde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hen head:= next(he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else errormsg:=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940280"/>
            <a:ext cx="9144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rove: M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correctly refines M1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“corresponding” runs have “equiv” stack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1.e2. … en  ~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tack(head)=e1, …, stack(next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head))=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d execs of ADD resp. REMOVE ops correspond to each 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Sta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6381-6291-472F-83AB-833C5008C8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2-04-07T15:17:03Z</dcterms:modified>
  <cp:revision>706</cp:revision>
  <dc:subject/>
  <dc:title>ASM model for stack</dc:title>
</cp:coreProperties>
</file>