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EAE-C609-42C3-BE33-56D63F4E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71B-B467-4E79-A27A-3599591F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AE3-C02A-4A9D-8ABF-B6AEE18D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302-2E96-4039-B46E-6D1A4E10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749-2A26-4CC7-83AD-383CE974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35F-3679-43EF-A0B2-1CF87EC0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E80-5EDA-4D86-B80D-30E1519B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A52-E889-4D5E-B76F-68431873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413-1968-4879-A62B-2F251617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326-CA9B-4826-8B70-C6AE5352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E98-B7C4-4EAF-B857-82BC364B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7F8-1ED6-4D5B-A29F-D1AEBACF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21AF-06BF-4913-820C-B7CE7D176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TCH (  (cond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t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1468440"/>
            <a:ext cx="8991720" cy="1287360"/>
            <a:chOff x="0" y="1468440"/>
            <a:chExt cx="8991720" cy="1287360"/>
          </a:xfrm>
        </p:grpSpPr>
        <p:grpSp>
          <p:nvGrpSpPr>
            <p:cNvPr id="43" name=""/>
            <p:cNvGrpSpPr/>
            <p:nvPr/>
          </p:nvGrpSpPr>
          <p:grpSpPr>
            <a:xfrm>
              <a:off x="0" y="1504800"/>
              <a:ext cx="8991720" cy="1251000"/>
              <a:chOff x="0" y="1504800"/>
              <a:chExt cx="8991720" cy="12510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57480" y="1714680"/>
                <a:ext cx="1498320" cy="355320"/>
              </a:xfrm>
              <a:prstGeom prst="hexagon">
                <a:avLst>
                  <a:gd name="adj" fmla="val 105420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12408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77320" y="1504800"/>
                <a:ext cx="91440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ctl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35560" y="17017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73720" y="2400480"/>
                <a:ext cx="1498680" cy="355320"/>
              </a:xfrm>
              <a:prstGeom prst="hexagon">
                <a:avLst>
                  <a:gd name="adj" fmla="val 105446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r>
                  <a:rPr b="1" lang="it-IT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0" name=""/>
              <p:cNvCxnSpPr>
                <a:stCxn id="44" idx="6"/>
                <a:endCxn id="45" idx="1"/>
              </p:cNvCxnSpPr>
              <p:nvPr/>
            </p:nvCxnSpPr>
            <p:spPr>
              <a:xfrm>
                <a:off x="914400" y="1892160"/>
                <a:ext cx="3434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1" name=""/>
              <p:cNvCxnSpPr>
                <a:stCxn id="45" idx="3"/>
                <a:endCxn id="46" idx="2"/>
              </p:cNvCxnSpPr>
              <p:nvPr/>
            </p:nvCxnSpPr>
            <p:spPr>
              <a:xfrm flipV="1">
                <a:off x="2755800" y="1892160"/>
                <a:ext cx="36864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2" name=""/>
              <p:cNvCxnSpPr>
                <a:stCxn id="47" idx="4"/>
                <a:endCxn id="49" idx="3"/>
              </p:cNvCxnSpPr>
              <p:nvPr/>
            </p:nvCxnSpPr>
            <p:spPr>
              <a:xfrm rot="5400000">
                <a:off x="8003880" y="2048040"/>
                <a:ext cx="299160" cy="76248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53" name=""/>
              <p:cNvCxnSpPr>
                <a:stCxn id="49" idx="1"/>
                <a:endCxn id="44" idx="4"/>
              </p:cNvCxnSpPr>
              <p:nvPr/>
            </p:nvCxnSpPr>
            <p:spPr>
              <a:xfrm rot="10800000">
                <a:off x="456840" y="2279520"/>
                <a:ext cx="5816880" cy="2991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grpSp>
          <p:nvGrpSpPr>
            <p:cNvPr id="54" name=""/>
            <p:cNvGrpSpPr/>
            <p:nvPr/>
          </p:nvGrpSpPr>
          <p:grpSpPr>
            <a:xfrm>
              <a:off x="4788000" y="1468440"/>
              <a:ext cx="3314520" cy="642600"/>
              <a:chOff x="4788000" y="1468440"/>
              <a:chExt cx="3314520" cy="642600"/>
            </a:xfrm>
          </p:grpSpPr>
          <p:sp>
            <p:nvSpPr>
              <p:cNvPr id="55" name=""/>
              <p:cNvSpPr/>
              <p:nvPr/>
            </p:nvSpPr>
            <p:spPr>
              <a:xfrm>
                <a:off x="7721640" y="1879560"/>
                <a:ext cx="38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88000" y="1468440"/>
                <a:ext cx="774720" cy="642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3600" spc="-1" strike="noStrike">
                    <a:solidFill>
                      <a:srgbClr val="ffff00"/>
                    </a:solidFill>
                    <a:latin typeface="Arial"/>
                  </a:rPr>
                  <a:t>...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0" y="3919680"/>
            <a:ext cx="7378200" cy="2506680"/>
            <a:chOff x="0" y="3919680"/>
            <a:chExt cx="7378200" cy="2506680"/>
          </a:xfrm>
        </p:grpSpPr>
        <p:sp>
          <p:nvSpPr>
            <p:cNvPr id="58" name=""/>
            <p:cNvSpPr/>
            <p:nvPr/>
          </p:nvSpPr>
          <p:spPr>
            <a:xfrm>
              <a:off x="0" y="3919680"/>
              <a:ext cx="6591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se i=0,1: 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lipFlop  =  Switch((high,1),(low,0)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905120" y="4902120"/>
              <a:ext cx="5473080" cy="1524240"/>
              <a:chOff x="1905120" y="4902120"/>
              <a:chExt cx="5473080" cy="1524240"/>
            </a:xfrm>
          </p:grpSpPr>
          <p:sp>
            <p:nvSpPr>
              <p:cNvPr id="60" name=""/>
              <p:cNvSpPr/>
              <p:nvPr/>
            </p:nvSpPr>
            <p:spPr>
              <a:xfrm>
                <a:off x="190512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98800" y="490212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ig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464160" y="5226120"/>
                <a:ext cx="914040" cy="77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98800" y="6070680"/>
                <a:ext cx="1497960" cy="355680"/>
              </a:xfrm>
              <a:prstGeom prst="hexagon">
                <a:avLst>
                  <a:gd name="adj" fmla="val 105288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w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0" idx="0"/>
                <a:endCxn id="61" idx="1"/>
              </p:cNvCxnSpPr>
              <p:nvPr/>
            </p:nvCxnSpPr>
            <p:spPr>
              <a:xfrm flipH="1" flipV="1" rot="5400000">
                <a:off x="3057480" y="4384800"/>
                <a:ext cx="146520" cy="1536840"/>
              </a:xfrm>
              <a:prstGeom prst="bentConnector4">
                <a:avLst>
                  <a:gd name="adj1" fmla="val 155172"/>
                  <a:gd name="adj2" fmla="val 64854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5" name=""/>
              <p:cNvCxnSpPr>
                <a:stCxn id="61" idx="3"/>
                <a:endCxn id="62" idx="0"/>
              </p:cNvCxnSpPr>
              <p:nvPr/>
            </p:nvCxnSpPr>
            <p:spPr>
              <a:xfrm>
                <a:off x="5396760" y="5079960"/>
                <a:ext cx="1524960" cy="146520"/>
              </a:xfrm>
              <a:prstGeom prst="bentConnector4">
                <a:avLst>
                  <a:gd name="adj1" fmla="val 34994"/>
                  <a:gd name="adj2" fmla="val -55172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6" name=""/>
              <p:cNvCxnSpPr>
                <a:stCxn id="62" idx="4"/>
                <a:endCxn id="63" idx="3"/>
              </p:cNvCxnSpPr>
              <p:nvPr/>
            </p:nvCxnSpPr>
            <p:spPr>
              <a:xfrm rot="5400000">
                <a:off x="6035040" y="5362560"/>
                <a:ext cx="248040" cy="152496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67" name=""/>
              <p:cNvCxnSpPr>
                <a:stCxn id="63" idx="1"/>
                <a:endCxn id="60" idx="4"/>
              </p:cNvCxnSpPr>
              <p:nvPr/>
            </p:nvCxnSpPr>
            <p:spPr>
              <a:xfrm rot="10800000">
                <a:off x="2362320" y="6000840"/>
                <a:ext cx="1536840" cy="248040"/>
              </a:xfrm>
              <a:prstGeom prst="bentConnector2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SWIT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F68-11B1-4D8A-8FA5-CC743CE832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8-07T16:38:18Z</dcterms:modified>
  <cp:revision>713</cp:revision>
  <dc:subject>The ASM Method</dc:subject>
  <dc:title>The ASM Method</dc:title>
</cp:coreProperties>
</file>