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782300" cy="7656513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765F4D3B-1558-4485-8320-9AD5E914BB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69960" y="553680"/>
            <a:ext cx="54388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4430880"/>
            <a:ext cx="57578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77880" y="4707360"/>
            <a:ext cx="54226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4192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fld id="{6BEDD338-CA7B-40CB-BD93-5096C3A9E7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1440" y="9434520"/>
            <a:ext cx="29383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144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41920" y="9360"/>
            <a:ext cx="293832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5160" y="879480"/>
            <a:ext cx="4851360" cy="3444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03240" y="4711680"/>
            <a:ext cx="49737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2976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21440" y="113652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2976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21440" y="4033800"/>
            <a:ext cx="294408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6919560"/>
            <a:ext cx="604980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23840" y="403380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3840" y="1136520"/>
            <a:ext cx="44622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33800"/>
            <a:ext cx="91440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5960" y="4456080"/>
            <a:ext cx="873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299200" y="798480"/>
            <a:ext cx="581652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527440" y="80316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9044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45960" y="6988320"/>
            <a:ext cx="96822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93348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5320" y="6869160"/>
            <a:ext cx="899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4920" y="6919560"/>
            <a:ext cx="60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136520"/>
            <a:ext cx="914400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20040" y="7147080"/>
            <a:ext cx="1873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de-DE" sz="1000" spc="-1" strike="noStrike">
                <a:solidFill>
                  <a:srgbClr val="081d58"/>
                </a:solidFill>
                <a:latin typeface="UniversS 55 Roman"/>
              </a:rPr>
              <a:t>Courtesy of P. Päppinghaus, Siemens A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1687680"/>
            <a:ext cx="9410760" cy="1589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port on a Practical Application of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SMs in Software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76080" y="5300280"/>
            <a:ext cx="7629480" cy="1336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on Bör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ter Päppingha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oachim Sch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6240" y="3478320"/>
            <a:ext cx="941076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 FALKO Project </a:t>
            </a:r>
            <a:br>
              <a:rPr sz="3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emens (Muni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ch 1998 - Ma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al of „FALKO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in purpose of FALKO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ruct &amp; validate timetables f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am/sub-/railway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tables constructed offline from raw data wh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input manually via a GU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n be read in from files written in established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idation done by sim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 main components + 1 hidden discrete event simulation kernel controlling th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fc0128"/>
              </a:buClr>
              <a:buSzPct val="130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urier New"/>
              </a:rPr>
              <a:t>Component modeling the railway process has been formally specified and designed using A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601"/>
              </a:spcBef>
              <a:buClr>
                <a:srgbClr val="063de8"/>
              </a:buClr>
              <a:buFont typeface="Courier New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integrating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or numerical computations (computing train velocities, trip times etc.) designed and hand coded conven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ffort for Component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7400" y="1044720"/>
            <a:ext cx="906624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6000"/>
          </a:bodyPr>
          <a:p>
            <a:pPr marL="27432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tal Effort for Railway Process Model: 66 pw (person week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quirement specification based on predecessor system, developed in meetings of the      design team, documented by minutes of the meetings (4 persons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sign of 1st draft of executable ASM model (1 person 8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testing and debugging using the ASM Workbench (developed by Giuseppe Del Castillo as part of his Doctoral Thesis at University of Paderborn)  (1 person 8 weeks + 1 person 11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view of 2nd draft of ASM model by design team plus external reviewers (6 persons 1 we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veral cycles of improving, testing and debugging (2 persons 5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 Ph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ment of ASM-SL to C++ Code Generator (developed by Joachim Schmid as part of his Doctoral Thesis at University of Ulm, 1 person 4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ecification and implementation of additional handwritten C++ code (1 person 2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of FALKO system including testing and debugging (3 persons 3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ocumentation of railway process model component (as collection of HTML documents with literate programming features, linked to ASM Workbench) and final polish (1 person 6 wee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parison: ca. 110% of estimated total effort for conventional software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ze of ASM Model and C++ Code for „Railway Process Model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87040" y="1216080"/>
            <a:ext cx="9231480" cy="55036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M Model (source of C++ code gener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3 000 lines of ASM Workbench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20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15 functions and relations (240 functions, 75 rel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1 dy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9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9 st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6 de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++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9 000 lines of generated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. 2 900 additional lines of handwritten C++ Code, consisting o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400 lines wrapper code for interfacing to other components of FAL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a. 2 500 lines low-level librar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lway process model of prototypical predecessor system:                                                    ca. 20 000 lines of (handwritten) C++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 with Use of ASMs for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 fontScale="99000"/>
          </a:bodyPr>
          <a:p>
            <a:pPr marL="2829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velopers and reviewers had no problems to understand the formal specification (ASM mod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ests with ASM model uncovered, at an early stage, bugs also in other components of the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herence of specification and implementation by seamless too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formance loss of generated code tolerable even for product quality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 installations at Subway Vienna Operator since March 1999, 1 in daily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stomer reported no bugs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15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bugs discovered in tests run by FALKO developers, temporary fixes for the 2 bugs (by handhacking the generated C++ code) later replaced by recompiling updated ASM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uilt-up, supporting seamless flow from spec t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4960" y="6881400"/>
            <a:ext cx="9237600" cy="4762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7040" y="1044720"/>
            <a:ext cx="9231480" cy="5675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760" bIns="50760" anchor="t">
            <a:normAutofit/>
          </a:bodyPr>
          <a:p>
            <a:pPr marL="2858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gon Börger, Peter Päppinghaus, Joachim Schmi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ort on a Practical Application of ASMs in Software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Y. Gurevich et al.( Eds.): Abstract State Machines. Theory and Applications. Springer LNCS 1912, 2002, 361-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iuseppe Del Castill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SM Workbench. A Tool Environment for Computer-Aided Analysis and Validation of Abstract State Machine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sertation, Heinz Nixdorf Institut, Universi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Paderborn, 2001, pp.iv + 212,   ISBN 3 - 9311 466 – 82 –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. Schmid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iling Abstract State Machines to C.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: Journal of Universal Computer Science 7 (11), 2001, 1069-10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6T12:20:14Z</dcterms:created>
  <dc:creator>Peter Paeppinghaus</dc:creator>
  <dc:description/>
  <dc:language>en-US</dc:language>
  <cp:lastModifiedBy>Egon Boerger</cp:lastModifiedBy>
  <cp:lastPrinted>2000-05-08T14:56:43Z</cp:lastPrinted>
  <dcterms:modified xsi:type="dcterms:W3CDTF">2002-04-03T11:54:17Z</dcterms:modified>
  <cp:revision>229</cp:revision>
  <dc:subject>Project Data on Use of ASMs in the Project</dc:subject>
  <dc:title>Falko Project at Siemens</dc:title>
</cp:coreProperties>
</file>