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E608-FCEC-4658-93EC-9367BC34E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8697-633A-4BF8-B945-B31614EA5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1AD7-BEF1-451B-8763-B195821D9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3D2A-86F6-4C8F-9D86-0A57F05D0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B9C3-6D4D-4DF0-8F7B-06362E417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24E8-00E4-4F2A-A33F-EDEB8DCE9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8F61-0B89-45BA-86AC-9420CB7D8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5946-DE9C-45D6-A813-2DFE849A6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F589-5DC0-4363-93E2-DEDADB3A5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3B63-9D43-4236-8CEC-3B98DB89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40BA-E1BE-41B0-ADDD-16EF106A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A052-4D62-49E9-82EB-34467160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7EA5-B903-42D6-8978-CDA225F6CE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i.unipi.it/~boerger" TargetMode="External"/><Relationship Id="rId2" Type="http://schemas.openxmlformats.org/officeDocument/2006/relationships/hyperlink" Target="http://www.di.unipi.it/~boerger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di.unipi.it/AsmBook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di.unipi.it/AsmBook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9880" y="-36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Real-Time Process Control Systems </a:t>
            </a:r>
            <a:br>
              <a:rPr sz="3600"/>
            </a:br>
            <a:br>
              <a:rPr sz="3600"/>
            </a:b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(Real-Time Controller ASM for the</a:t>
            </a:r>
            <a:br>
              <a:rPr sz="3600"/>
            </a:b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Railroad Crossing Case Study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3565080"/>
            <a:ext cx="9296280" cy="31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on Bör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partimento di Informatica, Universita di Pis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~</a:t>
            </a: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boer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5335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9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Goals of Real-Time Controller ASMs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ith Atomic Actions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825120"/>
            <a:ext cx="8928000" cy="55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tomic a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troll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executes instantaneous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nvironme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changes take place instantaneousl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ach real-time moment, there is 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ell defined st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ns which satisfy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nvironment-controller separation principl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99"/>
                </a:solidFill>
                <a:latin typeface="Arial"/>
              </a:rPr>
              <a:t>In the definition below, we will allow that the controller is constituted by multiple agents, each of which executes a basic ASM. Atomicity of actions constitutes an idealization, to be refined by durative actions.</a:t>
            </a:r>
            <a:r>
              <a:rPr b="1" lang="en-US" sz="2800" spc="-1" strike="noStrike">
                <a:solidFill>
                  <a:srgbClr val="66ff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43E0-5DA5-4BCD-BE1E-633A9CCD44B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9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calling Basic ASMs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8928000" cy="55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Basic AS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a finite set of rules, executed by a single agent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l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and having the 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ndi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n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Upd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Update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finite set of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f (t</a:t>
            </a:r>
            <a:r>
              <a:rPr b="0" lang="en-US" sz="2000" spc="-1" strike="noStrike" baseline="-25000">
                <a:solidFill>
                  <a:srgbClr val="ff99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,…,t</a:t>
            </a:r>
            <a:r>
              <a:rPr b="0" lang="en-US" sz="2000" spc="-1" strike="noStrike" baseline="-25000">
                <a:solidFill>
                  <a:srgbClr val="ff99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):=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arbitrary functions,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ndi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Boolean valued expression (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rder formul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current st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structure) 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e all the fireable rules in 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s.t. Cond is true in 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e all exprs 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t occuring in updates f(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…,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:=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ecute simultaneously all these function upda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updating yields the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next st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7B9F-B0DC-4788-8BA8-BA058A87BDC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uns of Real-Time Controller ASMs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74772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un of a Real-Time Controller ASM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given by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discre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sequence 0 = 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0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lt; 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lt; 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... of reals – consisting of (all &amp; only) the computationally significant real-time “moments” of M - and associated states S(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 where currtime = 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n+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 is obtained from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= S(t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) minus currtime)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ither Case 1: a computation step (of some agents) of M, without any change of monitored fcts between 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nd 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n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 Case 2: a change of monitored fcts, without any M-comp step between 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nd 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n+1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dard extension to states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(t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t &lt;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n+1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AA6D-188C-4BAE-A49A-591BBC892B3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9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tandard Extension of Runs of Real-Time Controller ASM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25120"/>
            <a:ext cx="9144000" cy="562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u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S(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)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 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a real-time controller ASM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naturally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ended to states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(t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arbitrary real-time momen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t &lt;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n+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s follow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rrtime = t in S(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t) =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n+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 in Case 1 (result of the instantaneous M-step executed at time 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t) =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 in Case 2 (unchanged M-state, since between 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nd 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n+1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M-step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kes place, &amp; the instantaneous change of monitored fcts becomes effective at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n+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mma.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t &lt;t’&lt;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n+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t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t’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B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99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)</a:t>
            </a:r>
            <a:r>
              <a:rPr b="0" lang="en-US" sz="2400" spc="-1" strike="noStrike" baseline="-25000">
                <a:solidFill>
                  <a:srgbClr val="ff9900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ff99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 baseline="-25000">
                <a:solidFill>
                  <a:srgbClr val="ff9900"/>
                </a:solidFill>
                <a:latin typeface="Arial"/>
              </a:rPr>
              <a:t> N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is discre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ff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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nly finitely man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&lt; t. This condition excludes so-called Zeno runs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27AE-A808-44E6-A3B7-E5015FCEADA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622440"/>
            <a:ext cx="9067680" cy="48132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Control Syste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Real-Time Controller ASMs (</a:t>
            </a:r>
            <a:r>
              <a:rPr b="0" lang="en-US" sz="4000" spc="-1" strike="noStrike">
                <a:solidFill>
                  <a:srgbClr val="969696"/>
                </a:solidFill>
                <a:latin typeface="Arial"/>
              </a:rPr>
              <a:t>with atomic actions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ailroad Crossing Controller AS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Analysis</a:t>
            </a: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of the</a:t>
            </a: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Railroad Crossing Controller ASM (Safety &amp; Liveness Proo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Exercises and Refere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D4C8-D646-4195-B7DA-E26F517ED4C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1200" y="0"/>
            <a:ext cx="89028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blem Description of Railroad Crossing Case Study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698400"/>
            <a:ext cx="9144000" cy="589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ystem to be developed operates a gate at a railroad crossing. A set of trains travel on multiple tracks in both directions. Each track has four sensors, detecting when a train enters resp. exits the crossing: L1, L2 for trains coming from the left, R1, R2 for trains coming from the right. Based on these sensor signals, a controller should signal the gate to open/clo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e the following two propertie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the system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afet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When a train is in the crossing, the gate is clos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ivenes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The gate is open when no train is in the cros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511C-3C37-4F36-AAA2-0678AEB675B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rain Motion Assumptions of Railroad Crossing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360" y="685440"/>
            <a:ext cx="8953560" cy="57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rain Mo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For every track, there is a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train motion seque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0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lt; 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lt; 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... of reals with the following properti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itial Sta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at the initial moment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the observed track segment [L1,R1] is empt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rain Patter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If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i+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ppears in the sequence, the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i+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i+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ppear in the sequence, 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+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an incoming train is detected at either L1 or R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+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is train reaches the cross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+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is train is detected to have left the crossing at L2 resp. R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pletenes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The sequenc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0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&lt; 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&lt; 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..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vers all the (and only) trains that appear on this trac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39C7-D145-4AC9-B228-9339D61EA89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rain &amp; Gate Assumptions of Railroad Crossing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-360" y="685440"/>
            <a:ext cx="8953560" cy="57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rain Approaching Ti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mi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re the minimal/maximal time for a train to reach the crossing after having been detected at L1/R1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+2 -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+1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] for all i in a train motion sequ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ate Closure/Opening Ti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ring no interval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t, t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clo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 resp. [t, t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op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 is a signal to close/open in force without at some moment in this interval the gate being closed/open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ate versus Train Ti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clos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&lt; 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m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B. Gate may react to closure/opening commands with some (bounded) delay, whereas wlog we will assume the controller to react immediately, i.e. at the instant when it is enabl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80EB-7D45-4716-AAB3-EAED04A0C74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Signatur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of Railroad Crossing ASM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748800"/>
            <a:ext cx="899172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currtime: REAL is the central monitored time fun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TRACK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ffff"/>
                </a:solidFill>
                <a:latin typeface="Arial"/>
              </a:rPr>
              <a:t>: </a:t>
            </a:r>
            <a:r>
              <a:rPr b="0" lang="it-IT" sz="2800" spc="-1" strike="noStrike">
                <a:solidFill>
                  <a:srgbClr val="66ff99"/>
                </a:solidFill>
                <a:latin typeface="Arial"/>
              </a:rPr>
              <a:t>static domain with</a:t>
            </a:r>
            <a:r>
              <a:rPr b="0" lang="it-IT" sz="2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99"/>
                </a:solidFill>
                <a:latin typeface="Arial"/>
              </a:rPr>
              <a:t>monitored fct</a:t>
            </a:r>
            <a:r>
              <a:rPr b="0" lang="it-IT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TrackStatus :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TRACK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{empty, coming, inCrossing}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99"/>
                </a:solidFill>
                <a:latin typeface="Arial"/>
              </a:rPr>
              <a:t>controlled fct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Deadline :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TRACK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REAL </a:t>
            </a:r>
            <a:r>
              <a:rPr b="0" lang="it-IT" sz="2000" spc="-1" strike="noStrike">
                <a:solidFill>
                  <a:srgbClr val="ffff00"/>
                </a:solidFill>
                <a:latin typeface="Symbol"/>
                <a:ea typeface="Symbol"/>
              </a:rPr>
              <a:t>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{</a:t>
            </a:r>
            <a:r>
              <a:rPr b="0" lang="it-IT" sz="2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}</a:t>
            </a:r>
            <a:r>
              <a:rPr b="0" lang="it-IT" sz="2400" spc="-1" strike="noStrike">
                <a:solidFill>
                  <a:srgbClr val="ccecff"/>
                </a:solidFill>
                <a:latin typeface="Arial"/>
              </a:rPr>
              <a:t>          </a:t>
            </a:r>
            <a:r>
              <a:rPr b="0" lang="it-IT" sz="2400" spc="-1" strike="noStrike">
                <a:solidFill>
                  <a:srgbClr val="66ff99"/>
                </a:solidFill>
                <a:latin typeface="Arial"/>
              </a:rPr>
              <a:t>to measure the allowable WaitingTime bw the train appearance and the latest possible moment to start the gate closing (for the gate to be closed in tim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99"/>
                </a:solidFill>
                <a:latin typeface="Arial"/>
              </a:rPr>
              <a:t>two dynamic fcts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66ff99"/>
                </a:solidFill>
                <a:latin typeface="Arial"/>
              </a:rPr>
              <a:t>for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66ff99"/>
                </a:solidFill>
                <a:latin typeface="Arial"/>
              </a:rPr>
              <a:t>gate moving directions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66ff99"/>
                </a:solidFill>
                <a:latin typeface="Arial"/>
              </a:rPr>
              <a:t>and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66ff99"/>
                </a:solidFill>
                <a:latin typeface="Arial"/>
              </a:rPr>
              <a:t>final gate positio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Dir </a:t>
            </a:r>
            <a:r>
              <a:rPr b="0" lang="it-IT" sz="1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{open, close} </a:t>
            </a:r>
            <a:r>
              <a:rPr b="0" lang="it-IT" sz="2400" spc="-1" strike="noStrike">
                <a:solidFill>
                  <a:srgbClr val="66ff99"/>
                </a:solidFill>
                <a:latin typeface="Arial"/>
              </a:rPr>
              <a:t>controlled by the controll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GateStatus </a:t>
            </a:r>
            <a:r>
              <a:rPr b="0" lang="it-IT" sz="1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{opened, closed}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66ff99"/>
                </a:solidFill>
                <a:latin typeface="Arial"/>
              </a:rPr>
              <a:t>controlled by the g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A03D-DD2A-4E5A-8E05-4203F853415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ntroller ASM for Railroad Crossing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-360" y="622440"/>
            <a:ext cx="89917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Controller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it-IT" sz="2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forall x </a:t>
            </a:r>
            <a:r>
              <a:rPr b="0" lang="it-IT" sz="1800" spc="-1" strike="noStrike">
                <a:solidFill>
                  <a:srgbClr val="66ff99"/>
                </a:solidFill>
                <a:latin typeface="Symbol"/>
                <a:ea typeface="Symbol"/>
              </a:rPr>
              <a:t>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 TRACK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                                                    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SetDeadline(x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                                                    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SignalClose(x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                                                    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ClearDeadline(x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                                         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SignalOp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SetDeadline(x) </a:t>
            </a:r>
            <a:r>
              <a:rPr b="0" lang="it-IT" sz="2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If TrackStatus (x) = coming &amp; Deadline (x) = </a:t>
            </a:r>
            <a:r>
              <a:rPr b="0" lang="it-IT" sz="24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then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Deadline (x) := currtime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min</a:t>
            </a: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clos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    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(WaitTim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SignalClose(x) </a:t>
            </a:r>
            <a:r>
              <a:rPr b="0" lang="it-IT" sz="2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If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currtime = Deadline (x)  then Dir := clo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ClearDeadline (x) </a:t>
            </a:r>
            <a:r>
              <a:rPr b="0" lang="it-IT" sz="2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If TrackStatus (x) = empty &amp; Deadline (x) &lt; </a:t>
            </a:r>
            <a:r>
              <a:rPr b="0" lang="it-IT" sz="24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              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then Deadline (x) := </a:t>
            </a:r>
            <a:r>
              <a:rPr b="0" lang="it-IT" sz="24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SignalOpen </a:t>
            </a:r>
            <a:r>
              <a:rPr b="0" lang="it-IT" sz="2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If Dir = close &amp;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SafeToOpen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then Dir:=op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where SafeToOpen </a:t>
            </a:r>
            <a:r>
              <a:rPr b="0" lang="it-IT" sz="2800" spc="-1" strike="noStrike">
                <a:solidFill>
                  <a:srgbClr val="ff9900"/>
                </a:solidFill>
                <a:latin typeface="Symbol"/>
                <a:ea typeface="Symbol"/>
              </a:rPr>
              <a:t>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TRACK: TrackStatus (x) = empty o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ff99"/>
                </a:solidFill>
                <a:latin typeface="Arial"/>
              </a:rPr>
              <a:t>enough time to open before next closure      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currtime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open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&lt; Deadline (x)</a:t>
            </a:r>
            <a:r>
              <a:rPr b="0" lang="it-IT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6330-B713-48F8-BEBC-EB3E32A6D73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1854360"/>
            <a:ext cx="8801280" cy="45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                 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. Börger, R. Stä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stract State Machin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ethod for High-Level System Design and Analy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Springer-Verlag  200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For update info see AsmBook web pag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AsmB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06440"/>
            <a:ext cx="8864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details see Chapter 5 (Synchronous Multi-Agent ASMs) of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3E1A-5BDB-4459-A94A-EF499A4C6D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ate ASM: an instance of a Flip Flop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622080"/>
            <a:ext cx="9144000" cy="62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Gate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it-IT" sz="2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OpenG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               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CloseG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where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OpenGate</a:t>
            </a:r>
            <a:r>
              <a:rPr b="0" lang="it-IT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it-IT" sz="2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If Dir = open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then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GateStatus := open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loseGate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it-IT" sz="2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If Dir = close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then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GateStatus := clos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GateStatus = opened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Dir = op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for all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it-IT" sz="20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TR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TrackStatus (x) = empty             Deadline(x) = </a:t>
            </a:r>
            <a:r>
              <a:rPr b="0" lang="it-IT" sz="2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NB. Sharpening the guards 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Gate rules by GateStatus = closed/open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SignalClose (x) by Dir = op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yields a machine where each step changes the state. We disregard this optimization, since the definition of  runs of a real-time controller ASM is not restricted to machine steps which change the st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BB0E-9187-4E61-8B65-89348BE4511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The Agent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of the Railroad Crossing ASM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240" y="584280"/>
            <a:ext cx="9131400" cy="30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The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ailroad Crossing Controller ASM has three agent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Controller, Gat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Env, represented by the monitored fct TrackStat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A representation of Env as agent has to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internalize the timing conditions of train motion sequence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, e.g. by a timed automaton ASM, consisting of one machine for each track x,  each able to fire independently &amp; simultaneousl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016600" y="3809880"/>
            <a:ext cx="4127400" cy="1191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NB. The notion of real-time controller ASM run has to be adapted to treating env as a special team of ag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82760" y="3765600"/>
            <a:ext cx="4076640" cy="3092400"/>
            <a:chOff x="482760" y="3765600"/>
            <a:chExt cx="4076640" cy="3092400"/>
          </a:xfrm>
        </p:grpSpPr>
        <p:sp>
          <p:nvSpPr>
            <p:cNvPr id="127" name=""/>
            <p:cNvSpPr/>
            <p:nvPr/>
          </p:nvSpPr>
          <p:spPr>
            <a:xfrm>
              <a:off x="482760" y="3765600"/>
              <a:ext cx="939600" cy="7747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emp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67200" y="6058080"/>
              <a:ext cx="977760" cy="7999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inCrossin</a:t>
              </a: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79800" y="3765600"/>
              <a:ext cx="952560" cy="7747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omi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76520" y="4000680"/>
              <a:ext cx="1143000" cy="520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clock(x)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:= 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31" name=""/>
            <p:cNvCxnSpPr>
              <a:stCxn id="127" idx="6"/>
              <a:endCxn id="130" idx="1"/>
            </p:cNvCxnSpPr>
            <p:nvPr/>
          </p:nvCxnSpPr>
          <p:spPr>
            <a:xfrm>
              <a:off x="1422360" y="4152600"/>
              <a:ext cx="254880" cy="108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cxnSp>
          <p:nvCxnSpPr>
            <p:cNvPr id="132" name=""/>
            <p:cNvCxnSpPr>
              <a:stCxn id="130" idx="3"/>
              <a:endCxn id="129" idx="2"/>
            </p:cNvCxnSpPr>
            <p:nvPr/>
          </p:nvCxnSpPr>
          <p:spPr>
            <a:xfrm>
              <a:off x="2819160" y="4152600"/>
              <a:ext cx="261000" cy="108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8" idx="2"/>
              <a:endCxn id="127" idx="4"/>
            </p:cNvCxnSpPr>
            <p:nvPr/>
          </p:nvCxnSpPr>
          <p:spPr>
            <a:xfrm flipH="1" flipV="1">
              <a:off x="952200" y="4539600"/>
              <a:ext cx="2115360" cy="191844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134" name=""/>
            <p:cNvSpPr/>
            <p:nvPr/>
          </p:nvSpPr>
          <p:spPr>
            <a:xfrm>
              <a:off x="2552760" y="4889520"/>
              <a:ext cx="2006640" cy="876240"/>
            </a:xfrm>
            <a:prstGeom prst="hexagon">
              <a:avLst>
                <a:gd name="adj" fmla="val 57251"/>
                <a:gd name="vf" fmla="val 115470"/>
              </a:avLst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min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clock(x)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m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35" name=""/>
            <p:cNvCxnSpPr>
              <a:stCxn id="129" idx="4"/>
              <a:endCxn id="134" idx="0"/>
            </p:cNvCxnSpPr>
            <p:nvPr/>
          </p:nvCxnSpPr>
          <p:spPr>
            <a:xfrm>
              <a:off x="3555720" y="4540320"/>
              <a:ext cx="1080" cy="3499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cxnSp>
          <p:nvCxnSpPr>
            <p:cNvPr id="136" name=""/>
            <p:cNvCxnSpPr>
              <a:stCxn id="134" idx="2"/>
              <a:endCxn id="128" idx="0"/>
            </p:cNvCxnSpPr>
            <p:nvPr/>
          </p:nvCxnSpPr>
          <p:spPr>
            <a:xfrm>
              <a:off x="3555720" y="5765760"/>
              <a:ext cx="1080" cy="29304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830F-A417-4214-857F-62E79D58247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 Run of the Railroad Crossing ASM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s …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607680"/>
            <a:ext cx="9144000" cy="58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real-time controller ASM run. These runs reflect the train motion condition through the moments of change of the monitored function TrackStatu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ong the computationally significant moments of the run, 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y track x has a subsequence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 = 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0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lt; 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lt; 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… of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ignificant moments of 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uch tha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TrackStatus(x) =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spcBef>
                <a:spcPts val="499"/>
              </a:spcBef>
              <a:buClr>
                <a:srgbClr val="66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emp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ver every interval [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+1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spcBef>
                <a:spcPts val="451"/>
              </a:spcBef>
              <a:buClr>
                <a:srgbClr val="66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comin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ver ... [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+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+2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 &amp;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min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3i+2 -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3i+1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0" lang="en-US" sz="1800" spc="-1" strike="noStrike">
                <a:solidFill>
                  <a:srgbClr val="66ff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spcBef>
                <a:spcPts val="499"/>
              </a:spcBef>
              <a:buClr>
                <a:srgbClr val="66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inCrossin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ver ... [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+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+3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mpty over [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if 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the final significant moment of track x, in which case 3|k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B. In those runs, the Controller is assumed to react immediately, the reaction time of Gate to be bounded in the sense of th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Gate Closure/Opening Time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per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A5A3-199F-4C2A-9B64-E4F6322B86E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622440"/>
            <a:ext cx="9067680" cy="48132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Control Syste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Real-Time Controller ASMs (</a:t>
            </a:r>
            <a:r>
              <a:rPr b="0" lang="en-US" sz="4000" spc="-1" strike="noStrike">
                <a:solidFill>
                  <a:srgbClr val="969696"/>
                </a:solidFill>
                <a:latin typeface="Arial"/>
              </a:rPr>
              <a:t>with atomic actions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Railcroad Crossing Controller AS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nalysi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f th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ailroad Crossing Controller ASM (Safety &amp; Liveness Proof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Exercises and Referenc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4779-D399-4B8A-8FFE-E51A71B5F02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afety &amp; Liveness for Railroad Crossing AS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607680"/>
            <a:ext cx="9144000" cy="58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 arbitrary runs of the Railroad Crossing ASM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llowing two properties hold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afety Theore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At any moment when a train is in the crossing (Gate Status (x) = inCrossing for some track x), the gate is closed (GateStatus = closed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iveness Theore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ever the crossing is empty (i.e.TrackStatus(x)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Crossing for every x) in an open real-time interval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with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op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&lt;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clo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the gate is open in the closed interval [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op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clo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 where                     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ff9900"/>
                </a:solidFill>
                <a:latin typeface="Arial"/>
              </a:rPr>
              <a:t>clo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WaitTime = 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clos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(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max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m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7c80"/>
                </a:solidFill>
                <a:latin typeface="Arial"/>
              </a:rPr>
              <a:t>NB. It can be shown that the Liveness Thm fails if d</a:t>
            </a:r>
            <a:r>
              <a:rPr b="0" lang="en-US" sz="2400" spc="-1" strike="noStrike" baseline="-25000">
                <a:solidFill>
                  <a:srgbClr val="ff7c80"/>
                </a:solidFill>
                <a:latin typeface="Arial"/>
              </a:rPr>
              <a:t>open</a:t>
            </a:r>
            <a:r>
              <a:rPr b="0" lang="en-US" sz="2000" spc="-1" strike="noStrike">
                <a:solidFill>
                  <a:srgbClr val="ff7c80"/>
                </a:solidFill>
                <a:latin typeface="Arial"/>
              </a:rPr>
              <a:t> or D</a:t>
            </a:r>
            <a:r>
              <a:rPr b="0" lang="en-US" sz="2400" spc="-1" strike="noStrike" baseline="-25000">
                <a:solidFill>
                  <a:srgbClr val="ff7c8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ff7c80"/>
                </a:solidFill>
                <a:latin typeface="Arial"/>
              </a:rPr>
              <a:t> are replaced with smaller value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NB.One can also prove that the closing of the gate is never interrupted; under appropriate assumptions the same holds for opening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65CB-028D-4057-B9FE-7DB86DEB838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165240"/>
            <a:ext cx="914400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oving Safety for the Railroad Crossing ASM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735120"/>
            <a:ext cx="9144000" cy="61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 some track x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kStatus(x) = inCrossing over a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v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[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i+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i+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We show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GateStatus = closed over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[t</a:t>
            </a:r>
            <a:r>
              <a:rPr b="0" lang="en-US" sz="2800" spc="-1" strike="noStrike" baseline="-25000">
                <a:solidFill>
                  <a:srgbClr val="ccecff"/>
                </a:solidFill>
                <a:latin typeface="Arial"/>
              </a:rPr>
              <a:t>3i+1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+ d</a:t>
            </a:r>
            <a:r>
              <a:rPr b="0" lang="en-US" sz="3200" spc="-1" strike="noStrike" baseline="-25000">
                <a:solidFill>
                  <a:srgbClr val="ccecff"/>
                </a:solidFill>
                <a:latin typeface="Arial"/>
              </a:rPr>
              <a:t>min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,t</a:t>
            </a:r>
            <a:r>
              <a:rPr b="0" lang="en-US" sz="2800" spc="-1" strike="noStrike" baseline="-25000">
                <a:solidFill>
                  <a:srgbClr val="ccecff"/>
                </a:solidFill>
                <a:latin typeface="Arial"/>
              </a:rPr>
              <a:t>3i+3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]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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[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i+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i+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]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Proof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Deadline (x) fires a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+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Controller is immediate) setting Deadline(x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= t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3i+1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+ WaitT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kStatus(x)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mp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ver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 = (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, t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3i+3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nce </a:t>
            </a: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over 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x makes SafeToOpen false, hence </a:t>
            </a: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SignalOpen disabl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 also </a:t>
            </a: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OpenGa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</a:t>
            </a: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disabl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ver I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cause SignalClose(x) fires at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o that immediately after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Dir=close holds (&amp; remains unchanged over I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66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99"/>
                </a:solidFill>
                <a:latin typeface="Arial"/>
              </a:rPr>
              <a:t>Dir=close immediately after</a:t>
            </a:r>
            <a:r>
              <a:rPr b="0" lang="en-US" sz="2400" spc="-1" strike="noStrike">
                <a:solidFill>
                  <a:srgbClr val="66ff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ff99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mplies tha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GateStatus = clos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or some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lt;t&lt;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3i+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+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mi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amp; remains so </a:t>
            </a:r>
            <a:r>
              <a:rPr b="0" lang="en-US" sz="2000" spc="-1" strike="noStrike">
                <a:solidFill>
                  <a:srgbClr val="66ff99"/>
                </a:solidFill>
                <a:latin typeface="Arial"/>
              </a:rPr>
              <a:t>as long as SignalOpen is disabl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i.e. over 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3i+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and therefore over [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3i+1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+ 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3i+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nce only OpenGate, fireable only after SignalOpen, can change it to open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23D8-7E30-4D95-BEEC-825519C249F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oving Liveness for the Railroad Crossing ASM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798480"/>
            <a:ext cx="9144000" cy="585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the Deadline Lemma (see below), for every track x hold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adline(x)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clos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ope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ver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fore SafeToOpen holds at currtime =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us </a:t>
            </a:r>
            <a:r>
              <a:rPr b="0" lang="en-US" sz="2000" spc="-1" strike="noStrike">
                <a:solidFill>
                  <a:srgbClr val="66ff99"/>
                </a:solidFill>
                <a:latin typeface="Arial"/>
              </a:rPr>
              <a:t>Dir=open holds immediately after </a:t>
            </a:r>
            <a:r>
              <a:rPr b="1" lang="en-US" sz="2000" spc="-1" strike="noStrike">
                <a:solidFill>
                  <a:srgbClr val="66ff99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possibly through firing of SignalOpen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adline(x)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clos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rrtime  over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clos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nce </a:t>
            </a:r>
            <a:r>
              <a:rPr b="0" lang="en-US" sz="1800" spc="-1" strike="noStrike">
                <a:solidFill>
                  <a:srgbClr val="66ff99"/>
                </a:solidFill>
                <a:latin typeface="Arial"/>
              </a:rPr>
              <a:t>over </a:t>
            </a:r>
            <a:r>
              <a:rPr b="1" lang="en-US" sz="1800" spc="-1" strike="noStrike">
                <a:solidFill>
                  <a:srgbClr val="66ff99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66ff99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66ff99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66ff99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99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66ff99"/>
                </a:solidFill>
                <a:latin typeface="Arial"/>
              </a:rPr>
              <a:t>close</a:t>
            </a:r>
            <a:r>
              <a:rPr b="1" lang="en-US" sz="1800" spc="-1" strike="noStrike">
                <a:solidFill>
                  <a:srgbClr val="66ff99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every SignalClose(x) is disabled, so that </a:t>
            </a:r>
            <a:r>
              <a:rPr b="0" lang="en-US" sz="1800" spc="-1" strike="noStrike">
                <a:solidFill>
                  <a:srgbClr val="66ff99"/>
                </a:solidFill>
                <a:latin typeface="Arial"/>
              </a:rPr>
              <a:t>Dir remains ope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CloseGate is disabl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r = open ov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clos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 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op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ime assumption imply tha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6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99"/>
                </a:solidFill>
                <a:latin typeface="Arial"/>
              </a:rPr>
              <a:t>GateStatus = opened for some</a:t>
            </a:r>
            <a:r>
              <a:rPr b="0" lang="en-US" sz="2000" spc="-1" strike="noStrike">
                <a:solidFill>
                  <a:srgbClr val="66ff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ff99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 &lt; t &lt; </a:t>
            </a:r>
            <a:r>
              <a:rPr b="1" lang="en-US" sz="2000" spc="-1" strike="noStrike">
                <a:solidFill>
                  <a:srgbClr val="66ff99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66ff99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66ff99"/>
                </a:solidFill>
                <a:latin typeface="Arial"/>
              </a:rPr>
              <a:t>op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amp; remains so </a:t>
            </a:r>
            <a:r>
              <a:rPr b="0" lang="en-US" sz="2000" spc="-1" strike="noStrike">
                <a:solidFill>
                  <a:srgbClr val="66ff99"/>
                </a:solidFill>
                <a:latin typeface="Arial"/>
              </a:rPr>
              <a:t>as long as CloseGate is disabl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namely over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clos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for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ateStatus = opened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ver [</a:t>
            </a:r>
            <a:r>
              <a:rPr b="1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+ d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ope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close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nce only CloseGate, fireable only after some SignalClose(x), can change it to clos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A5B8-F533-47F2-9DE1-D0694991725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eadline Lemma for Railroad Crossing AS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759960"/>
            <a:ext cx="9144000" cy="58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adline Lemm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 run of the Railroad Crossing ASM, let x be a track with significant moments 0 = 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 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 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…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dline(x) =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ver (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3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3i+1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3i+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 WaitTim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over (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3i+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3i+3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</a:t>
            </a: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TrackStatus(x) </a:t>
            </a:r>
            <a:r>
              <a:rPr b="1" lang="en-US" sz="2000" spc="-1" strike="noStrike">
                <a:solidFill>
                  <a:srgbClr val="ccecff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 inCrossing over an interval (</a:t>
            </a:r>
            <a:r>
              <a:rPr b="1" lang="en-US" sz="2000" spc="-1" strike="noStrike">
                <a:solidFill>
                  <a:srgbClr val="ccecff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ccecff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)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n over this interval Deadline(x)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clos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her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clos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clos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+ 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mi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= d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WaitTim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ve (a)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uc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 (b) </a:t>
            </a: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assume Deadline(x)&lt;</a:t>
            </a:r>
            <a:r>
              <a:rPr b="1" lang="en-US" sz="2000" spc="-1" strike="noStrike">
                <a:solidFill>
                  <a:srgbClr val="66ff99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66ff99"/>
                </a:solidFill>
                <a:latin typeface="Arial"/>
              </a:rPr>
              <a:t>WaitTime - </a:t>
            </a: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66ff99"/>
                </a:solidFill>
                <a:latin typeface="Arial"/>
              </a:rPr>
              <a:t>max</a:t>
            </a: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  at some t</a:t>
            </a:r>
            <a:r>
              <a:rPr b="1" lang="en-US" sz="2000" spc="-1" strike="noStrike">
                <a:solidFill>
                  <a:srgbClr val="66ff99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66ff99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66ff99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)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n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adline(x) = 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i+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WaitTim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at t for some 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i+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&lt;t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i+3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n 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i+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&lt;t&lt;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i+2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ce </a:t>
            </a:r>
            <a:r>
              <a:rPr b="0" lang="it-IT" sz="2400" spc="-1" strike="noStrike">
                <a:solidFill>
                  <a:srgbClr val="ccecff"/>
                </a:solidFill>
                <a:latin typeface="Arial"/>
              </a:rPr>
              <a:t>by hypothesis, </a:t>
            </a: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ccecff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ccecff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)</a:t>
            </a:r>
            <a:r>
              <a:rPr b="0" lang="it-IT" sz="2400" spc="-1" strike="noStrike">
                <a:solidFill>
                  <a:srgbClr val="ccecff"/>
                </a:solidFill>
                <a:latin typeface="Arial"/>
              </a:rPr>
              <a:t> and the inCrossing interval </a:t>
            </a: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[t</a:t>
            </a:r>
            <a:r>
              <a:rPr b="1" lang="en-US" sz="2400" spc="-1" strike="noStrike" baseline="-25000">
                <a:solidFill>
                  <a:srgbClr val="ccecff"/>
                </a:solidFill>
                <a:latin typeface="Arial"/>
              </a:rPr>
              <a:t>3i+2</a:t>
            </a: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,t</a:t>
            </a:r>
            <a:r>
              <a:rPr b="1" lang="en-US" sz="2400" spc="-1" strike="noStrike" baseline="-25000">
                <a:solidFill>
                  <a:srgbClr val="ccecff"/>
                </a:solidFill>
                <a:latin typeface="Arial"/>
              </a:rPr>
              <a:t>3i+3</a:t>
            </a: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) are disjoi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herefore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i+1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i+2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i+1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d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max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d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i+1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 tha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- D</a:t>
            </a:r>
            <a:r>
              <a:rPr b="1" lang="en-US" sz="2400" spc="-1" strike="noStrike" baseline="-25000">
                <a:solidFill>
                  <a:srgbClr val="ff9900"/>
                </a:solidFill>
                <a:latin typeface="Arial"/>
              </a:rPr>
              <a:t>close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- d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+WaitTime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i+1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+WaitTime = Deadline(x) (at t)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&lt; </a:t>
            </a:r>
            <a:r>
              <a:rPr b="1" lang="en-US" sz="24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- D</a:t>
            </a:r>
            <a:r>
              <a:rPr b="1" lang="en-US" sz="2400" spc="-1" strike="noStrike" baseline="-25000">
                <a:solidFill>
                  <a:srgbClr val="ff9900"/>
                </a:solidFill>
                <a:latin typeface="Arial"/>
              </a:rPr>
              <a:t>close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ff99"/>
                </a:solidFill>
                <a:latin typeface="Arial"/>
              </a:rPr>
              <a:t>(by assumption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contradi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AD78-06C2-4B3A-8DF7-A2E322E4005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622440"/>
            <a:ext cx="9067680" cy="48132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Control Syste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Real-Time Controller ASMs (</a:t>
            </a:r>
            <a:r>
              <a:rPr b="0" lang="en-US" sz="4000" spc="-1" strike="noStrike">
                <a:solidFill>
                  <a:srgbClr val="969696"/>
                </a:solidFill>
                <a:latin typeface="Arial"/>
              </a:rPr>
              <a:t>with atomic actions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Railcroad Crossing Controller AS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Analysis</a:t>
            </a: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of the</a:t>
            </a: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Railroad Crossing Controller ASM (Safety &amp; Liveness Proof</a:t>
            </a: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Exercises and Referenc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090B-569A-41D3-98C3-13E6826A2A5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ailroad Crossing Case Study : Refinement Exercise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-360" y="546120"/>
            <a:ext cx="8978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ine the Railroad Crossing ASM by introducing gate positions between  Closed = 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Opened = 9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Clarify the real-world timing assumptions which allow that Dir=close/open only when GateStatus=opened/closed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nt. Consider the following timed automaton ASM, with additional GateStatus values closing, opening, and refined rules OpenGate, CloseG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8160" y="3530520"/>
            <a:ext cx="9067680" cy="3177360"/>
            <a:chOff x="38160" y="3530520"/>
            <a:chExt cx="9067680" cy="3177360"/>
          </a:xfrm>
        </p:grpSpPr>
        <p:sp>
          <p:nvSpPr>
            <p:cNvPr id="154" name=""/>
            <p:cNvSpPr/>
            <p:nvPr/>
          </p:nvSpPr>
          <p:spPr>
            <a:xfrm>
              <a:off x="7664400" y="3765600"/>
              <a:ext cx="952560" cy="7747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losi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13280" y="3898800"/>
              <a:ext cx="1143000" cy="30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clock := 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7040" y="5746680"/>
              <a:ext cx="952560" cy="7747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openi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835440" y="3530520"/>
              <a:ext cx="1498680" cy="355680"/>
            </a:xfrm>
            <a:prstGeom prst="hexagon">
              <a:avLst>
                <a:gd name="adj" fmla="val 105339"/>
                <a:gd name="vf" fmla="val 115470"/>
              </a:avLst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r=clos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175520" y="4851360"/>
              <a:ext cx="1930320" cy="482760"/>
            </a:xfrm>
            <a:prstGeom prst="hexagon">
              <a:avLst>
                <a:gd name="adj" fmla="val 99963"/>
                <a:gd name="vf" fmla="val 115470"/>
              </a:avLst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ock &lt;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013280" y="6400800"/>
              <a:ext cx="1143000" cy="30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clock := 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35440" y="6019920"/>
              <a:ext cx="1498680" cy="355320"/>
            </a:xfrm>
            <a:prstGeom prst="hexagon">
              <a:avLst>
                <a:gd name="adj" fmla="val 105446"/>
                <a:gd name="vf" fmla="val 115470"/>
              </a:avLst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ir=ope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8160" y="4876920"/>
              <a:ext cx="1930320" cy="482400"/>
            </a:xfrm>
            <a:prstGeom prst="hexagon">
              <a:avLst>
                <a:gd name="adj" fmla="val 100037"/>
                <a:gd name="vf" fmla="val 115470"/>
              </a:avLst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ock &lt;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op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62" name=""/>
            <p:cNvCxnSpPr>
              <a:stCxn id="163" idx="7"/>
              <a:endCxn id="154" idx="1"/>
            </p:cNvCxnSpPr>
            <p:nvPr/>
          </p:nvCxnSpPr>
          <p:spPr>
            <a:xfrm>
              <a:off x="1334880" y="3877920"/>
              <a:ext cx="6469560" cy="108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64" name=""/>
            <p:cNvCxnSpPr/>
            <p:nvPr/>
          </p:nvCxnSpPr>
          <p:spPr>
            <a:xfrm flipH="1" flipV="1">
              <a:off x="1356840" y="6395760"/>
              <a:ext cx="6455520" cy="864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65" name=""/>
            <p:cNvCxnSpPr>
              <a:stCxn id="156" idx="0"/>
              <a:endCxn id="161" idx="2"/>
            </p:cNvCxnSpPr>
            <p:nvPr/>
          </p:nvCxnSpPr>
          <p:spPr>
            <a:xfrm flipV="1">
              <a:off x="1002960" y="5358960"/>
              <a:ext cx="1080" cy="38808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cxnSp>
          <p:nvCxnSpPr>
            <p:cNvPr id="166" name=""/>
            <p:cNvCxnSpPr>
              <a:stCxn id="161" idx="0"/>
              <a:endCxn id="163" idx="4"/>
            </p:cNvCxnSpPr>
            <p:nvPr/>
          </p:nvCxnSpPr>
          <p:spPr>
            <a:xfrm flipV="1">
              <a:off x="1002960" y="4539600"/>
              <a:ext cx="1080" cy="3373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4" idx="4"/>
              <a:endCxn id="158" idx="0"/>
            </p:cNvCxnSpPr>
            <p:nvPr/>
          </p:nvCxnSpPr>
          <p:spPr>
            <a:xfrm>
              <a:off x="8140320" y="4540320"/>
              <a:ext cx="1080" cy="31176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cxnSp>
          <p:nvCxnSpPr>
            <p:cNvPr id="168" name=""/>
            <p:cNvCxnSpPr>
              <a:stCxn id="158" idx="2"/>
              <a:endCxn id="169" idx="0"/>
            </p:cNvCxnSpPr>
            <p:nvPr/>
          </p:nvCxnSpPr>
          <p:spPr>
            <a:xfrm>
              <a:off x="8140320" y="5333760"/>
              <a:ext cx="1080" cy="40068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70" name=""/>
          <p:cNvGrpSpPr/>
          <p:nvPr/>
        </p:nvGrpSpPr>
        <p:grpSpPr>
          <a:xfrm>
            <a:off x="533520" y="3765600"/>
            <a:ext cx="8096040" cy="2768400"/>
            <a:chOff x="533520" y="3765600"/>
            <a:chExt cx="8096040" cy="2768400"/>
          </a:xfrm>
        </p:grpSpPr>
        <p:sp>
          <p:nvSpPr>
            <p:cNvPr id="163" name=""/>
            <p:cNvSpPr/>
            <p:nvPr/>
          </p:nvSpPr>
          <p:spPr>
            <a:xfrm>
              <a:off x="533520" y="3765600"/>
              <a:ext cx="939600" cy="7747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ope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651800" y="5734080"/>
              <a:ext cx="977760" cy="7999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los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1" name=""/>
            <p:cNvCxnSpPr>
              <a:stCxn id="163" idx="6"/>
              <a:endCxn id="169" idx="1"/>
            </p:cNvCxnSpPr>
            <p:nvPr/>
          </p:nvCxnSpPr>
          <p:spPr>
            <a:xfrm>
              <a:off x="1473120" y="4152960"/>
              <a:ext cx="6322320" cy="1699200"/>
            </a:xfrm>
            <a:prstGeom prst="straightConnector1">
              <a:avLst/>
            </a:prstGeom>
            <a:ln w="9360">
              <a:solidFill>
                <a:srgbClr val="ccecff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9" idx="2"/>
              <a:endCxn id="163" idx="5"/>
            </p:cNvCxnSpPr>
            <p:nvPr/>
          </p:nvCxnSpPr>
          <p:spPr>
            <a:xfrm flipH="1" flipV="1">
              <a:off x="1334880" y="4427280"/>
              <a:ext cx="6317280" cy="1707120"/>
            </a:xfrm>
            <a:prstGeom prst="straightConnector1">
              <a:avLst/>
            </a:prstGeom>
            <a:ln w="9360">
              <a:solidFill>
                <a:srgbClr val="ccecff"/>
              </a:solidFill>
              <a:miter/>
              <a:tailEnd len="med" type="triangle" w="med"/>
            </a:ln>
          </p:spPr>
        </p:cxnSp>
        <p:sp>
          <p:nvSpPr>
            <p:cNvPr id="173" name=""/>
            <p:cNvSpPr/>
            <p:nvPr/>
          </p:nvSpPr>
          <p:spPr>
            <a:xfrm>
              <a:off x="3441600" y="5092560"/>
              <a:ext cx="114300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OpenGa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84600" y="4788000"/>
              <a:ext cx="114300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CloseGa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DBEB-920A-41B5-B169-176B72B50DB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622440"/>
            <a:ext cx="9067680" cy="48132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rocess Control Syste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Real-Time Controller ASMs (</a:t>
            </a:r>
            <a:r>
              <a:rPr b="0" lang="en-US" sz="4000" spc="-1" strike="noStrike">
                <a:solidFill>
                  <a:srgbClr val="969696"/>
                </a:solidFill>
                <a:latin typeface="Arial"/>
              </a:rPr>
              <a:t>with atomic actions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Railroad Crossing Controller AS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Analysis</a:t>
            </a: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of the</a:t>
            </a: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Railroad Crossing Controller ASM (Safety &amp; Liveness Proof</a:t>
            </a: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Exercises and Referenc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4014-3C8E-47C6-82EA-50AAE76E99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xercises for the Railroad Crossing AS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455760"/>
            <a:ext cx="9144000" cy="64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ow the following properties for runs of the Railroad Crossing AS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with significant moment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 = 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 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 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… for a track x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etDeadline(x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ires exactly at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i+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when TrackStatus(x) has become com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ignalClose(x)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es exactly at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i+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Wait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learDeadline (x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ires exactly at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i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&gt;0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when TrackStatus(x) has become empt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(x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e the local SafeToOpen(x) condition, namely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rackStatus(x)=empty or currtime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</a:rPr>
              <a:t>open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&lt; Deadline (x).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Show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f WaitTime &gt;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open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, then s(x) holds over intervals [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,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+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WaitTime – 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open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) and fails over intervals [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+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WaitTime – 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open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+3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f WaitTime </a:t>
            </a:r>
            <a:r>
              <a:rPr b="0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open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, then s(x) holds over intervals [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,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+1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] and fails over intervals 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+1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+3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(x) changes from false to true at moment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 i&gt;0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TrackStatus(x) has become empty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ignalOp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ires exactly when SafeToOpen becomes true. If SafeToOpen becomes true at t, then some TrackStatus(x) has become empty at t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F3BD-D75E-44FA-8ACB-6B2AAE6F41B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ailroad Crossing ASM : Exercises (Cont’d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360" y="685440"/>
            <a:ext cx="8953560" cy="57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 that the Liveness Theorem fails if 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op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 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clo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re replaced with smaller valu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ve that the closing of the gate is never interrupted, i.e. if Dir is set to close at some moment t, then Dir = close holds over the interval   (t , t+d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clos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e that if WaitTime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op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then the opening of the gate is never interrupted, i.e. if Dir is set to open at some moment t, then Dir = open holds over the interval (t, t+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op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how that the Railroad Crossing ASM, viewed as consisting of three agents for Controller, Gate, and the Environment (representing a team that updates the monitored functions), in a natural way satisfies the axioms for an async AS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apt the definition of real-time controller ASMs to the case where the changes of monitored functions are treated as resulting from updates of a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eam en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ag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915D-EB6E-4C95-B036-0E0465AD755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59880" y="-360"/>
            <a:ext cx="769644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647280"/>
            <a:ext cx="936000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Heitmeyer and D. Mandrioli (Eds.) : Formal Methods for Real-Time Computin.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hn Wiley &amp; Sons, Chichester 199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. Gurevich and J. K. Huggins: The Railroad Crossing Problem: An Experiment with Instantaneous Actions and Immediate Rea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: Computer Science Logic. Selected Papers from CSL’95 (Ed. H. Kleine Büning). Springer LNCS 1092, 1996, 266-29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Beauquier, T. Colard, A. Slissenko: A Predicate Logic Framework for Mechanical Verification of Real-Time Gurevich Abstract State Machines: A Case Study with PV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 00-25, University Paris 12, CS Dept, 2000. See http://www.univ-paris12.fr/lacl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E0DF-707E-497A-8EB5-C0A76235E35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59880" y="-360"/>
            <a:ext cx="769644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647280"/>
            <a:ext cx="936000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. Börger, R. Stärk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Abstract State Machines.  A Method for High-Level System Design and Analysi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ringer-Verlag  2003, see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AsmBook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L. Parnas and J. Madey: Functional Documentation for Computer Systems Engineering (Vol.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c Master University TR CRL 237, Hamilton, Ontario, Sept.199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L. Parnas and J. Madey: Functional documents for computer systems. In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ience of Computer Programming 25 (1995), 41-6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164F-3FA9-4464-A912-96408E9615A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-Variable Model for Process Control System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463536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ransforms continuous physical quantities, measured by e.g. </a:t>
            </a:r>
            <a:r>
              <a:rPr b="0" lang="en-US" sz="2400" spc="-1" strike="noStrike">
                <a:solidFill>
                  <a:srgbClr val="66ff99"/>
                </a:solidFill>
                <a:latin typeface="Arial"/>
              </a:rPr>
              <a:t>senso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into discrete software INP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 transforms discrete sw OUTPUT into values for </a:t>
            </a:r>
            <a:r>
              <a:rPr b="0" lang="en-US" sz="2400" spc="-1" strike="noStrike">
                <a:solidFill>
                  <a:srgbClr val="66ff99"/>
                </a:solidFill>
                <a:latin typeface="Arial"/>
              </a:rPr>
              <a:t>actuato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at manipulate the continuous physical pro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79360" y="1558440"/>
            <a:ext cx="8623440" cy="1946160"/>
            <a:chOff x="279360" y="1558440"/>
            <a:chExt cx="8623440" cy="1946160"/>
          </a:xfrm>
        </p:grpSpPr>
        <p:sp>
          <p:nvSpPr>
            <p:cNvPr id="51" name=""/>
            <p:cNvSpPr/>
            <p:nvPr/>
          </p:nvSpPr>
          <p:spPr>
            <a:xfrm>
              <a:off x="279360" y="2045880"/>
              <a:ext cx="1854360" cy="88632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evic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048440" y="2058840"/>
              <a:ext cx="1854360" cy="88632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U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evic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3" name=""/>
            <p:cNvCxnSpPr>
              <a:stCxn id="54" idx="2"/>
              <a:endCxn id="51" idx="0"/>
            </p:cNvCxnSpPr>
            <p:nvPr/>
          </p:nvCxnSpPr>
          <p:spPr>
            <a:xfrm>
              <a:off x="1206000" y="1558440"/>
              <a:ext cx="1080" cy="487800"/>
            </a:xfrm>
            <a:prstGeom prst="straightConnector1">
              <a:avLst/>
            </a:prstGeom>
            <a:ln w="9360">
              <a:solidFill>
                <a:srgbClr val="ff7c80"/>
              </a:solidFill>
              <a:miter/>
            </a:ln>
          </p:spPr>
        </p:cxnSp>
        <p:cxnSp>
          <p:nvCxnSpPr>
            <p:cNvPr id="55" name=""/>
            <p:cNvCxnSpPr>
              <a:stCxn id="51" idx="2"/>
              <a:endCxn id="56" idx="0"/>
            </p:cNvCxnSpPr>
            <p:nvPr/>
          </p:nvCxnSpPr>
          <p:spPr>
            <a:xfrm>
              <a:off x="1206000" y="2930040"/>
              <a:ext cx="1080" cy="546480"/>
            </a:xfrm>
            <a:prstGeom prst="straightConnector1">
              <a:avLst/>
            </a:prstGeom>
            <a:ln w="9360">
              <a:solidFill>
                <a:srgbClr val="ff7c80"/>
              </a:solidFill>
              <a:miter/>
              <a:tailEnd len="med" type="triangle" w="med"/>
            </a:ln>
          </p:spPr>
        </p:cxnSp>
        <p:cxnSp>
          <p:nvCxnSpPr>
            <p:cNvPr id="57" name=""/>
            <p:cNvCxnSpPr>
              <a:stCxn id="58" idx="0"/>
              <a:endCxn id="52" idx="2"/>
            </p:cNvCxnSpPr>
            <p:nvPr/>
          </p:nvCxnSpPr>
          <p:spPr>
            <a:xfrm flipV="1">
              <a:off x="7975080" y="2942280"/>
              <a:ext cx="1080" cy="562680"/>
            </a:xfrm>
            <a:prstGeom prst="straightConnector1">
              <a:avLst/>
            </a:prstGeom>
            <a:ln w="9360">
              <a:solidFill>
                <a:srgbClr val="ff7c80"/>
              </a:solidFill>
              <a:miter/>
            </a:ln>
          </p:spPr>
        </p:cxnSp>
        <p:cxnSp>
          <p:nvCxnSpPr>
            <p:cNvPr id="59" name=""/>
            <p:cNvCxnSpPr>
              <a:stCxn id="52" idx="0"/>
              <a:endCxn id="60" idx="2"/>
            </p:cNvCxnSpPr>
            <p:nvPr/>
          </p:nvCxnSpPr>
          <p:spPr>
            <a:xfrm flipV="1">
              <a:off x="7975080" y="1567440"/>
              <a:ext cx="1080" cy="491400"/>
            </a:xfrm>
            <a:prstGeom prst="straightConnector1">
              <a:avLst/>
            </a:prstGeom>
            <a:ln w="9360">
              <a:solidFill>
                <a:srgbClr val="ff7c80"/>
              </a:solidFill>
              <a:miter/>
              <a:tailEnd len="med" type="triangle" w="med"/>
            </a:ln>
          </p:spPr>
        </p:cxnSp>
      </p:grpSp>
      <p:grpSp>
        <p:nvGrpSpPr>
          <p:cNvPr id="61" name=""/>
          <p:cNvGrpSpPr/>
          <p:nvPr/>
        </p:nvGrpSpPr>
        <p:grpSpPr>
          <a:xfrm>
            <a:off x="279360" y="3489480"/>
            <a:ext cx="8655120" cy="947160"/>
            <a:chOff x="279360" y="3489480"/>
            <a:chExt cx="8655120" cy="947160"/>
          </a:xfrm>
        </p:grpSpPr>
        <p:sp>
          <p:nvSpPr>
            <p:cNvPr id="56" name=""/>
            <p:cNvSpPr/>
            <p:nvPr/>
          </p:nvSpPr>
          <p:spPr>
            <a:xfrm>
              <a:off x="279360" y="3489480"/>
              <a:ext cx="1854360" cy="947160"/>
            </a:xfrm>
            <a:prstGeom prst="rect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iscreteSw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INPU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016760" y="3517920"/>
              <a:ext cx="1917720" cy="886320"/>
            </a:xfrm>
            <a:prstGeom prst="rect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iscreteSw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549600" y="3519360"/>
              <a:ext cx="1968480" cy="886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OF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ntroll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3" name=""/>
            <p:cNvCxnSpPr/>
            <p:nvPr/>
          </p:nvCxnSpPr>
          <p:spPr>
            <a:xfrm>
              <a:off x="2133360" y="3962160"/>
              <a:ext cx="1416600" cy="10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</a:ln>
          </p:spPr>
        </p:cxnSp>
        <p:cxnSp>
          <p:nvCxnSpPr>
            <p:cNvPr id="64" name=""/>
            <p:cNvCxnSpPr>
              <a:stCxn id="62" idx="3"/>
              <a:endCxn id="58" idx="1"/>
            </p:cNvCxnSpPr>
            <p:nvPr/>
          </p:nvCxnSpPr>
          <p:spPr>
            <a:xfrm flipV="1">
              <a:off x="5517720" y="3960000"/>
              <a:ext cx="1499400" cy="252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</p:grpSp>
      <p:grpSp>
        <p:nvGrpSpPr>
          <p:cNvPr id="65" name=""/>
          <p:cNvGrpSpPr/>
          <p:nvPr/>
        </p:nvGrpSpPr>
        <p:grpSpPr>
          <a:xfrm>
            <a:off x="222120" y="687240"/>
            <a:ext cx="8737560" cy="886320"/>
            <a:chOff x="222120" y="687240"/>
            <a:chExt cx="8737560" cy="886320"/>
          </a:xfrm>
        </p:grpSpPr>
        <p:sp>
          <p:nvSpPr>
            <p:cNvPr id="54" name=""/>
            <p:cNvSpPr/>
            <p:nvPr/>
          </p:nvSpPr>
          <p:spPr>
            <a:xfrm>
              <a:off x="222120" y="687240"/>
              <a:ext cx="1968480" cy="886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MO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tor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hysVar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991200" y="687240"/>
              <a:ext cx="1968480" cy="886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O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roll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hysVar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200400" y="870120"/>
              <a:ext cx="2666880" cy="459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hysProcess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Q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4" idx="3"/>
              <a:endCxn id="66" idx="1"/>
            </p:cNvCxnSpPr>
            <p:nvPr/>
          </p:nvCxnSpPr>
          <p:spPr>
            <a:xfrm>
              <a:off x="2190240" y="1130040"/>
              <a:ext cx="1010520" cy="108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cxnSp>
          <p:nvCxnSpPr>
            <p:cNvPr id="68" name=""/>
            <p:cNvCxnSpPr>
              <a:stCxn id="66" idx="3"/>
              <a:endCxn id="60" idx="1"/>
            </p:cNvCxnSpPr>
            <p:nvPr/>
          </p:nvCxnSpPr>
          <p:spPr>
            <a:xfrm>
              <a:off x="5867280" y="1130040"/>
              <a:ext cx="1124640" cy="540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69" name=""/>
          <p:cNvSpPr/>
          <p:nvPr/>
        </p:nvSpPr>
        <p:spPr>
          <a:xfrm>
            <a:off x="2813040" y="1676520"/>
            <a:ext cx="3543480" cy="1574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al: define SOFT t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rectly impl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DB09-C0A3-454B-9E8A-33B625F64C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9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ampling &amp; Synchronization Problem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cess Control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825120"/>
            <a:ext cx="8928000" cy="55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ampling Problem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roximate continuous flow of physical process data by</a:t>
            </a: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(a finite number of) discrete samples</a:t>
            </a: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 taken at real-time moments that form an increasing discrete sequ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ynchronization Problem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ynchronize the SOFT controller with the IN/OUT devices to guarantee a 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correct reactive behavio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the entire software system 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wrt the env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with stable states fo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ding INP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al controller ste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ding OUTPU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0FDE-2F46-4648-BCC5-8AB423FD2B7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9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nv-Controller Separation Principl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cess Control Systems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825120"/>
            <a:ext cx="9144000" cy="562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nvironment-Controller Separation Principl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 each moment, the software controll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ither through its input device takes INPUT from the environment, without involving any further internal computation step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 makes an internal computation step (including the preparation of OUTPUT to be sent to the output device), without involving any further INPUT rea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This principle is applied by many process control systems. Its appropriateness for a physical system to be controlled depends 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orrectness of sampling mechanis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ufficient hw speed (for the internal controller steps) wrt sampl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2674-895D-4429-B690-FEBCC872BA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nv-Controller Separation Principle in Neural Nets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-360" y="825480"/>
            <a:ext cx="8839080" cy="31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eural Ne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usually seen as a black-box yielding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tpu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the env, as result of an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ternal comput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hich is triggered by an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pu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ken from the env. The internal computation consists of a finite sequence of atomic actions performed by the basic computing elements (nodes of a directed data-flow graph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 forward propagation mode, the network input is transmitted by the </a:t>
            </a:r>
            <a:r>
              <a:rPr b="0" lang="en-US" sz="2000" spc="-1" strike="noStrike">
                <a:solidFill>
                  <a:srgbClr val="66ff99"/>
                </a:solidFill>
                <a:latin typeface="Arial"/>
              </a:rPr>
              <a:t>input unit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to the </a:t>
            </a:r>
            <a:r>
              <a:rPr b="0" lang="en-US" sz="2000" spc="-1" strike="noStrike">
                <a:solidFill>
                  <a:srgbClr val="66ff99"/>
                </a:solidFill>
                <a:latin typeface="Arial"/>
              </a:rPr>
              <a:t>internal unit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which propagate their results through the graph until the </a:t>
            </a:r>
            <a:r>
              <a:rPr b="0" lang="en-US" sz="2000" spc="-1" strike="noStrike">
                <a:solidFill>
                  <a:srgbClr val="66ff99"/>
                </a:solidFill>
                <a:latin typeface="Arial"/>
              </a:rPr>
              <a:t>output unit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re reached</a:t>
            </a:r>
            <a:r>
              <a:rPr b="1" lang="en-US" sz="2000" spc="-1" strike="noStrike">
                <a:solidFill>
                  <a:srgbClr val="ff9900"/>
                </a:solidFill>
                <a:latin typeface="Lucida Console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415080" y="4102200"/>
            <a:ext cx="6361920" cy="2361600"/>
            <a:chOff x="415080" y="4102200"/>
            <a:chExt cx="6361920" cy="2361600"/>
          </a:xfrm>
        </p:grpSpPr>
        <p:sp>
          <p:nvSpPr>
            <p:cNvPr id="77" name=""/>
            <p:cNvSpPr/>
            <p:nvPr/>
          </p:nvSpPr>
          <p:spPr>
            <a:xfrm>
              <a:off x="834840" y="4201920"/>
              <a:ext cx="641520" cy="436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pu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25560" y="4102200"/>
              <a:ext cx="1746360" cy="636480"/>
            </a:xfrm>
            <a:prstGeom prst="hexagon">
              <a:avLst>
                <a:gd name="adj" fmla="val 68594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w input to be consume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922560" y="4162320"/>
              <a:ext cx="1112760" cy="51732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ctiva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ural Kerne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386320" y="4201920"/>
              <a:ext cx="942840" cy="436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mpu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151240" y="5035320"/>
              <a:ext cx="1413000" cy="649080"/>
            </a:xfrm>
            <a:prstGeom prst="hexagon">
              <a:avLst>
                <a:gd name="adj" fmla="val 54423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re units to be compute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383080" y="6099120"/>
              <a:ext cx="950760" cy="36468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K step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65680" y="5086080"/>
              <a:ext cx="514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N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95680" y="5686200"/>
              <a:ext cx="54612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Y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15080" y="4421160"/>
              <a:ext cx="4064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779560" y="5178960"/>
              <a:ext cx="1112760" cy="36216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720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learSta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7" name=""/>
            <p:cNvCxnSpPr>
              <a:stCxn id="81" idx="1"/>
              <a:endCxn id="86" idx="3"/>
            </p:cNvCxnSpPr>
            <p:nvPr/>
          </p:nvCxnSpPr>
          <p:spPr>
            <a:xfrm flipH="1">
              <a:off x="3891600" y="5360400"/>
              <a:ext cx="1259640" cy="10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6" idx="1"/>
              <a:endCxn id="77" idx="4"/>
            </p:cNvCxnSpPr>
            <p:nvPr/>
          </p:nvCxnSpPr>
          <p:spPr>
            <a:xfrm rot="10800000">
              <a:off x="1154880" y="4637880"/>
              <a:ext cx="1624680" cy="722520"/>
            </a:xfrm>
            <a:prstGeom prst="bentConnector2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77" idx="6"/>
              <a:endCxn id="78" idx="1"/>
            </p:cNvCxnSpPr>
            <p:nvPr/>
          </p:nvCxnSpPr>
          <p:spPr>
            <a:xfrm>
              <a:off x="1476360" y="4420800"/>
              <a:ext cx="349920" cy="10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78" idx="3"/>
              <a:endCxn id="79" idx="1"/>
            </p:cNvCxnSpPr>
            <p:nvPr/>
          </p:nvCxnSpPr>
          <p:spPr>
            <a:xfrm>
              <a:off x="3571920" y="4420800"/>
              <a:ext cx="351360" cy="10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79" idx="3"/>
              <a:endCxn id="80" idx="2"/>
            </p:cNvCxnSpPr>
            <p:nvPr/>
          </p:nvCxnSpPr>
          <p:spPr>
            <a:xfrm>
              <a:off x="5034960" y="4420800"/>
              <a:ext cx="351360" cy="10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92" name=""/>
            <p:cNvCxnSpPr>
              <a:stCxn id="80" idx="4"/>
              <a:endCxn id="81" idx="0"/>
            </p:cNvCxnSpPr>
            <p:nvPr/>
          </p:nvCxnSpPr>
          <p:spPr>
            <a:xfrm>
              <a:off x="5857560" y="4638240"/>
              <a:ext cx="1080" cy="3970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93" name=""/>
            <p:cNvCxnSpPr>
              <a:stCxn id="81" idx="2"/>
              <a:endCxn id="82" idx="0"/>
            </p:cNvCxnSpPr>
            <p:nvPr/>
          </p:nvCxnSpPr>
          <p:spPr>
            <a:xfrm>
              <a:off x="5857920" y="5684760"/>
              <a:ext cx="2160" cy="41472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94" name=""/>
            <p:cNvCxnSpPr>
              <a:stCxn id="82" idx="3"/>
              <a:endCxn id="80" idx="6"/>
            </p:cNvCxnSpPr>
            <p:nvPr/>
          </p:nvCxnSpPr>
          <p:spPr>
            <a:xfrm flipH="1" flipV="1">
              <a:off x="6328440" y="4420440"/>
              <a:ext cx="5400" cy="1860840"/>
            </a:xfrm>
            <a:prstGeom prst="bentConnector3">
              <a:avLst>
                <a:gd name="adj1" fmla="val -8800000"/>
              </a:avLst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</p:grpSp>
      <p:sp>
        <p:nvSpPr>
          <p:cNvPr id="95" name=""/>
          <p:cNvSpPr/>
          <p:nvPr/>
        </p:nvSpPr>
        <p:spPr>
          <a:xfrm>
            <a:off x="0" y="6058080"/>
            <a:ext cx="4508640" cy="799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v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gnizes whether NK ha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d its internal compu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13680" y="4191120"/>
            <a:ext cx="1930320" cy="207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v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ce of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inp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sum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1DD3-2823-420B-BC11-899D9C2ED8C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nv-Controller Separation Principle in Circuits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-360" y="825480"/>
            <a:ext cx="8991720" cy="54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ircuit Synchroniza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a clock which alternates between low and high pul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rcuit viewed a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ack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bo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input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es (representing the environmen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output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clock pulse is 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x and output idle, input may 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clock pulse is hi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x and output may change, input is id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8F5B-63D1-445F-BF6B-4BB8ED173BE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622440"/>
            <a:ext cx="9067680" cy="48132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69696"/>
                </a:solidFill>
                <a:latin typeface="Arial"/>
              </a:rPr>
              <a:t>Control System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Real-Time Controller ASMs (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ith atomic actions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69696"/>
                </a:solidFill>
                <a:latin typeface="Arial"/>
              </a:rPr>
              <a:t>Railroad Crossing Controller AS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Analysis</a:t>
            </a:r>
            <a:r>
              <a:rPr b="0" lang="en-US" sz="40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of the</a:t>
            </a:r>
            <a:r>
              <a:rPr b="0" lang="en-US" sz="40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Railroad Crossing Controller ASM (Safety &amp; Liveness Proof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Exercises and Refer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Real-Time Controller ASM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0B55-2FC8-4367-BF0E-2043ACFBEE2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3-01-09T13:53:05Z</dcterms:modified>
  <cp:revision>511</cp:revision>
  <dc:subject>Railcrossing Gate Controller</dc:subject>
  <dc:title>Railcrossing Gate Controller</dc:title>
</cp:coreProperties>
</file>