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C42-1B4B-4A6B-956B-9F0CEDDC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EED-AF42-4470-84AE-969C26CC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D97-8873-4097-89DA-3F7B187F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A65-73B9-4357-A758-954C1077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43D-02B2-435D-A0A2-9C87C3E8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71D-8E6A-489D-B3DE-4880AC1A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5C1-1592-463F-94C4-EBE2CAB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155-094C-4239-8DB9-74DA79D4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54C-1DF5-4F5F-BD0E-FA66D9B7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307-22E9-49CD-9F32-C0A9E4C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49F-E57F-4A63-8834-7202BE56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427-2D83-4949-A2F6-8087181C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9BDE-F4EE-4748-A3A8-83BCE4EEB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cktracking Machin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for Tree Computa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5918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f mode = ramify th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k = |alternatives (Params)|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=new (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ndidates (currnode) := {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all 1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i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k  d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arent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curr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v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i-th (alternatives (Params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If mode = select then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f candidates (currnode) =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els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try-next-candidate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mode := exec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261120" y="838080"/>
            <a:ext cx="2590560" cy="2133720"/>
            <a:chOff x="6261120" y="838080"/>
            <a:chExt cx="2590560" cy="2133720"/>
          </a:xfrm>
        </p:grpSpPr>
        <p:cxnSp>
          <p:nvCxnSpPr>
            <p:cNvPr id="44" name=""/>
            <p:cNvCxnSpPr/>
            <p:nvPr/>
          </p:nvCxnSpPr>
          <p:spPr>
            <a:xfrm flipV="1">
              <a:off x="6489720" y="1555200"/>
              <a:ext cx="73080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" name=""/>
            <p:cNvCxnSpPr/>
            <p:nvPr/>
          </p:nvCxnSpPr>
          <p:spPr>
            <a:xfrm flipH="1" flipV="1">
              <a:off x="7435440" y="1555200"/>
              <a:ext cx="88344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" name=""/>
            <p:cNvSpPr/>
            <p:nvPr/>
          </p:nvSpPr>
          <p:spPr>
            <a:xfrm>
              <a:off x="6870600" y="838080"/>
              <a:ext cx="914400" cy="76212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61120" y="2514600"/>
              <a:ext cx="53316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13600" y="2514600"/>
              <a:ext cx="53352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32720" y="1066680"/>
              <a:ext cx="12189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94280" y="19810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ar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76920" y="4038480"/>
            <a:ext cx="2361960" cy="2133360"/>
            <a:chOff x="4876920" y="4038480"/>
            <a:chExt cx="2361960" cy="2133360"/>
          </a:xfrm>
        </p:grpSpPr>
        <p:cxnSp>
          <p:nvCxnSpPr>
            <p:cNvPr id="52" name=""/>
            <p:cNvCxnSpPr/>
            <p:nvPr/>
          </p:nvCxnSpPr>
          <p:spPr>
            <a:xfrm flipV="1">
              <a:off x="5105520" y="4755240"/>
              <a:ext cx="73080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/>
            <p:nvPr/>
          </p:nvCxnSpPr>
          <p:spPr>
            <a:xfrm flipH="1" flipV="1">
              <a:off x="6051240" y="4755240"/>
              <a:ext cx="88344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4" name=""/>
            <p:cNvSpPr/>
            <p:nvPr/>
          </p:nvSpPr>
          <p:spPr>
            <a:xfrm>
              <a:off x="5486400" y="4038480"/>
              <a:ext cx="914400" cy="7617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920" y="5714640"/>
              <a:ext cx="53316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571464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5714640"/>
              <a:ext cx="914400" cy="3812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72200" y="4343040"/>
              <a:ext cx="1066680" cy="45720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D8D-CC83-4374-BB2F-13443AC7C1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arent (currnode) = ro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mode := St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ry-next-candidate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depth-first tree trave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node:= next (candidates(currnode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(candidates(currnode)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om candidates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n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is a choice fct, possibly dynamic, which determines the</a:t>
            </a:r>
            <a:r>
              <a:rPr b="1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rder for trying out the alterna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, possibly dynamic and coming with parameters, determines the solution space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execution machine may update mode again to ramify (in case of successful exec) or to sele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(for failed exec)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E01-EC52-4740-974A-B78840056C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ogic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70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rolog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Rosenzweig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 of Computer Programming 24 (1995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cdef (act,pgm)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a sequence of clauses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 be tried out in this order to execute the current statement (“goal”)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rocdef (act,constr,pgm)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n CLAM with constraints for indexing mechanism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Salamone OUP 1995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de resolves act against the head of the next candidate, if possible, replacing act by that clauses’ body &amp; proceeding in mode ramify, otherwise it deletes that candidate &amp; switches to mode selec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11E-4E87-427C-9690-12E7D5FD0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functional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8991720" cy="60451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bel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 et al.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IP 13 World Computer Congress 1994, Vol.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fundef (currexp,pgm)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the list of defining rules provided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 the outer fct of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curre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pplies the defining rules in the given order to reduce currexp to normal form (using narrowing, a combination of unification and reduction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B04-8237-4BC8-8F77-FD433803B1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context free grammar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3949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Generating leftmost derivations of cf grammars 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(currnode,G),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sequence of symbols Y1...Yk of the  conclusion of a G-rule with premisse X labeling currnode. Includes a choice bw different rules X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the label of a node: variable X or terminal lett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nodes labeled by a variabl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triggers tree expan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terminal nodes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extracts the yield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oncatenating terminal word to output, continues derivation at parent node in mode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613480"/>
            <a:ext cx="251460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itially NODE = {root}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ot=curr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nv(root)=G-axi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de=ramif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56200" y="4457880"/>
            <a:ext cx="2514600" cy="11595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ternatives can be a  dynamic fct (possibly monitored by the user) or static (with first argument in VA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84600"/>
            <a:ext cx="5562720" cy="211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f mode = execute the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env (currnode)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mode:=ramify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lse output:=output * env(currnod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node:= parent(currnode)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8E5-B03F-4D92-B782-2E377B52CF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instantiation  for attribute gramma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4381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ynthesis of node attribute from children’s attributes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parent (currnode) = root  then mode := S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X.a := f(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..., 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here X = env(parent(currnode))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=env(o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) for children n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heriting attribute from parent and sibl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update of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.g. upon node creation) generalized to update also node attribu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ribute conditions for grammar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execute-rules as additional guard to yiel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48120"/>
            <a:ext cx="914400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f mode = execute th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se If Cond(currnode.a, parent(currnode).b, siblings(currnode).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n output:=output * env(currnod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rrnode:= parent(currnode) , 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7640" y="2374920"/>
            <a:ext cx="1206360" cy="1663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Johnso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nguis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&amp;Philosoph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17 (1994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537-5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48A-39D2-43AC-8A5F-8A5A620CBA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482760" y="1994040"/>
            <a:ext cx="2361600" cy="2209680"/>
            <a:chOff x="482760" y="1994040"/>
            <a:chExt cx="2361600" cy="2209680"/>
          </a:xfrm>
        </p:grpSpPr>
        <p:sp>
          <p:nvSpPr>
            <p:cNvPr id="75" name=""/>
            <p:cNvSpPr/>
            <p:nvPr/>
          </p:nvSpPr>
          <p:spPr>
            <a:xfrm>
              <a:off x="1320840" y="3289320"/>
              <a:ext cx="53280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20840" y="3746520"/>
              <a:ext cx="532800" cy="457200"/>
            </a:xfrm>
            <a:prstGeom prst="triangle">
              <a:avLst>
                <a:gd name="adj" fmla="val 5000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82760" y="1994040"/>
              <a:ext cx="2361600" cy="1294920"/>
              <a:chOff x="482760" y="1994040"/>
              <a:chExt cx="2361600" cy="1294920"/>
            </a:xfrm>
          </p:grpSpPr>
          <p:sp>
            <p:nvSpPr>
              <p:cNvPr id="78" name=""/>
              <p:cNvSpPr/>
              <p:nvPr/>
            </p:nvSpPr>
            <p:spPr>
              <a:xfrm>
                <a:off x="1473120" y="2603520"/>
                <a:ext cx="304200" cy="304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49080" y="1994040"/>
                <a:ext cx="152280" cy="15228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8276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540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554120" y="2135160"/>
                <a:ext cx="105840" cy="462960"/>
              </a:xfrm>
              <a:custGeom>
                <a:avLst/>
                <a:gdLst/>
                <a:ahLst/>
                <a:rect l="l" t="t" r="r" b="b"/>
                <a:pathLst>
                  <a:path w="67" h="292">
                    <a:moveTo>
                      <a:pt x="45" y="0"/>
                    </a:moveTo>
                    <a:cubicBezTo>
                      <a:pt x="10" y="53"/>
                      <a:pt x="0" y="35"/>
                      <a:pt x="38" y="60"/>
                    </a:cubicBezTo>
                    <a:cubicBezTo>
                      <a:pt x="49" y="94"/>
                      <a:pt x="33" y="94"/>
                      <a:pt x="23" y="127"/>
                    </a:cubicBezTo>
                    <a:cubicBezTo>
                      <a:pt x="46" y="162"/>
                      <a:pt x="35" y="165"/>
                      <a:pt x="23" y="202"/>
                    </a:cubicBezTo>
                    <a:cubicBezTo>
                      <a:pt x="25" y="203"/>
                      <a:pt x="67" y="225"/>
                      <a:pt x="52" y="240"/>
                    </a:cubicBezTo>
                    <a:cubicBezTo>
                      <a:pt x="41" y="251"/>
                      <a:pt x="8" y="254"/>
                      <a:pt x="8" y="254"/>
                    </a:cubicBezTo>
                    <a:cubicBezTo>
                      <a:pt x="28" y="285"/>
                      <a:pt x="14" y="273"/>
                      <a:pt x="45" y="284"/>
                    </a:cubicBezTo>
                    <a:cubicBezTo>
                      <a:pt x="52" y="287"/>
                      <a:pt x="67" y="292"/>
                      <a:pt x="67" y="292"/>
                    </a:cubicBezTo>
                  </a:path>
                </a:pathLst>
              </a:custGeom>
              <a:noFill/>
              <a:ln w="9360">
                <a:solidFill>
                  <a:srgbClr val="f2ca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5400" y="2908080"/>
                <a:ext cx="0" cy="3808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7680" y="2908080"/>
                <a:ext cx="1066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k-thChil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457200" y="4572000"/>
            <a:ext cx="2438280" cy="2057400"/>
            <a:chOff x="457200" y="4572000"/>
            <a:chExt cx="2438280" cy="2057400"/>
          </a:xfrm>
        </p:grpSpPr>
        <p:sp>
          <p:nvSpPr>
            <p:cNvPr id="86" name=""/>
            <p:cNvSpPr/>
            <p:nvPr/>
          </p:nvSpPr>
          <p:spPr>
            <a:xfrm>
              <a:off x="457200" y="5029200"/>
              <a:ext cx="2286000" cy="16002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3440" y="61722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47920" y="5562720"/>
              <a:ext cx="304560" cy="3045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58672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j-thChi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33440" y="45720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5280" y="5011560"/>
              <a:ext cx="69840" cy="54612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15" y="0"/>
                  </a:moveTo>
                  <a:cubicBezTo>
                    <a:pt x="41" y="41"/>
                    <a:pt x="27" y="110"/>
                    <a:pt x="0" y="149"/>
                  </a:cubicBezTo>
                  <a:cubicBezTo>
                    <a:pt x="5" y="172"/>
                    <a:pt x="6" y="196"/>
                    <a:pt x="15" y="217"/>
                  </a:cubicBezTo>
                  <a:cubicBezTo>
                    <a:pt x="19" y="225"/>
                    <a:pt x="32" y="225"/>
                    <a:pt x="37" y="232"/>
                  </a:cubicBezTo>
                  <a:cubicBezTo>
                    <a:pt x="43" y="241"/>
                    <a:pt x="42" y="252"/>
                    <a:pt x="44" y="262"/>
                  </a:cubicBezTo>
                  <a:cubicBezTo>
                    <a:pt x="14" y="272"/>
                    <a:pt x="9" y="285"/>
                    <a:pt x="0" y="314"/>
                  </a:cubicBezTo>
                  <a:cubicBezTo>
                    <a:pt x="9" y="341"/>
                    <a:pt x="0" y="332"/>
                    <a:pt x="22" y="34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0200" y="5867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Tree Adjoining Gramm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520"/>
            <a:ext cx="79120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eneralizing Parikh’s analysis of context free languages by pumping of cf trees from basis trees (with terminal yield) and recursion trees (with terminal yield except for the root vari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1480" y="1841400"/>
            <a:ext cx="3022560" cy="344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 n=k-thChild(m)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ymb(n)=symb(root(T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amp; T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RecTree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ot(T) = j-thChild(p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t T’=new copy(T)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k-thChild(m):=root(T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-thChild(p’):=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57600" y="2286000"/>
            <a:ext cx="5105160" cy="3886200"/>
            <a:chOff x="3657600" y="2286000"/>
            <a:chExt cx="5105160" cy="3886200"/>
          </a:xfrm>
        </p:grpSpPr>
        <p:grpSp>
          <p:nvGrpSpPr>
            <p:cNvPr id="97" name=""/>
            <p:cNvGrpSpPr/>
            <p:nvPr/>
          </p:nvGrpSpPr>
          <p:grpSpPr>
            <a:xfrm>
              <a:off x="6324120" y="2286000"/>
              <a:ext cx="2438640" cy="3886200"/>
              <a:chOff x="6324120" y="2286000"/>
              <a:chExt cx="2438640" cy="3886200"/>
            </a:xfrm>
          </p:grpSpPr>
          <p:sp>
            <p:nvSpPr>
              <p:cNvPr id="98" name=""/>
              <p:cNvSpPr/>
              <p:nvPr/>
            </p:nvSpPr>
            <p:spPr>
              <a:xfrm>
                <a:off x="7238880" y="5715000"/>
                <a:ext cx="53352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324120" y="2286000"/>
                <a:ext cx="2438640" cy="3391200"/>
                <a:chOff x="6324120" y="2286000"/>
                <a:chExt cx="2438640" cy="3391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6324120" y="2286000"/>
                  <a:ext cx="2362680" cy="1295640"/>
                  <a:chOff x="6324120" y="2286000"/>
                  <a:chExt cx="2362680" cy="1295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7315200" y="289584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391160" y="2286000"/>
                    <a:ext cx="152640" cy="15264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632412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46748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96200" y="2427480"/>
                    <a:ext cx="1062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2">
                        <a:moveTo>
                          <a:pt x="45" y="0"/>
                        </a:moveTo>
                        <a:cubicBezTo>
                          <a:pt x="10" y="53"/>
                          <a:pt x="0" y="35"/>
                          <a:pt x="38" y="60"/>
                        </a:cubicBezTo>
                        <a:cubicBezTo>
                          <a:pt x="49" y="94"/>
                          <a:pt x="33" y="94"/>
                          <a:pt x="23" y="127"/>
                        </a:cubicBezTo>
                        <a:cubicBezTo>
                          <a:pt x="46" y="162"/>
                          <a:pt x="35" y="165"/>
                          <a:pt x="23" y="202"/>
                        </a:cubicBezTo>
                        <a:cubicBezTo>
                          <a:pt x="25" y="203"/>
                          <a:pt x="67" y="225"/>
                          <a:pt x="52" y="240"/>
                        </a:cubicBezTo>
                        <a:cubicBezTo>
                          <a:pt x="41" y="251"/>
                          <a:pt x="8" y="254"/>
                          <a:pt x="8" y="254"/>
                        </a:cubicBezTo>
                        <a:cubicBezTo>
                          <a:pt x="28" y="285"/>
                          <a:pt x="14" y="273"/>
                          <a:pt x="45" y="284"/>
                        </a:cubicBezTo>
                        <a:cubicBezTo>
                          <a:pt x="52" y="287"/>
                          <a:pt x="67" y="292"/>
                          <a:pt x="67" y="292"/>
                        </a:cubicBezTo>
                      </a:path>
                    </a:pathLst>
                  </a:custGeom>
                  <a:noFill/>
                  <a:ln w="9360">
                    <a:solidFill>
                      <a:srgbClr val="f2cab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467480" y="320040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619760" y="3200400"/>
                    <a:ext cx="1067040" cy="30708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k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6324480" y="3619800"/>
                  <a:ext cx="2438280" cy="2057400"/>
                  <a:chOff x="6324480" y="3619800"/>
                  <a:chExt cx="2438280" cy="20574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324480" y="4077000"/>
                    <a:ext cx="2286000" cy="160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200720" y="52200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315200" y="461052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619760" y="4915080"/>
                    <a:ext cx="1143000" cy="307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j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200720" y="36198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432560" y="4059360"/>
                    <a:ext cx="6984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44">
                        <a:moveTo>
                          <a:pt x="15" y="0"/>
                        </a:moveTo>
                        <a:cubicBezTo>
                          <a:pt x="41" y="41"/>
                          <a:pt x="27" y="110"/>
                          <a:pt x="0" y="149"/>
                        </a:cubicBezTo>
                        <a:cubicBezTo>
                          <a:pt x="5" y="172"/>
                          <a:pt x="6" y="196"/>
                          <a:pt x="15" y="217"/>
                        </a:cubicBezTo>
                        <a:cubicBezTo>
                          <a:pt x="19" y="225"/>
                          <a:pt x="32" y="225"/>
                          <a:pt x="37" y="232"/>
                        </a:cubicBezTo>
                        <a:cubicBezTo>
                          <a:pt x="43" y="241"/>
                          <a:pt x="42" y="252"/>
                          <a:pt x="44" y="262"/>
                        </a:cubicBezTo>
                        <a:cubicBezTo>
                          <a:pt x="14" y="272"/>
                          <a:pt x="9" y="285"/>
                          <a:pt x="0" y="314"/>
                        </a:cubicBezTo>
                        <a:cubicBezTo>
                          <a:pt x="9" y="341"/>
                          <a:pt x="0" y="332"/>
                          <a:pt x="22" y="34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467480" y="49150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3657600" y="5791320"/>
              <a:ext cx="2133720" cy="228600"/>
            </a:xfrm>
            <a:prstGeom prst="rightArrow">
              <a:avLst>
                <a:gd name="adj1" fmla="val 50000"/>
                <a:gd name="adj2" fmla="val 233346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CDF-ACD8-4537-B071-9E627B9CFF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172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D. Rosenzweig: Mathematical Definition of Full Pr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Science of Computer Programming 24 (1995) 249-2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R.F.Salamone: CLAM Specification for Provably Correct Compilation of CLP ( R )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E.Börger (Ed.) Specification and Validation Methods. Oxford University Press, 1995, 97-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, F.J.Lopez-Fraguas, M.Rodrigues-Artalejo: A Model for Mathematical Analysis of Functional Programs and their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B.Pehrson and I.Simon (Eds.): IFIP 13 World Computer Congress 1994, Vol.I: Technology/Foundations, 410-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Johnson and L. Moss: Grammar Formalisms Viewed als Evolving Algeb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inguistics and Philosophy 17 (1994) 537-560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333-CF49-434D-804C-994F45C9CB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12-21T11:20:39Z</dcterms:modified>
  <cp:revision>712</cp:revision>
  <dc:subject>Modeling backtracking mechanisms</dc:subject>
  <dc:title>Backtracking ASM</dc:title>
</cp:coreProperties>
</file>