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109-9F94-49C2-841B-A4C607F9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41A-CEE4-4C1E-8913-48CBEE76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AE8-B327-46C4-9962-2796A5DB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A0C-BDB8-4EDD-AE5B-440E8C53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AB0-F56D-4862-A4CA-6B3CC24A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D2D-0BC5-408C-8573-884B23C0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697-81BF-4EE8-897C-82F465A9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F0F-5310-4691-9062-3C9818BF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162-4B6A-428E-A6B6-916929CE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C60-6AE1-4493-833A-1D2A233F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CF6-77D3-47B8-A741-3CA5D7B4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D66-D6D0-4B47-960B-C43EC035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91FB-D93D-46BC-A011-F31A25B0C8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lustrating the power of “choose” and “forall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894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ating  all and only the pairs vw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* of different words v,w of same length (i.e. v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 and |v| = |w|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 n, i with i &lt;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a,b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with a 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(i) :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w(i) := b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forall j &lt; n, j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a,b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(j) : 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w(j) :=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hen all possible choices are realized,  the set of reachable states vw of this ASM, started with (say)  a b for some a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, is the set of all vw with v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 and |v| = |w|.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tri-asm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77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5880" y="5730840"/>
            <a:ext cx="1462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t v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n, i, j :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a, b 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34520" y="0"/>
            <a:ext cx="609480" cy="2387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606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quiv Petri ne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generating one wor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5842080"/>
            <a:ext cx="7277040" cy="1015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ransition q:  at place B 1 mark is produced for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lace C n-1 marks are produced for arbitrary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etri-asm2" descr=""/>
          <p:cNvPicPr/>
          <p:nvPr/>
        </p:nvPicPr>
        <p:blipFill>
          <a:blip r:embed="rId1"/>
          <a:stretch/>
        </p:blipFill>
        <p:spPr>
          <a:xfrm>
            <a:off x="1066680" y="0"/>
            <a:ext cx="7675560" cy="603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1600" y="5410080"/>
            <a:ext cx="3523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t v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n, i, j :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a, b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873600" cy="673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the iteration con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34520" y="0"/>
            <a:ext cx="609480" cy="2387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27400" y="6032520"/>
            <a:ext cx="501660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word has been comple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leted to produce the nex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lustrating the power of “forall” and “choos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894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enerating  the words over alphabet {0,1} of length at least n with a 1 in the n-th place, i.e. the words of form v1w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{0,1}*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forall  n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N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hoose v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{0,1}</a:t>
            </a:r>
            <a:r>
              <a:rPr b="0" lang="it-IT" sz="3200" spc="-1" strike="noStrike" baseline="30000">
                <a:solidFill>
                  <a:srgbClr val="3333cc"/>
                </a:solidFill>
                <a:latin typeface="Arial"/>
              </a:rPr>
              <a:t>n-1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hoose w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{0,1}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out(n) := v1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B. For each n, there is a non-deterministic FSM with O(n) states which accepts the set {0,1}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{0,1}* , but every deterministic FSM accepting this set has at least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non-determi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= {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w and |v| = |w| = n}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xercise. Show that for each n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an be accepted by a non-deterministic finite automaton with O(n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very unambiguous  automaton accep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eds at least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. R. Kintala and K-Y P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tsch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ise representations of regular languages by degree and probabilistic finite autom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n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h. Systems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6 (4) 1993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79—3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4:29:43Z</dcterms:created>
  <dc:creator>top10</dc:creator>
  <dc:description/>
  <dc:language>en-US</dc:language>
  <cp:lastModifiedBy>Egon Boerger</cp:lastModifiedBy>
  <dcterms:modified xsi:type="dcterms:W3CDTF">2002-04-07T17:45:22Z</dcterms:modified>
  <cp:revision>20</cp:revision>
  <dc:subject>Examples illustrating choose/forall</dc:subject>
  <dc:title>ASM constructs choose and forall</dc:title>
</cp:coreProperties>
</file>