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513-0B13-4F25-B7BC-D4F8B5F3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41B-B30B-485F-9F59-217A6DD2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708-89A8-4CC3-B3D2-4BE674AE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811-0A7F-4CC1-B66C-DF9A559A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74C-D68C-4D9D-A57E-468AC1B7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D96-D571-410B-9650-F800D626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9AE-790D-4BC5-A6A4-58199EDC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E8D-0973-4F3E-9A37-55673B84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671-C836-4F4E-8C46-A1366115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BF7-BFAF-453A-8721-C54E58A7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33B-A35D-45EF-AC58-4BD8ABFC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7EB-8F56-48E8-A608-8138E898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0C85-3034-4FDC-A1EE-2DD9C2CCC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onsensus in Networ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sensus in Networks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96616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Design a distributed algorithm  for reaching consensus among homogeneous agents of finite connected networks (using only communication between neighbors, without broker or mediator, with abstract requests and answer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orithmic Idea: every agent (node) m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aunch a requ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is neighbors and wait for the rep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agre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replies received from his neighbors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reply to req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eived from his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all agents agree (maybe nev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38F-8DC7-4156-8699-567523D790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sensus ASM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finite connected set (of node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agent equipped with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es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RequestFrom(n)|n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ighb 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(controlled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l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ReplyFrom(n)|n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neighb 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(controlled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ending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greed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tl_state=pending, Request = empty, Reply = f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EFD-1075-4A88-8AE0-5E49682532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02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ensus Control State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90720" y="927000"/>
            <a:ext cx="3397320" cy="3301920"/>
            <a:chOff x="2790720" y="927000"/>
            <a:chExt cx="3397320" cy="3301920"/>
          </a:xfrm>
        </p:grpSpPr>
        <p:sp>
          <p:nvSpPr>
            <p:cNvPr id="50" name=""/>
            <p:cNvSpPr/>
            <p:nvPr/>
          </p:nvSpPr>
          <p:spPr>
            <a:xfrm>
              <a:off x="2790720" y="927000"/>
              <a:ext cx="1168560" cy="812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e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35480" y="3517920"/>
              <a:ext cx="952560" cy="711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gre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1333080"/>
            <a:ext cx="9144000" cy="2905560"/>
            <a:chOff x="0" y="1333080"/>
            <a:chExt cx="9144000" cy="2905560"/>
          </a:xfrm>
        </p:grpSpPr>
        <p:sp>
          <p:nvSpPr>
            <p:cNvPr id="53" name=""/>
            <p:cNvSpPr/>
            <p:nvPr/>
          </p:nvSpPr>
          <p:spPr>
            <a:xfrm>
              <a:off x="6235560" y="2344680"/>
              <a:ext cx="29084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ctedRepliesComple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ply = f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333080"/>
              <a:ext cx="5235840" cy="2905560"/>
              <a:chOff x="0" y="1333080"/>
              <a:chExt cx="5235840" cy="2905560"/>
            </a:xfrm>
          </p:grpSpPr>
          <p:sp>
            <p:nvSpPr>
              <p:cNvPr id="55" name=""/>
              <p:cNvSpPr/>
              <p:nvPr/>
            </p:nvSpPr>
            <p:spPr>
              <a:xfrm>
                <a:off x="2354400" y="2263680"/>
                <a:ext cx="2041560" cy="819360"/>
              </a:xfrm>
              <a:prstGeom prst="hexagon">
                <a:avLst>
                  <a:gd name="adj" fmla="val 62291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xpec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pli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mplet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67240" y="387360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395440"/>
                <a:ext cx="147960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LaunchNe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06520" y="3860640"/>
                <a:ext cx="48276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05160" y="3508200"/>
                <a:ext cx="1939680" cy="730440"/>
              </a:xfrm>
              <a:prstGeom prst="hexagon">
                <a:avLst>
                  <a:gd name="adj" fmla="val 66387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osenRu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= LaunchNe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0" name=""/>
              <p:cNvCxnSpPr>
                <a:stCxn id="50" idx="4"/>
                <a:endCxn id="55" idx="0"/>
              </p:cNvCxnSpPr>
              <p:nvPr/>
            </p:nvCxnSpPr>
            <p:spPr>
              <a:xfrm>
                <a:off x="3374640" y="1739520"/>
                <a:ext cx="1080" cy="52416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5" idx="2"/>
                <a:endCxn id="59" idx="0"/>
              </p:cNvCxnSpPr>
              <p:nvPr/>
            </p:nvCxnSpPr>
            <p:spPr>
              <a:xfrm>
                <a:off x="3374640" y="3082680"/>
                <a:ext cx="1080" cy="4258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stCxn id="59" idx="3"/>
                <a:endCxn id="51" idx="2"/>
              </p:cNvCxnSpPr>
              <p:nvPr/>
            </p:nvCxnSpPr>
            <p:spPr>
              <a:xfrm>
                <a:off x="4344840" y="3873240"/>
                <a:ext cx="89136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3" name=""/>
              <p:cNvCxnSpPr>
                <a:stCxn id="59" idx="1"/>
                <a:endCxn id="57" idx="2"/>
              </p:cNvCxnSpPr>
              <p:nvPr/>
            </p:nvCxnSpPr>
            <p:spPr>
              <a:xfrm rot="10800000">
                <a:off x="739080" y="2912400"/>
                <a:ext cx="1666080" cy="96120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4" name=""/>
              <p:cNvCxnSpPr>
                <a:stCxn id="57" idx="0"/>
                <a:endCxn id="50" idx="2"/>
              </p:cNvCxnSpPr>
              <p:nvPr/>
            </p:nvCxnSpPr>
            <p:spPr>
              <a:xfrm flipH="1" flipV="1" rot="5400000">
                <a:off x="1233720" y="838440"/>
                <a:ext cx="1062720" cy="205164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65" name=""/>
          <p:cNvGrpSpPr/>
          <p:nvPr/>
        </p:nvGrpSpPr>
        <p:grpSpPr>
          <a:xfrm>
            <a:off x="3374280" y="697680"/>
            <a:ext cx="4750560" cy="2820240"/>
            <a:chOff x="3374280" y="697680"/>
            <a:chExt cx="4750560" cy="2820240"/>
          </a:xfrm>
        </p:grpSpPr>
        <p:sp>
          <p:nvSpPr>
            <p:cNvPr id="66" name=""/>
            <p:cNvSpPr/>
            <p:nvPr/>
          </p:nvSpPr>
          <p:spPr>
            <a:xfrm>
              <a:off x="4843440" y="1038240"/>
              <a:ext cx="1736640" cy="590400"/>
            </a:xfrm>
            <a:prstGeom prst="hexagon">
              <a:avLst>
                <a:gd name="adj" fmla="val 73537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re a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76880" y="1180800"/>
              <a:ext cx="104796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51" idx="0"/>
              <a:endCxn id="66" idx="2"/>
            </p:cNvCxnSpPr>
            <p:nvPr/>
          </p:nvCxnSpPr>
          <p:spPr>
            <a:xfrm flipV="1">
              <a:off x="5711400" y="1628280"/>
              <a:ext cx="1080" cy="189000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66" idx="3"/>
              <a:endCxn id="67" idx="1"/>
            </p:cNvCxnSpPr>
            <p:nvPr/>
          </p:nvCxnSpPr>
          <p:spPr>
            <a:xfrm>
              <a:off x="6580080" y="1333080"/>
              <a:ext cx="49752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0" idx="6"/>
              <a:endCxn id="66" idx="1"/>
            </p:cNvCxnSpPr>
            <p:nvPr/>
          </p:nvCxnSpPr>
          <p:spPr>
            <a:xfrm>
              <a:off x="3959280" y="1333080"/>
              <a:ext cx="88488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7" idx="0"/>
              <a:endCxn id="50" idx="0"/>
            </p:cNvCxnSpPr>
            <p:nvPr/>
          </p:nvCxnSpPr>
          <p:spPr>
            <a:xfrm flipV="1" rot="16200000">
              <a:off x="5360400" y="-1059840"/>
              <a:ext cx="254520" cy="4226760"/>
            </a:xfrm>
            <a:prstGeom prst="bentConnector3">
              <a:avLst>
                <a:gd name="adj1" fmla="val 189943"/>
              </a:avLst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72" name=""/>
          <p:cNvGrpSpPr/>
          <p:nvPr/>
        </p:nvGrpSpPr>
        <p:grpSpPr>
          <a:xfrm>
            <a:off x="0" y="5175360"/>
            <a:ext cx="5003640" cy="1684800"/>
            <a:chOff x="0" y="5175360"/>
            <a:chExt cx="5003640" cy="1684800"/>
          </a:xfrm>
        </p:grpSpPr>
        <p:sp>
          <p:nvSpPr>
            <p:cNvPr id="73" name=""/>
            <p:cNvSpPr/>
            <p:nvPr/>
          </p:nvSpPr>
          <p:spPr>
            <a:xfrm>
              <a:off x="0" y="5175360"/>
              <a:ext cx="2882880" cy="122184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unchNewReques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ply := empty BroadcastReques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126120"/>
              <a:ext cx="5003640" cy="73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roadcastRequest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forall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sert RequestFrom(self) into Request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067360" y="4108320"/>
            <a:ext cx="4076640" cy="1984680"/>
            <a:chOff x="5067360" y="4108320"/>
            <a:chExt cx="4076640" cy="1984680"/>
          </a:xfrm>
        </p:grpSpPr>
        <p:sp>
          <p:nvSpPr>
            <p:cNvPr id="76" name=""/>
            <p:cNvSpPr/>
            <p:nvPr/>
          </p:nvSpPr>
          <p:spPr>
            <a:xfrm>
              <a:off x="5067360" y="5419800"/>
              <a:ext cx="407664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d answe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From(n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ert ReplyFrom(self) into Reply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61120" y="4108320"/>
              <a:ext cx="2882880" cy="131328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orall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Request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elete r from Requ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end answer for 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E88-F26B-457C-BE5A-03D9BA686C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ensus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Stability proper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consensus ASM, if the run terminates, then for every agent h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l_state = agr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y = f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=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follows from the definition of LaunchNewRequest,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en Reply=full at agent, then there is no RequestFrom(agent) in Request(n) for any n </a:t>
            </a:r>
            <a:r>
              <a:rPr b="0" lang="en-US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 neighb(age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590-5E08-4D5C-B013-5B4C0C0810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5 (in particular Fig. 35.1) and Section 80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F3A-2DF3-43CA-895A-D9213AD80A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2:39Z</dcterms:modified>
  <cp:revision>745</cp:revision>
  <dc:subject>The ASM Method</dc:subject>
  <dc:title>The ASM Method</dc:title>
</cp:coreProperties>
</file>