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C9B3-3C2B-442C-B37A-204E6CEAC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FD77-F99E-467A-963B-27CA1905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3C10-6E32-4651-A958-7E5830CB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AE4E-662B-4CCA-9206-3183F988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CF4C-C12D-4E68-ADC1-DCA2A1D4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5AE5-A422-4DC4-AF6C-FA52F8EC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0EF2-E7E9-4E85-A352-C2281162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9585-6C92-47AE-9086-EBD0E8A0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F305-091E-45E5-B092-DD89354E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4906-B6B5-4DE6-8A20-0368E9B9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BE7D-C796-4148-864F-F7A31D1F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28B9-4121-4B89-AFD8-02581678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271C-61D0-42DC-BF8C-0607E92B8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way’s game of life: cell evolution ru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838080"/>
            <a:ext cx="1752840" cy="533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all c in C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590920"/>
            <a:ext cx="2666880" cy="609480"/>
          </a:xfrm>
          <a:prstGeom prst="hexagon">
            <a:avLst>
              <a:gd name="adj" fmla="val 109392"/>
              <a:gd name="vf" fmla="val 11547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veNeighb(c) =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3962520"/>
            <a:ext cx="1600200" cy="4572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me(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2514600"/>
            <a:ext cx="3200400" cy="762120"/>
          </a:xfrm>
          <a:prstGeom prst="hexagon">
            <a:avLst>
              <a:gd name="adj" fmla="val 104983"/>
              <a:gd name="vf" fmla="val 11547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veNeighb(c) &lt;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liveNeighb(c) &gt;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3962520"/>
            <a:ext cx="1676520" cy="4572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spend(c)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3" idx="2"/>
            <a:endCxn id="44" idx="0"/>
          </p:cNvCxnSpPr>
          <p:nvPr/>
        </p:nvCxnSpPr>
        <p:spPr>
          <a:xfrm>
            <a:off x="2019240" y="3200400"/>
            <a:ext cx="360" cy="7624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5" idx="2"/>
            <a:endCxn id="46" idx="0"/>
          </p:cNvCxnSpPr>
          <p:nvPr/>
        </p:nvCxnSpPr>
        <p:spPr>
          <a:xfrm>
            <a:off x="7238880" y="3276720"/>
            <a:ext cx="360" cy="6861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495680" y="502920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6" idx="2"/>
          </p:cNvCxnSpPr>
          <p:nvPr/>
        </p:nvCxnSpPr>
        <p:spPr>
          <a:xfrm rot="5400000">
            <a:off x="5600160" y="3314520"/>
            <a:ext cx="533520" cy="2743920"/>
          </a:xfrm>
          <a:prstGeom prst="bentConnector3">
            <a:avLst>
              <a:gd name="adj1" fmla="val 71303"/>
            </a:avLst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4" idx="2"/>
          </p:cNvCxnSpPr>
          <p:nvPr/>
        </p:nvCxnSpPr>
        <p:spPr>
          <a:xfrm flipH="1" rot="16200000">
            <a:off x="2990520" y="3448080"/>
            <a:ext cx="533520" cy="2476080"/>
          </a:xfrm>
          <a:prstGeom prst="bentConnector3">
            <a:avLst>
              <a:gd name="adj1" fmla="val 71303"/>
            </a:avLst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629400" y="3429000"/>
            <a:ext cx="546120" cy="3373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429000"/>
            <a:ext cx="647640" cy="3373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371600"/>
            <a:ext cx="8534520" cy="3886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533520"/>
            <a:ext cx="0" cy="3045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213372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38880" y="205740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5600880"/>
            <a:ext cx="9144000" cy="847800"/>
            <a:chOff x="0" y="5600880"/>
            <a:chExt cx="9144000" cy="847800"/>
          </a:xfrm>
        </p:grpSpPr>
        <p:sp>
          <p:nvSpPr>
            <p:cNvPr id="59" name=""/>
            <p:cNvSpPr/>
            <p:nvPr/>
          </p:nvSpPr>
          <p:spPr>
            <a:xfrm>
              <a:off x="0" y="5600880"/>
              <a:ext cx="2971800" cy="5331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sume(c) = alive(c) := tr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94360" y="5600880"/>
              <a:ext cx="3149640" cy="5205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spend(c) = alive(c) := fal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9680" y="6172200"/>
              <a:ext cx="4572000" cy="27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sume/suspend includes staying alive/dea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nway Game of Lif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C82B-D8AB-4A9D-AB47-82D44330ED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way’s Game of Lif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352680" y="1676520"/>
            <a:ext cx="1600200" cy="1143000"/>
            <a:chOff x="3352680" y="1676520"/>
            <a:chExt cx="1600200" cy="1143000"/>
          </a:xfrm>
        </p:grpSpPr>
        <p:sp>
          <p:nvSpPr>
            <p:cNvPr id="64" name=""/>
            <p:cNvSpPr/>
            <p:nvPr/>
          </p:nvSpPr>
          <p:spPr>
            <a:xfrm>
              <a:off x="3352680" y="1676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81280" y="1676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09880" y="1676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38480" y="1676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267080" y="1676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495680" y="1676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724280" y="1676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52680" y="1905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81280" y="19051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09880" y="1905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038480" y="1905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67080" y="1905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495680" y="1905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24280" y="1905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352680" y="2133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81280" y="21337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09880" y="2133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38480" y="2133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67080" y="21337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95680" y="21337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24280" y="21337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52680" y="2362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81280" y="23623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09880" y="2362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8480" y="2362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67080" y="2362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95680" y="2362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24280" y="2362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352680" y="2590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81280" y="2590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09880" y="2590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38480" y="2590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267080" y="2590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95680" y="2590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24280" y="2590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3200400" y="2971800"/>
            <a:ext cx="2057400" cy="2590920"/>
            <a:chOff x="3200400" y="2971800"/>
            <a:chExt cx="2057400" cy="2590920"/>
          </a:xfrm>
        </p:grpSpPr>
        <p:sp>
          <p:nvSpPr>
            <p:cNvPr id="100" name=""/>
            <p:cNvSpPr/>
            <p:nvPr/>
          </p:nvSpPr>
          <p:spPr>
            <a:xfrm>
              <a:off x="4114800" y="2971800"/>
              <a:ext cx="228600" cy="1447920"/>
            </a:xfrm>
            <a:prstGeom prst="downArrow">
              <a:avLst>
                <a:gd name="adj1" fmla="val 48333"/>
                <a:gd name="adj2" fmla="val 141691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29000" y="4419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57600" y="4419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86200" y="4419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14800" y="4419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43400" y="4419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0" y="4419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00600" y="4419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29000" y="4648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29000" y="48769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648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14800" y="4648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43400" y="4648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43400" y="4876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00600" y="4648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57600" y="4648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57600" y="48769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57600" y="5105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14800" y="4876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72000" y="46483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48769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51055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29000" y="5105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86200" y="48769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6200" y="5105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14800" y="5105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43400" y="5105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00600" y="4876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00600" y="5105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9000" y="5334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57600" y="5334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86200" y="5334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114800" y="5334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43400" y="5334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5334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00600" y="5334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00400" y="3352680"/>
              <a:ext cx="2057400" cy="533520"/>
            </a:xfrm>
            <a:custGeom>
              <a:avLst/>
              <a:gdLst>
                <a:gd name="textAreaLeft" fmla="*/ 442800 w 2057400"/>
                <a:gd name="textAreaRight" fmla="*/ 1614600 w 2057400"/>
                <a:gd name="textAreaTop" fmla="*/ 114840 h 533520"/>
                <a:gd name="textAreaBottom" fmla="*/ 41868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138" y="11558"/>
                  </a:lnTo>
                  <a:lnTo>
                    <a:pt x="198" y="12861"/>
                  </a:lnTo>
                  <a:lnTo>
                    <a:pt x="2442" y="13197"/>
                  </a:lnTo>
                  <a:lnTo>
                    <a:pt x="786" y="14846"/>
                  </a:lnTo>
                  <a:lnTo>
                    <a:pt x="3123" y="14882"/>
                  </a:lnTo>
                  <a:lnTo>
                    <a:pt x="1742" y="16682"/>
                  </a:lnTo>
                  <a:lnTo>
                    <a:pt x="4043" y="16272"/>
                  </a:lnTo>
                  <a:lnTo>
                    <a:pt x="3163" y="18437"/>
                  </a:lnTo>
                  <a:lnTo>
                    <a:pt x="5211" y="17461"/>
                  </a:lnTo>
                  <a:lnTo>
                    <a:pt x="4761" y="19754"/>
                  </a:lnTo>
                  <a:lnTo>
                    <a:pt x="6585" y="18405"/>
                  </a:lnTo>
                  <a:lnTo>
                    <a:pt x="6580" y="20741"/>
                  </a:lnTo>
                  <a:lnTo>
                    <a:pt x="8258" y="19115"/>
                  </a:lnTo>
                  <a:lnTo>
                    <a:pt x="8555" y="21364"/>
                  </a:lnTo>
                  <a:lnTo>
                    <a:pt x="9891" y="19447"/>
                  </a:lnTo>
                  <a:lnTo>
                    <a:pt x="10800" y="21600"/>
                  </a:lnTo>
                  <a:lnTo>
                    <a:pt x="11558" y="19462"/>
                  </a:lnTo>
                  <a:lnTo>
                    <a:pt x="12861" y="21402"/>
                  </a:lnTo>
                  <a:lnTo>
                    <a:pt x="13197" y="19158"/>
                  </a:lnTo>
                  <a:lnTo>
                    <a:pt x="14846" y="20814"/>
                  </a:lnTo>
                  <a:lnTo>
                    <a:pt x="14882" y="18477"/>
                  </a:lnTo>
                  <a:lnTo>
                    <a:pt x="16682" y="19858"/>
                  </a:lnTo>
                  <a:lnTo>
                    <a:pt x="16272" y="17557"/>
                  </a:lnTo>
                  <a:lnTo>
                    <a:pt x="18437" y="18437"/>
                  </a:lnTo>
                  <a:lnTo>
                    <a:pt x="17461" y="16389"/>
                  </a:lnTo>
                  <a:lnTo>
                    <a:pt x="19754" y="16839"/>
                  </a:lnTo>
                  <a:lnTo>
                    <a:pt x="18405" y="15015"/>
                  </a:lnTo>
                  <a:lnTo>
                    <a:pt x="20741" y="15020"/>
                  </a:lnTo>
                  <a:lnTo>
                    <a:pt x="19115" y="13342"/>
                  </a:lnTo>
                  <a:lnTo>
                    <a:pt x="21364" y="13045"/>
                  </a:lnTo>
                  <a:lnTo>
                    <a:pt x="19447" y="11709"/>
                  </a:lnTo>
                  <a:lnTo>
                    <a:pt x="21600" y="10800"/>
                  </a:lnTo>
                  <a:lnTo>
                    <a:pt x="19462" y="10042"/>
                  </a:lnTo>
                  <a:lnTo>
                    <a:pt x="21402" y="8739"/>
                  </a:lnTo>
                  <a:lnTo>
                    <a:pt x="19158" y="8403"/>
                  </a:lnTo>
                  <a:lnTo>
                    <a:pt x="20814" y="6754"/>
                  </a:lnTo>
                  <a:lnTo>
                    <a:pt x="18477" y="6718"/>
                  </a:lnTo>
                  <a:lnTo>
                    <a:pt x="19858" y="4918"/>
                  </a:lnTo>
                  <a:lnTo>
                    <a:pt x="17557" y="5328"/>
                  </a:lnTo>
                  <a:lnTo>
                    <a:pt x="18437" y="3163"/>
                  </a:lnTo>
                  <a:lnTo>
                    <a:pt x="16389" y="4139"/>
                  </a:lnTo>
                  <a:lnTo>
                    <a:pt x="16839" y="1846"/>
                  </a:lnTo>
                  <a:lnTo>
                    <a:pt x="15015" y="3195"/>
                  </a:lnTo>
                  <a:lnTo>
                    <a:pt x="15020" y="859"/>
                  </a:lnTo>
                  <a:lnTo>
                    <a:pt x="13342" y="2485"/>
                  </a:lnTo>
                  <a:lnTo>
                    <a:pt x="13045" y="236"/>
                  </a:lnTo>
                  <a:lnTo>
                    <a:pt x="11709" y="2153"/>
                  </a:lnTo>
                  <a:lnTo>
                    <a:pt x="10800" y="0"/>
                  </a:lnTo>
                  <a:lnTo>
                    <a:pt x="10042" y="2138"/>
                  </a:lnTo>
                  <a:lnTo>
                    <a:pt x="8739" y="198"/>
                  </a:lnTo>
                  <a:lnTo>
                    <a:pt x="8403" y="2442"/>
                  </a:lnTo>
                  <a:lnTo>
                    <a:pt x="6754" y="786"/>
                  </a:lnTo>
                  <a:lnTo>
                    <a:pt x="6718" y="3123"/>
                  </a:lnTo>
                  <a:lnTo>
                    <a:pt x="4918" y="1742"/>
                  </a:lnTo>
                  <a:lnTo>
                    <a:pt x="5328" y="4043"/>
                  </a:lnTo>
                  <a:lnTo>
                    <a:pt x="3163" y="3163"/>
                  </a:lnTo>
                  <a:lnTo>
                    <a:pt x="4139" y="5211"/>
                  </a:lnTo>
                  <a:lnTo>
                    <a:pt x="1846" y="4761"/>
                  </a:lnTo>
                  <a:lnTo>
                    <a:pt x="3195" y="6585"/>
                  </a:lnTo>
                  <a:lnTo>
                    <a:pt x="859" y="6580"/>
                  </a:lnTo>
                  <a:lnTo>
                    <a:pt x="2485" y="8258"/>
                  </a:lnTo>
                  <a:lnTo>
                    <a:pt x="236" y="8555"/>
                  </a:lnTo>
                  <a:lnTo>
                    <a:pt x="2153" y="9891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57440" y="3429000"/>
              <a:ext cx="172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Fire evolv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nway Game of Lif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021C-E6C1-47D5-B448-12E6EC3FCFA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2-04-02T11:25:59Z</dcterms:modified>
  <cp:revision>706</cp:revision>
  <dc:subject>Illustrating parallel synchronism of ASMs</dc:subject>
  <dc:title>ASM model for Conway's Game of Life</dc:title>
</cp:coreProperties>
</file>