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8E8-FDDB-480E-A07F-180B58E9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66F-CBFF-4CB3-937D-326F766E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74A-B7F3-4748-AAC4-67969220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84D-35CF-4E59-A72E-AB781B54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C10-83FD-4F16-9239-AD408AFD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D83-CC8A-4472-B784-3302DB3E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269-89D8-430F-B4DF-2C2A2FDA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271-57BB-4415-A4CA-7C6BD7FA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E99-EA7B-4DE2-84B5-C6A94D5B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7D7-B12F-44C3-8663-D5BA804B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DD6-D312-4948-8826-FFB2CB23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571-36E3-4B3A-9771-342BA6B7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009C-88D5-4428-B1FF-D850C1F4C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sired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e an ASM which offers the following operations, predicates and functions on double linked lists, whose elements have values in a given set  VALU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reateList (VALUE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reate a new double linked list with elements taking values in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end (L, Val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end at the end a new element with given value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sert (L, Val, Elem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nsert after Elem in L a new element with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ete (L, Elem) 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ete Elem from 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ccessByValue (L, Val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eturn the first element in L with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cessByIndex (L, i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turn the i-th element in 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mpty (L), length (L), occurs (L, Elem), position (L, Ele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pdate (L, Elem, Val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pdate the the value of Elem in L to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at (L1,L2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catenate two given lists in the given 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lit (L, Elem, L1, L2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lit L into L1, containing L up to including Elem, and L2 containing the rest list of 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C17-D7D2-46B1-85D9-DB2ACA1143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ing the Properties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or L</a:t>
            </a:r>
            <a:r>
              <a:rPr b="0" lang="it-IT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[ ]: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ppend (Delete (L,E),E) = Delete (Append (L,E),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66"/>
                </a:solidFill>
                <a:latin typeface="Arial"/>
              </a:rPr>
              <a:t>Follow from the defn of initialize (L), length (L), Append, Delete &amp; the fact that Append/Insert yield a non null co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The set ELEM (L) of elements occurring in a list is the set of all E which can be reached, starting from the list head, by applying next-links until the list tail is encount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66"/>
                </a:solidFill>
                <a:latin typeface="Arial"/>
              </a:rPr>
              <a:t>Follows from the defn of ELEM(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4AA-E312-486E-B31C-CDA1136A29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sired Propertie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e that the Linked List ASM has the following properti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the next-link of a list element Elem points to Elem’, then the previous-link of Elem’ points to El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 is empty iff the next-link of its head points to its tail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 set ELEM (L) of elements occurring in a list is the set of all E which can be reached, starting from the list head, by applying next-links until the list tail is encount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fter applying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end (L, Val), the list is not emp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 newly created linked list is empty and its length is 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y Append/Delete  the list length in/de-creases by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non empty L and arbitrary elements E the following ho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(Delete (L,E),E) = Delete (Append (L,E),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11F-708C-40A7-ACF4-18E5A5AEC1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Problem 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exercise in Chapte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4AE0-36C8-4F91-B3A9-FE3CB5BFCE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Signat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LINKED-LIST (VALUE) : dynamic set, with fcts “pointing” to structures of the following form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often VALUE suppressed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ynamic set ELEM (L) of “objects” currly listed in 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stinguished elems Head (L), Tail (L)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LEM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evious (L), next (L): ELEM (L)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LEM (L)   dyn link fc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 (L) : ELEM (L)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VALUE  yields curr value of list e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itialize(L)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for L </a:t>
            </a:r>
            <a:r>
              <a:rPr b="1" lang="it-IT" sz="2400" spc="-1" strike="noStrike">
                <a:solidFill>
                  <a:srgbClr val="ff9966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LINKED-LIST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as usual, L is suppressed)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s empty linked list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with values in VALUE,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ed as follows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Arial"/>
              </a:rPr>
              <a:t>ELEM := { Head, Tail }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next (Head) := Tail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revious (Tail) := H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cab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revious (Head) := next (Tail) := null (ELEM)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Head/Tail start/end the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t (Head) := cont (Tail) := null (VALUE) 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Head/Tail have no cont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5397480"/>
            <a:ext cx="7467120" cy="1257120"/>
            <a:chOff x="914400" y="5397480"/>
            <a:chExt cx="7467120" cy="1257120"/>
          </a:xfrm>
        </p:grpSpPr>
        <p:sp>
          <p:nvSpPr>
            <p:cNvPr id="50" name=""/>
            <p:cNvSpPr/>
            <p:nvPr/>
          </p:nvSpPr>
          <p:spPr>
            <a:xfrm>
              <a:off x="2133360" y="5397480"/>
              <a:ext cx="76176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95480" y="5397480"/>
              <a:ext cx="76140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57240" y="5397480"/>
              <a:ext cx="76176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0440" y="5397480"/>
              <a:ext cx="76176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38680" y="5397480"/>
              <a:ext cx="76140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560" y="539748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38480" y="5626080"/>
              <a:ext cx="11426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038480" y="5473440"/>
              <a:ext cx="114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5397480"/>
              <a:ext cx="761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He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19760" y="5397480"/>
              <a:ext cx="761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1440" y="6121440"/>
              <a:ext cx="761760" cy="533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33360" y="6121440"/>
              <a:ext cx="837720" cy="4950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revio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560" y="6121440"/>
              <a:ext cx="761760" cy="53316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3436-C196-4239-BCFD-316F89E67E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reateList (VALUE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et L = new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LINKED-LIST ( VALUE ))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in   initialize (L)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14800" y="3124080"/>
            <a:ext cx="5029200" cy="1295280"/>
            <a:chOff x="4114800" y="3124080"/>
            <a:chExt cx="5029200" cy="1295280"/>
          </a:xfrm>
        </p:grpSpPr>
        <p:grpSp>
          <p:nvGrpSpPr>
            <p:cNvPr id="66" name=""/>
            <p:cNvGrpSpPr/>
            <p:nvPr/>
          </p:nvGrpSpPr>
          <p:grpSpPr>
            <a:xfrm>
              <a:off x="4114800" y="3124080"/>
              <a:ext cx="5029200" cy="307080"/>
              <a:chOff x="4114800" y="3124080"/>
              <a:chExt cx="5029200" cy="307080"/>
            </a:xfrm>
          </p:grpSpPr>
          <p:sp>
            <p:nvSpPr>
              <p:cNvPr id="67" name=""/>
              <p:cNvSpPr/>
              <p:nvPr/>
            </p:nvSpPr>
            <p:spPr>
              <a:xfrm>
                <a:off x="4114800" y="3124080"/>
                <a:ext cx="761760" cy="3049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76560" y="3124080"/>
                <a:ext cx="762120" cy="3049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638680" y="3124080"/>
                <a:ext cx="762120" cy="30492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381880" y="3124080"/>
                <a:ext cx="762120" cy="30492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19760" y="3124080"/>
                <a:ext cx="76212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58000" y="3124080"/>
                <a:ext cx="761760" cy="3049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19560" y="3352680"/>
                <a:ext cx="1143000" cy="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6019200" y="3200400"/>
                <a:ext cx="1143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381880" y="411480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0120" y="4114800"/>
              <a:ext cx="761760" cy="30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0" y="4114800"/>
              <a:ext cx="76212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009920" y="3352680"/>
              <a:ext cx="1600200" cy="8380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7467480" y="3352680"/>
              <a:ext cx="144792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0" y="1739880"/>
            <a:ext cx="9144000" cy="1294560"/>
            <a:chOff x="0" y="1739880"/>
            <a:chExt cx="9144000" cy="1294560"/>
          </a:xfrm>
        </p:grpSpPr>
        <p:grpSp>
          <p:nvGrpSpPr>
            <p:cNvPr id="81" name=""/>
            <p:cNvGrpSpPr/>
            <p:nvPr/>
          </p:nvGrpSpPr>
          <p:grpSpPr>
            <a:xfrm>
              <a:off x="4114800" y="1815840"/>
              <a:ext cx="5029200" cy="1218600"/>
              <a:chOff x="4114800" y="1815840"/>
              <a:chExt cx="5029200" cy="121860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4114800" y="1815840"/>
                <a:ext cx="5029200" cy="304560"/>
                <a:chOff x="4114800" y="1815840"/>
                <a:chExt cx="5029200" cy="3045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114800" y="1815840"/>
                  <a:ext cx="762120" cy="30456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876920" y="1815840"/>
                  <a:ext cx="761760" cy="3045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638680" y="1815840"/>
                  <a:ext cx="762120" cy="30456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381880" y="1815840"/>
                  <a:ext cx="762120" cy="30456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1815840"/>
                  <a:ext cx="761760" cy="3045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858000" y="1815840"/>
                  <a:ext cx="762120" cy="30456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019920" y="204408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>
                  <a:off x="6019560" y="189180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6400800" y="2272680"/>
                <a:ext cx="457200" cy="761760"/>
              </a:xfrm>
              <a:prstGeom prst="downArrow">
                <a:avLst>
                  <a:gd name="adj1" fmla="val 50000"/>
                  <a:gd name="adj2" fmla="val 41654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00600" y="2349000"/>
                <a:ext cx="990720" cy="456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El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0" y="1739880"/>
              <a:ext cx="9144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00"/>
                </a:buClr>
                <a:buFont typeface="Franklin Gothic Boo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00"/>
                  </a:solidFill>
                  <a:latin typeface="Franklin Gothic Book"/>
                </a:rPr>
                <a:t>Append (L, Val)</a:t>
              </a: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</a:t>
              </a:r>
              <a:r>
                <a:rPr b="0" lang="it-IT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6320" y="2374920"/>
            <a:ext cx="9067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et e = new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(ELEM (L))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previous (Tail) &amp;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e &amp;Tail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cont (e) :=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with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Link a&amp;b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next (a) :=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previous (b) := a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Insert (L, Val, Elem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et e = new </a:t>
            </a:r>
            <a:r>
              <a:rPr b="1" lang="it-IT" sz="2000" spc="-1" strike="noStrike">
                <a:solidFill>
                  <a:srgbClr val="ffffff"/>
                </a:solidFill>
                <a:latin typeface="Franklin Gothic Book"/>
              </a:rPr>
              <a:t>(ELEM (L))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cont (e) := 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Elem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&amp; 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 e &amp;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next (Elem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6C4-2699-4089-8F11-E55C78AD8A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&amp; Derived Fcts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85800"/>
            <a:ext cx="9144000" cy="2286000"/>
            <a:chOff x="0" y="685800"/>
            <a:chExt cx="9144000" cy="2286000"/>
          </a:xfrm>
        </p:grpSpPr>
        <p:sp>
          <p:nvSpPr>
            <p:cNvPr id="98" name=""/>
            <p:cNvSpPr/>
            <p:nvPr/>
          </p:nvSpPr>
          <p:spPr>
            <a:xfrm>
              <a:off x="0" y="68580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00"/>
                  </a:solidFill>
                  <a:latin typeface="Franklin Gothic Book"/>
                </a:rPr>
                <a:t>Delete (L, e) </a:t>
              </a:r>
              <a:r>
                <a:rPr b="0" lang="it-IT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     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Franklin Gothic Book"/>
                </a:rPr>
                <a:t> 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14800" y="762120"/>
              <a:ext cx="5029200" cy="2209680"/>
              <a:chOff x="4114800" y="762120"/>
              <a:chExt cx="5029200" cy="2209680"/>
            </a:xfrm>
          </p:grpSpPr>
          <p:sp>
            <p:nvSpPr>
              <p:cNvPr id="100" name=""/>
              <p:cNvSpPr/>
              <p:nvPr/>
            </p:nvSpPr>
            <p:spPr>
              <a:xfrm>
                <a:off x="5486400" y="2209680"/>
                <a:ext cx="457200" cy="762120"/>
              </a:xfrm>
              <a:prstGeom prst="downArrow">
                <a:avLst>
                  <a:gd name="adj1" fmla="val 50000"/>
                  <a:gd name="adj2" fmla="val 41673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4114800" y="762120"/>
                <a:ext cx="5029200" cy="1830960"/>
                <a:chOff x="4114800" y="762120"/>
                <a:chExt cx="5029200" cy="1830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381880" y="2286000"/>
                  <a:ext cx="762120" cy="30492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620120" y="228600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v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858000" y="2286000"/>
                  <a:ext cx="762120" cy="30492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114800" y="1295280"/>
                  <a:ext cx="762120" cy="30492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876920" y="129528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638680" y="1295280"/>
                  <a:ext cx="762120" cy="30492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381880" y="1295280"/>
                  <a:ext cx="762120" cy="30492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620120" y="129528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858000" y="1295280"/>
                  <a:ext cx="762120" cy="3049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019920" y="1523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6019560" y="137160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7009920" y="1523880"/>
                  <a:ext cx="1600200" cy="838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7467480" y="1523520"/>
                  <a:ext cx="1447920" cy="838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620120" y="762120"/>
                  <a:ext cx="838080" cy="304560"/>
                </a:xfrm>
                <a:prstGeom prst="ellipse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4114800" y="3276720"/>
            <a:ext cx="5029200" cy="307080"/>
            <a:chOff x="4114800" y="3276720"/>
            <a:chExt cx="5029200" cy="307080"/>
          </a:xfrm>
        </p:grpSpPr>
        <p:sp>
          <p:nvSpPr>
            <p:cNvPr id="117" name=""/>
            <p:cNvSpPr/>
            <p:nvPr/>
          </p:nvSpPr>
          <p:spPr>
            <a:xfrm>
              <a:off x="4114800" y="327672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560" y="3276720"/>
              <a:ext cx="76212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327672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327672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19760" y="3276720"/>
              <a:ext cx="76212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v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58000" y="327672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9560" y="3504960"/>
              <a:ext cx="114300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019200" y="335268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2209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ink previous (e) &amp; next (e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733920"/>
            <a:ext cx="9144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length (L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m ( 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m+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Tail 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it-IT" sz="1800" spc="-1" strike="noStrike">
                <a:solidFill>
                  <a:srgbClr val="ccecff"/>
                </a:solidFill>
                <a:latin typeface="Franklin Gothic Book"/>
              </a:rPr>
              <a:t>well defined by initial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occurs (L, e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i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length (L) : next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e</a:t>
            </a:r>
            <a:r>
              <a:rPr b="1" lang="it-IT" sz="2400" spc="-1" strike="noStrike">
                <a:solidFill>
                  <a:srgbClr val="0000ff"/>
                </a:solidFill>
                <a:latin typeface="Franklin Gothic Book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(e</a:t>
            </a:r>
            <a:r>
              <a:rPr b="1" lang="it-IT" sz="20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ELEM(L)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r>
              <a:rPr b="0" lang="it-IT" sz="2400" spc="-1" strike="noStrike">
                <a:solidFill>
                  <a:srgbClr val="0000ff"/>
                </a:solidFill>
                <a:latin typeface="Franklin Gothic Book"/>
              </a:rPr>
              <a:t>)</a:t>
            </a:r>
            <a:r>
              <a:rPr b="0" lang="it-IT" sz="2800" spc="-1" strike="noStrike">
                <a:solidFill>
                  <a:srgbClr val="eaeaea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position (L, Elem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m ( next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Franklin Gothic Book"/>
              </a:rPr>
              <a:t>m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Elem 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0" lang="it-IT" sz="2000" spc="-1" strike="noStrike">
                <a:solidFill>
                  <a:srgbClr val="eaeaea"/>
                </a:solidFill>
                <a:latin typeface="Franklin Gothic Book"/>
              </a:rPr>
              <a:t>if occurs (L, Elem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AccessByIndex (L, i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             if i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length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AccessByValue (L, Val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m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     </a:t>
            </a:r>
            <a:r>
              <a:rPr b="0" lang="it-IT" sz="2400" spc="-1" strike="noStrike">
                <a:solidFill>
                  <a:srgbClr val="ccecff"/>
                </a:solidFill>
                <a:latin typeface="Franklin Gothic Book"/>
              </a:rPr>
              <a:t>fst occ of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where m= min { i | cont (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) = Val } is defined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101-02F7-4FE5-A507-87EA0913AD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09480"/>
            <a:ext cx="91440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Update (L, Elem, Val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If</a:t>
            </a:r>
            <a:r>
              <a:rPr b="0" lang="it-IT" sz="24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occurs (L, Ele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then cont</a:t>
            </a:r>
            <a:r>
              <a:rPr b="0" lang="it-IT" sz="2800" spc="-1" strike="noStrike">
                <a:solidFill>
                  <a:srgbClr val="eaeaea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(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) :=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se  error msg  “Elem does not occur in L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Cat (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et L = new 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(LINKED-LIST)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Head (L) :=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Tail (L) :=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previous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)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 (L) - {previous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),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 e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- {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,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 e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5334120"/>
            <a:ext cx="8991360" cy="1174320"/>
            <a:chOff x="0" y="5334120"/>
            <a:chExt cx="8991360" cy="1174320"/>
          </a:xfrm>
        </p:grpSpPr>
        <p:grpSp>
          <p:nvGrpSpPr>
            <p:cNvPr id="130" name=""/>
            <p:cNvGrpSpPr/>
            <p:nvPr/>
          </p:nvGrpSpPr>
          <p:grpSpPr>
            <a:xfrm>
              <a:off x="0" y="6095880"/>
              <a:ext cx="5029200" cy="336240"/>
              <a:chOff x="0" y="6095880"/>
              <a:chExt cx="5029200" cy="3362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6095880"/>
                <a:ext cx="76212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2120" y="6095880"/>
                <a:ext cx="761760" cy="33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st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23880" y="6095880"/>
                <a:ext cx="76212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ai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7080" y="6095880"/>
                <a:ext cx="762120" cy="30708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- - -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05320" y="6095880"/>
                <a:ext cx="761760" cy="33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fst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43200" y="6095880"/>
                <a:ext cx="76212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ead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705720" y="5334120"/>
              <a:ext cx="2285640" cy="1174320"/>
              <a:chOff x="6705720" y="5334120"/>
              <a:chExt cx="2285640" cy="11743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6705720" y="5334120"/>
                <a:ext cx="1523880" cy="336240"/>
                <a:chOff x="6705720" y="5334120"/>
                <a:chExt cx="1523880" cy="336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705720" y="5334120"/>
                  <a:ext cx="762120" cy="30708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ffff"/>
                      </a:solidFill>
                      <a:latin typeface="Times New Roman"/>
                    </a:rPr>
                    <a:t>. . .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467840" y="5334120"/>
                  <a:ext cx="761760" cy="3362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ast</a:t>
                  </a:r>
                  <a:r>
                    <a:rPr b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467480" y="6172200"/>
                <a:ext cx="1523880" cy="336240"/>
                <a:chOff x="7467480" y="6172200"/>
                <a:chExt cx="1523880" cy="3362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8229240" y="6172200"/>
                  <a:ext cx="762120" cy="30708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ffff"/>
                      </a:solidFill>
                      <a:latin typeface="Times New Roman"/>
                    </a:rPr>
                    <a:t>- - -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467480" y="6172200"/>
                  <a:ext cx="761760" cy="3362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fst</a:t>
                  </a:r>
                  <a:r>
                    <a:rPr b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7543800" y="5562720"/>
                <a:ext cx="0" cy="685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8153280" y="5562360"/>
                <a:ext cx="0" cy="685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486400" y="5867280"/>
              <a:ext cx="990720" cy="304920"/>
            </a:xfrm>
            <a:prstGeom prst="rightArrow">
              <a:avLst>
                <a:gd name="adj1" fmla="val 50000"/>
                <a:gd name="adj2" fmla="val 81228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02D-6DF1-4EB5-97D7-E097890E5F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Double Linked Lists </a:t>
            </a:r>
            <a:r>
              <a:rPr b="0" lang="it-IT" sz="2400" spc="-1" strike="noStrike">
                <a:solidFill>
                  <a:srgbClr val="ff9966"/>
                </a:solidFill>
                <a:latin typeface="Times New Roman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Times New Roman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(4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09480"/>
            <a:ext cx="9144000" cy="52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Split (L, e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et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= new-tail,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= new-head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Head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:= Head (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Tail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:=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 e &amp;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ELEM (L)   if position (L, E) &lt; position (L, 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then Link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 E &amp; next (L) ( E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Head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:= 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Link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&amp; next (L)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Tail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:= Tail (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forall E</a:t>
            </a:r>
            <a:r>
              <a:rPr b="0" lang="it-IT" sz="2800" spc="-1" strike="noStrike">
                <a:solidFill>
                  <a:srgbClr val="f2cab8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ELEM (L)   if  position (L, e) &lt; position (L, E)                             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	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                           then Link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 E &amp; next (L) ( E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60199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83080" y="1092240"/>
            <a:ext cx="4368960" cy="1252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anklin Gothic Book"/>
              </a:rPr>
              <a:t>where</a:t>
            </a: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Franklin Gothic Book"/>
              </a:rPr>
              <a:t>e’ = new-tail/head</a:t>
            </a:r>
            <a:r>
              <a:rPr b="0" lang="it-IT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cont (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e’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) := null (VAL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next/previous (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e’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) := null (EL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6019920"/>
            <a:ext cx="2286000" cy="1372680"/>
            <a:chOff x="0" y="6019920"/>
            <a:chExt cx="2286000" cy="1372680"/>
          </a:xfrm>
        </p:grpSpPr>
        <p:grpSp>
          <p:nvGrpSpPr>
            <p:cNvPr id="152" name=""/>
            <p:cNvGrpSpPr/>
            <p:nvPr/>
          </p:nvGrpSpPr>
          <p:grpSpPr>
            <a:xfrm>
              <a:off x="0" y="6019920"/>
              <a:ext cx="1523880" cy="1372680"/>
              <a:chOff x="0" y="6019920"/>
              <a:chExt cx="1523880" cy="137268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6019920"/>
                <a:ext cx="762120" cy="13726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                                                                 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2120" y="6019920"/>
                <a:ext cx="761760" cy="1372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                                                                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523880" y="6019920"/>
              <a:ext cx="762120" cy="946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- - -                                     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559400" y="5778360"/>
            <a:ext cx="3429000" cy="793440"/>
            <a:chOff x="4559400" y="5778360"/>
            <a:chExt cx="3429000" cy="793440"/>
          </a:xfrm>
        </p:grpSpPr>
        <p:grpSp>
          <p:nvGrpSpPr>
            <p:cNvPr id="157" name=""/>
            <p:cNvGrpSpPr/>
            <p:nvPr/>
          </p:nvGrpSpPr>
          <p:grpSpPr>
            <a:xfrm>
              <a:off x="4559400" y="5778360"/>
              <a:ext cx="2666880" cy="336240"/>
              <a:chOff x="4559400" y="5778360"/>
              <a:chExt cx="2666880" cy="336240"/>
            </a:xfrm>
          </p:grpSpPr>
          <p:sp>
            <p:nvSpPr>
              <p:cNvPr id="158" name=""/>
              <p:cNvSpPr/>
              <p:nvPr/>
            </p:nvSpPr>
            <p:spPr>
              <a:xfrm>
                <a:off x="4559400" y="5778360"/>
                <a:ext cx="76212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21520" y="5778360"/>
                <a:ext cx="76176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07320" y="5778360"/>
                <a:ext cx="121896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ail (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007320" y="6235560"/>
              <a:ext cx="1981080" cy="336240"/>
              <a:chOff x="6007320" y="6235560"/>
              <a:chExt cx="1981080" cy="336240"/>
            </a:xfrm>
          </p:grpSpPr>
          <p:sp>
            <p:nvSpPr>
              <p:cNvPr id="162" name=""/>
              <p:cNvSpPr/>
              <p:nvPr/>
            </p:nvSpPr>
            <p:spPr>
              <a:xfrm>
                <a:off x="7226280" y="6235560"/>
                <a:ext cx="762120" cy="30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- - -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07320" y="6235560"/>
                <a:ext cx="121896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ead (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C69-4FBD-49A0-AB83-1A6BC2D9CA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ing the Properties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f the next-link of a list element Elem points to Elem’, then the previous-link of Elem’ points to E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Initially true by defn of initialize (L), preserved by each opn due to the defn of Link (L) and the fact that next/previous are modified only using this macr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L is empty if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the next-link of its head points to its tail.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 newly created linked list is empt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ts length is 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fter applying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ppend (L, Val), the list is not empty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y Append/Delete  the list length in/de-crea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y 1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18A-70E5-43DD-A969-43BBA99C6F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16Z</dcterms:modified>
  <cp:revision>712</cp:revision>
  <dc:subject>Illustrating the new-construct of ASMs</dc:subject>
  <dc:title>ASM for linked lists</dc:title>
</cp:coreProperties>
</file>