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183-C7A3-40DB-914C-DBBE1073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CD5-F9C5-4BBB-B003-0808EA62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F05-75F9-46C1-A849-6A4558BF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855-3BB4-43AA-914D-58D6BF14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992-D832-4214-89B1-5BAE2C7B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A1D-AE0B-4720-8DE0-7F46E02F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584-13F8-4D8E-AA41-384FD11A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6E4-E749-4E44-A0DA-ACC3EC05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BDD-CDEE-45C7-893E-4DB71E22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EFE-3BE8-4A2C-9F4A-68DBE944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792-34FC-4248-8E65-15C95757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866-D5C3-4855-9E0D-68645C7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476D-A808-4FF4-B4B0-3AA45B046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reaching workload balance among the agents of a ring (using only communication between right/left neighb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ing message passing mechanism and effective task transfer abstract, assuming fixed number of agents and total worklo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ring nod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ly s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workload inf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ss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is righ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task transfer mss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his left neighbor, transfering a task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lance the workload with the lef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s his workload to balance it with his right neighbo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 eventually the difference between the workload of two nodes becom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8BE-A622-4EBF-A77B-9C127142F6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a ring of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ftNeighb, rightNeighb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kLoa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workload of lef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nsfer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load transfered by righ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formRightNeighb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Lef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Righ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informRightNeigh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ighbLoad = transferLoad = un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054-EB6D-478D-B77A-94F660E22F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42160"/>
            <a:ext cx="277488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nd(workLoad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ghtNeighb.neighb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= work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28880" y="412920"/>
            <a:ext cx="6959520" cy="2609640"/>
            <a:chOff x="1028880" y="412920"/>
            <a:chExt cx="6959520" cy="2609640"/>
          </a:xfrm>
        </p:grpSpPr>
        <p:sp>
          <p:nvSpPr>
            <p:cNvPr id="51" name=""/>
            <p:cNvSpPr/>
            <p:nvPr/>
          </p:nvSpPr>
          <p:spPr>
            <a:xfrm>
              <a:off x="1511280" y="425520"/>
              <a:ext cx="1270080" cy="1079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in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0840" y="660240"/>
              <a:ext cx="172080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nd(workLoa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60640" y="1917720"/>
              <a:ext cx="132084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86680" y="412920"/>
              <a:ext cx="132048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67480" y="17906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Lef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8880" y="18032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Righ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1" idx="6"/>
              <a:endCxn id="54" idx="2"/>
            </p:cNvCxnSpPr>
            <p:nvPr/>
          </p:nvCxnSpPr>
          <p:spPr>
            <a:xfrm>
              <a:off x="2781000" y="964800"/>
              <a:ext cx="35060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4" idx="3"/>
              <a:endCxn id="53" idx="7"/>
            </p:cNvCxnSpPr>
            <p:nvPr/>
          </p:nvCxnSpPr>
          <p:spPr>
            <a:xfrm flipH="1">
              <a:off x="4987080" y="1355400"/>
              <a:ext cx="1492920" cy="7246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1"/>
              <a:endCxn id="51" idx="5"/>
            </p:cNvCxnSpPr>
            <p:nvPr/>
          </p:nvCxnSpPr>
          <p:spPr>
            <a:xfrm flipH="1" flipV="1">
              <a:off x="2595240" y="1345680"/>
              <a:ext cx="1459440" cy="7344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60" name=""/>
          <p:cNvGrpSpPr/>
          <p:nvPr/>
        </p:nvGrpSpPr>
        <p:grpSpPr>
          <a:xfrm>
            <a:off x="0" y="3235320"/>
            <a:ext cx="9144000" cy="992880"/>
            <a:chOff x="0" y="3235320"/>
            <a:chExt cx="9144000" cy="992880"/>
          </a:xfrm>
        </p:grpSpPr>
        <p:sp>
          <p:nvSpPr>
            <p:cNvPr id="61" name=""/>
            <p:cNvSpPr/>
            <p:nvPr/>
          </p:nvSpPr>
          <p:spPr>
            <a:xfrm>
              <a:off x="5676840" y="323532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Lef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neighb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31128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Righ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transfer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4286160"/>
            <a:ext cx="9144000" cy="1511640"/>
            <a:chOff x="0" y="4286160"/>
            <a:chExt cx="9144000" cy="1511640"/>
          </a:xfrm>
        </p:grpSpPr>
        <p:sp>
          <p:nvSpPr>
            <p:cNvPr id="64" name=""/>
            <p:cNvSpPr/>
            <p:nvPr/>
          </p:nvSpPr>
          <p:spPr>
            <a:xfrm>
              <a:off x="4660920" y="4286160"/>
              <a:ext cx="4483080" cy="14655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 = workLoad &gt; neighbLoa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ftNeighb.transferLoad:=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ighb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7080" y="5216400"/>
              <a:ext cx="2286000" cy="581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ived(l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n-US" sz="3200" spc="-1" strike="noStrike" baseline="1000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286160"/>
              <a:ext cx="4483080" cy="9169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+ transferLo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ransfer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6E0-B6AE-4079-914B-18898C8ABA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 AS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Correctness proper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ring load balance ASM, eventually the  workload difference between two neighboring nodes becom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the wieght of run workload differences. Let w = total workLoad of all nodes, a= |Agent|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1: t|a. Then eventually workLoad(n)=w/a for every node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2: otherwise. Then eventually the workLoad of some neighboring nodes will differ by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74F-D8EA-414F-AC90-2BC2C061AE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7 (in particular Fig. 37.1) and Section 82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A61-EA49-4DEB-B0DA-CFB95ED1E9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27Z</dcterms:modified>
  <cp:revision>750</cp:revision>
  <dc:subject>The ASM Method</dc:subject>
  <dc:title>The ASM Method</dc:title>
</cp:coreProperties>
</file>