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508-8186-4274-8A9D-8ABF4CB3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292-445D-4086-98DD-628E9D9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BA4-F703-4682-BC0B-C5AD0AAB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A71-BDEA-4C4A-80E9-C0C53A76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507-3DDD-4580-B86A-454A2A64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B6E-4F8C-40FA-892D-49D4A1CC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D40-0F40-4587-85F7-A9A68ECF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856-3686-419A-8FCA-C52C2360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59E-6BBB-4A16-9711-7FDA5544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B7C-6D0F-48E1-94D7-4150B04F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C91-C809-488F-B016-5A6A582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F0B-D55B-4815-AA58-6FB206E5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2A08-3065-4AAF-846C-BE99312F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9661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for a master launching orders to slave agents, to be confirmed by them and to be executed iff all of them confirm to the master the acceptance of the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enquires about a job to be launched and then waits for answers from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laves answer the enquiry and then wait for the order or the cancellation of the launched job from the 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orders or cancels the job depending on whether all slaves answered to accept it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the master becomes idle, with all slaves either idle too or executing the accepted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CF2-4187-4B42-8DD8-A17F93D88D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4880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tinguished 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er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der   external function yielding jobs to be sent to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l_stat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Answ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et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equipp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e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true,false}   recording whether a job request has been launched by the master to the 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sw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accept,refuse,undef} recording whether a job request has been acceped by the sla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Order, bus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 = idle, order = answer =undef, asked =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Abstraction from message passing: functions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sked, answer, or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ared in writing resp.reading among slaves and mas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388-6749-4ECC-B480-AC8D806A3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70000"/>
            <a:ext cx="4749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ire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ske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79560"/>
            <a:ext cx="434340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OrCancel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so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nswer = ref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order:=can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order:=jo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89040"/>
            <a:ext cx="4762440" cy="6732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Arrived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for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answ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1360" y="577800"/>
            <a:ext cx="7931160" cy="1159200"/>
            <a:chOff x="711360" y="577800"/>
            <a:chExt cx="7931160" cy="1159200"/>
          </a:xfrm>
        </p:grpSpPr>
        <p:grpSp>
          <p:nvGrpSpPr>
            <p:cNvPr id="53" name=""/>
            <p:cNvGrpSpPr/>
            <p:nvPr/>
          </p:nvGrpSpPr>
          <p:grpSpPr>
            <a:xfrm>
              <a:off x="711360" y="577800"/>
              <a:ext cx="7702200" cy="930240"/>
              <a:chOff x="711360" y="577800"/>
              <a:chExt cx="7702200" cy="930240"/>
            </a:xfrm>
          </p:grpSpPr>
          <p:sp>
            <p:nvSpPr>
              <p:cNvPr id="54" name=""/>
              <p:cNvSpPr/>
              <p:nvPr/>
            </p:nvSpPr>
            <p:spPr>
              <a:xfrm>
                <a:off x="711360" y="58104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70200" y="5778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35400" y="7524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swe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0440" y="782640"/>
                <a:ext cx="93312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OrderOrCanc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6320" y="782640"/>
                <a:ext cx="10983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nqui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9" name=""/>
              <p:cNvCxnSpPr>
                <a:stCxn id="54" idx="6"/>
                <a:endCxn id="58" idx="1"/>
              </p:cNvCxnSpPr>
              <p:nvPr/>
            </p:nvCxnSpPr>
            <p:spPr>
              <a:xfrm flipV="1">
                <a:off x="1739520" y="1040760"/>
                <a:ext cx="407160" cy="396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8" idx="3"/>
                <a:endCxn id="55" idx="2"/>
              </p:cNvCxnSpPr>
              <p:nvPr/>
            </p:nvCxnSpPr>
            <p:spPr>
              <a:xfrm>
                <a:off x="3244680" y="1041120"/>
                <a:ext cx="4262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6"/>
                <a:endCxn id="56" idx="1"/>
              </p:cNvCxnSpPr>
              <p:nvPr/>
            </p:nvCxnSpPr>
            <p:spPr>
              <a:xfrm>
                <a:off x="4699080" y="1041120"/>
                <a:ext cx="4370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6" idx="3"/>
                <a:endCxn id="57" idx="1"/>
              </p:cNvCxnSpPr>
              <p:nvPr/>
            </p:nvCxnSpPr>
            <p:spPr>
              <a:xfrm>
                <a:off x="6948360" y="1041120"/>
                <a:ext cx="5328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>
              <a:stCxn id="57" idx="3"/>
              <a:endCxn id="54" idx="4"/>
            </p:cNvCxnSpPr>
            <p:nvPr/>
          </p:nvCxnSpPr>
          <p:spPr>
            <a:xfrm flipH="1">
              <a:off x="1225080" y="1041480"/>
              <a:ext cx="7189200" cy="467280"/>
            </a:xfrm>
            <a:prstGeom prst="bentConnector4">
              <a:avLst>
                <a:gd name="adj1" fmla="val -3179"/>
                <a:gd name="adj2" fmla="val 148959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4" name=""/>
          <p:cNvSpPr/>
          <p:nvPr/>
        </p:nvSpPr>
        <p:spPr>
          <a:xfrm>
            <a:off x="216000" y="5667480"/>
            <a:ext cx="32130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ked the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=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:=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8680" y="5931000"/>
            <a:ext cx="474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Arrived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job, cancel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3994200"/>
            <a:ext cx="9144000" cy="1778040"/>
            <a:chOff x="0" y="3994200"/>
            <a:chExt cx="9144000" cy="1778040"/>
          </a:xfrm>
        </p:grpSpPr>
        <p:grpSp>
          <p:nvGrpSpPr>
            <p:cNvPr id="67" name=""/>
            <p:cNvGrpSpPr/>
            <p:nvPr/>
          </p:nvGrpSpPr>
          <p:grpSpPr>
            <a:xfrm>
              <a:off x="0" y="3994200"/>
              <a:ext cx="9144000" cy="1151640"/>
              <a:chOff x="0" y="3994200"/>
              <a:chExt cx="9144000" cy="115164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9942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70280" y="399420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2360" y="4305240"/>
                <a:ext cx="109872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80280" y="4200480"/>
                <a:ext cx="1368360" cy="514440"/>
              </a:xfrm>
              <a:prstGeom prst="hexagon">
                <a:avLst>
                  <a:gd name="adj" fmla="val 66498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jo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65560" y="41688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83760" y="4146480"/>
                <a:ext cx="660240" cy="62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bus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4" name=""/>
              <p:cNvCxnSpPr>
                <a:stCxn id="68" idx="6"/>
                <a:endCxn id="70" idx="1"/>
              </p:cNvCxnSpPr>
              <p:nvPr/>
            </p:nvCxnSpPr>
            <p:spPr>
              <a:xfrm>
                <a:off x="1028520" y="4457520"/>
                <a:ext cx="3942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5" name=""/>
              <p:cNvCxnSpPr>
                <a:stCxn id="70" idx="3"/>
                <a:endCxn id="69" idx="2"/>
              </p:cNvCxnSpPr>
              <p:nvPr/>
            </p:nvCxnSpPr>
            <p:spPr>
              <a:xfrm>
                <a:off x="2521080" y="4457520"/>
                <a:ext cx="3499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69" idx="6"/>
                <a:endCxn id="72" idx="1"/>
              </p:cNvCxnSpPr>
              <p:nvPr/>
            </p:nvCxnSpPr>
            <p:spPr>
              <a:xfrm>
                <a:off x="3898440" y="4457520"/>
                <a:ext cx="2671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3"/>
                <a:endCxn id="71" idx="1"/>
              </p:cNvCxnSpPr>
              <p:nvPr/>
            </p:nvCxnSpPr>
            <p:spPr>
              <a:xfrm>
                <a:off x="5978520" y="4457520"/>
                <a:ext cx="40248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8" name=""/>
              <p:cNvCxnSpPr>
                <a:stCxn id="71" idx="3"/>
                <a:endCxn id="73" idx="2"/>
              </p:cNvCxnSpPr>
              <p:nvPr/>
            </p:nvCxnSpPr>
            <p:spPr>
              <a:xfrm>
                <a:off x="7748640" y="4457520"/>
                <a:ext cx="7358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sp>
            <p:nvSpPr>
              <p:cNvPr id="79" name=""/>
              <p:cNvSpPr/>
              <p:nvPr/>
            </p:nvSpPr>
            <p:spPr>
              <a:xfrm>
                <a:off x="7083360" y="483876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5480" y="447048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8483760" y="5149800"/>
              <a:ext cx="660240" cy="622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1" idx="2"/>
              <a:endCxn id="81" idx="2"/>
            </p:cNvCxnSpPr>
            <p:nvPr/>
          </p:nvCxnSpPr>
          <p:spPr>
            <a:xfrm flipH="1" rot="16200000">
              <a:off x="7400160" y="4377960"/>
              <a:ext cx="746640" cy="1420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880-0BAA-4FBA-9122-66942DD7F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rre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run of a set of master and slaves, all equipped with the corresponding  master/slave ASM, after the master has started an Enquiry, eventually the master becomes idle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all slaves become don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laves become busy executing the job ordered by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. Follows by run in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3A9-6E17-43AA-BF88-267DF3EED8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definition of a Petri net in Section 30 (Fig.30.1) and a detailed correctness proof in Section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86C-A514-4E24-9CED-2097A7A13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37Z</dcterms:modified>
  <cp:revision>769</cp:revision>
  <dc:subject>The ASM Method</dc:subject>
  <dc:title>The ASM Method</dc:title>
</cp:coreProperties>
</file>