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9870F4-676A-4E15-BCA3-87CC06FD7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EDDF61-5BBF-4809-9DD8-775B47D0A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398-1749-4D73-A09A-AEDE8DC2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232-A4E4-4D87-9DA0-89A9107B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899-6492-478B-9ED9-FA426839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49C-DE32-4938-AF24-937ECE1B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A07-4585-43B7-A98C-60ADAA4C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64D-36BA-4AD9-9170-FF2C95F1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28E-726C-48C7-9D21-5D83FD56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161-01C3-4AEC-B671-E427596F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D6E-5652-495C-A948-ABD37314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5CF-41DB-4745-B86D-D65FA2C2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8F0-AD83-4F8D-833C-9703649D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8B4-8456-4C4A-885C-2D0ED4F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55FF-791B-4150-B02E-A600F8700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llustrating Stepwise Refinemen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ft frontier to neighb(u)” to a submach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selects one by one every node v of neighb(u) to edgewise “shift frontier to v”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nother scheduling f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2451240"/>
            <a:ext cx="8852400" cy="2548440"/>
            <a:chOff x="0" y="2451240"/>
            <a:chExt cx="8852400" cy="2548440"/>
          </a:xfrm>
        </p:grpSpPr>
        <p:sp>
          <p:nvSpPr>
            <p:cNvPr id="249" name=""/>
            <p:cNvSpPr/>
            <p:nvPr/>
          </p:nvSpPr>
          <p:spPr>
            <a:xfrm>
              <a:off x="0" y="2653920"/>
              <a:ext cx="2590920" cy="8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hift-frontier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to-neighb (n)</a:t>
              </a: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815840" y="2451240"/>
              <a:ext cx="7036560" cy="2548440"/>
              <a:chOff x="1815840" y="2451240"/>
              <a:chExt cx="7036560" cy="254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7912080" y="2451240"/>
                <a:ext cx="711360" cy="685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2" name=""/>
              <p:cNvCxnSpPr/>
              <p:nvPr/>
            </p:nvCxnSpPr>
            <p:spPr>
              <a:xfrm>
                <a:off x="7670520" y="279360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53" name=""/>
              <p:cNvSpPr/>
              <p:nvPr/>
            </p:nvSpPr>
            <p:spPr>
              <a:xfrm>
                <a:off x="2129040" y="3946680"/>
                <a:ext cx="1812960" cy="641160"/>
              </a:xfrm>
              <a:prstGeom prst="hexagon">
                <a:avLst>
                  <a:gd name="adj" fmla="val 70691"/>
                  <a:gd name="vf" fmla="val 115470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81520" y="3808440"/>
                <a:ext cx="2400480" cy="1191240"/>
              </a:xfrm>
              <a:prstGeom prst="rect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v=select(neigh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v from neigh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5" name=""/>
              <p:cNvCxnSpPr>
                <a:stCxn id="251" idx="4"/>
                <a:endCxn id="253" idx="0"/>
              </p:cNvCxnSpPr>
              <p:nvPr/>
            </p:nvCxnSpPr>
            <p:spPr>
              <a:xfrm rot="5400000">
                <a:off x="5246280" y="925560"/>
                <a:ext cx="810360" cy="5232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6" name=""/>
              <p:cNvCxnSpPr>
                <a:stCxn id="253" idx="3"/>
                <a:endCxn id="254" idx="1"/>
              </p:cNvCxnSpPr>
              <p:nvPr/>
            </p:nvCxnSpPr>
            <p:spPr>
              <a:xfrm>
                <a:off x="3942000" y="4266720"/>
                <a:ext cx="840240" cy="1080"/>
              </a:xfrm>
              <a:prstGeom prst="straightConnector1">
                <a:avLst/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7" name=""/>
              <p:cNvCxnSpPr>
                <a:stCxn id="254" idx="3"/>
                <a:endCxn id="251" idx="6"/>
              </p:cNvCxnSpPr>
              <p:nvPr/>
            </p:nvCxnSpPr>
            <p:spPr>
              <a:xfrm flipV="1">
                <a:off x="7182000" y="2793600"/>
                <a:ext cx="1442160" cy="1473840"/>
              </a:xfrm>
              <a:prstGeom prst="bentConnector3">
                <a:avLst>
                  <a:gd name="adj1" fmla="val 115855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sp>
            <p:nvSpPr>
              <p:cNvPr id="258" name=""/>
              <p:cNvSpPr/>
              <p:nvPr/>
            </p:nvSpPr>
            <p:spPr>
              <a:xfrm>
                <a:off x="4179960" y="2627280"/>
                <a:ext cx="34927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815840" y="4267080"/>
                <a:ext cx="3301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0" y="5295960"/>
            <a:ext cx="897876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B. With an appropriate mechanism for the initialization of submachines upon calling, executing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shift frontier to neighb(u)” can be replaced by a call to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(u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554-7001-4E00-A251-A99F40C5EF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78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 with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65760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neighb(u)” 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ined by a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ubmachine  “shift-frontier-to-neighb” with actual parameter neighb(u)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arted with initializing neighb to neighb(u), iterating “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v” for every v in neighb, and exited by returning to scan, thus producing the same labeling of nodes as visi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ollary: Correctness and Termination Lemma carry over from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assuming finite fan-out and fair scheduling func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75248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041480" y="861840"/>
            <a:ext cx="7912080" cy="2664360"/>
            <a:chOff x="1041480" y="861840"/>
            <a:chExt cx="7912080" cy="2664360"/>
          </a:xfrm>
        </p:grpSpPr>
        <p:grpSp>
          <p:nvGrpSpPr>
            <p:cNvPr id="265" name=""/>
            <p:cNvGrpSpPr/>
            <p:nvPr/>
          </p:nvGrpSpPr>
          <p:grpSpPr>
            <a:xfrm>
              <a:off x="1041480" y="861840"/>
              <a:ext cx="7912080" cy="2664360"/>
              <a:chOff x="1041480" y="861840"/>
              <a:chExt cx="7912080" cy="266436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1638000" y="977760"/>
                <a:ext cx="7315560" cy="2548440"/>
                <a:chOff x="1638000" y="977760"/>
                <a:chExt cx="7315560" cy="254844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2230200" y="977760"/>
                  <a:ext cx="6723360" cy="2548440"/>
                  <a:chOff x="2230200" y="977760"/>
                  <a:chExt cx="6723360" cy="25484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230200" y="247284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136320" y="977760"/>
                    <a:ext cx="5817240" cy="2548440"/>
                    <a:chOff x="3136320" y="977760"/>
                    <a:chExt cx="5817240" cy="254844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013600" y="97776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83040" y="233496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frontier to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272" name=""/>
                    <p:cNvCxnSpPr>
                      <a:stCxn id="270" idx="4"/>
                      <a:endCxn id="268" idx="0"/>
                    </p:cNvCxnSpPr>
                    <p:nvPr/>
                  </p:nvCxnSpPr>
                  <p:spPr>
                    <a:xfrm rot="5400000">
                      <a:off x="5347440" y="-54792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3" name=""/>
                    <p:cNvCxnSpPr>
                      <a:stCxn id="268" idx="3"/>
                      <a:endCxn id="271" idx="1"/>
                    </p:cNvCxnSpPr>
                    <p:nvPr/>
                  </p:nvCxnSpPr>
                  <p:spPr>
                    <a:xfrm>
                      <a:off x="4042800" y="279324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4" name=""/>
                    <p:cNvCxnSpPr>
                      <a:stCxn id="271" idx="3"/>
                      <a:endCxn id="270" idx="6"/>
                    </p:cNvCxnSpPr>
                    <p:nvPr/>
                  </p:nvCxnSpPr>
                  <p:spPr>
                    <a:xfrm flipV="1">
                      <a:off x="7283160" y="132012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275" name=""/>
                <p:cNvCxnSpPr>
                  <a:stCxn id="268" idx="1"/>
                </p:cNvCxnSpPr>
                <p:nvPr/>
              </p:nvCxnSpPr>
              <p:spPr>
                <a:xfrm flipH="1">
                  <a:off x="1638000" y="27936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76" name=""/>
              <p:cNvGrpSpPr/>
              <p:nvPr/>
            </p:nvGrpSpPr>
            <p:grpSpPr>
              <a:xfrm>
                <a:off x="1041480" y="861840"/>
                <a:ext cx="6973920" cy="916920"/>
                <a:chOff x="1041480" y="861840"/>
                <a:chExt cx="6973920" cy="9169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294080" y="86184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neighb(u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24080" y="1000080"/>
                  <a:ext cx="1812960" cy="641160"/>
                </a:xfrm>
                <a:prstGeom prst="hexagon">
                  <a:avLst>
                    <a:gd name="adj" fmla="val 70691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79" name=""/>
                <p:cNvCxnSpPr>
                  <a:stCxn id="278" idx="3"/>
                  <a:endCxn id="277" idx="1"/>
                </p:cNvCxnSpPr>
                <p:nvPr/>
              </p:nvCxnSpPr>
              <p:spPr>
                <a:xfrm>
                  <a:off x="4037040" y="132048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0" name=""/>
                <p:cNvCxnSpPr>
                  <a:stCxn id="281" idx="6"/>
                  <a:endCxn id="278" idx="1"/>
                </p:cNvCxnSpPr>
                <p:nvPr/>
              </p:nvCxnSpPr>
              <p:spPr>
                <a:xfrm>
                  <a:off x="1993680" y="132048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282" name=""/>
                <p:cNvGrpSpPr/>
                <p:nvPr/>
              </p:nvGrpSpPr>
              <p:grpSpPr>
                <a:xfrm>
                  <a:off x="1041480" y="965160"/>
                  <a:ext cx="951840" cy="711000"/>
                  <a:chOff x="1041480" y="965160"/>
                  <a:chExt cx="951840" cy="7110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282320" y="965160"/>
                    <a:ext cx="711000" cy="711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83" name=""/>
                  <p:cNvCxnSpPr/>
                  <p:nvPr/>
                </p:nvCxnSpPr>
                <p:spPr>
                  <a:xfrm>
                    <a:off x="1041480" y="13204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284" name=""/>
                <p:cNvCxnSpPr/>
                <p:nvPr/>
              </p:nvCxnSpPr>
              <p:spPr>
                <a:xfrm>
                  <a:off x="7772040" y="132048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285" name=""/>
            <p:cNvCxnSpPr/>
            <p:nvPr/>
          </p:nvCxnSpPr>
          <p:spPr>
            <a:xfrm flipV="1">
              <a:off x="1650600" y="166320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6C7-EE54-4D26-8F42-1D9C558DA9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ement of frontier to (fair) queue and of neighb to stac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86696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066680" y="1014480"/>
            <a:ext cx="7912080" cy="2664000"/>
            <a:chOff x="1066680" y="1014480"/>
            <a:chExt cx="7912080" cy="2664000"/>
          </a:xfrm>
        </p:grpSpPr>
        <p:grpSp>
          <p:nvGrpSpPr>
            <p:cNvPr id="289" name=""/>
            <p:cNvGrpSpPr/>
            <p:nvPr/>
          </p:nvGrpSpPr>
          <p:grpSpPr>
            <a:xfrm>
              <a:off x="1663200" y="1130040"/>
              <a:ext cx="7315560" cy="2548440"/>
              <a:chOff x="1663200" y="1130040"/>
              <a:chExt cx="7315560" cy="25484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255400" y="1130040"/>
                <a:ext cx="6723360" cy="2548440"/>
                <a:chOff x="2255400" y="1130040"/>
                <a:chExt cx="6723360" cy="25484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255400" y="2625120"/>
                  <a:ext cx="1812960" cy="641520"/>
                </a:xfrm>
                <a:prstGeom prst="hexagon">
                  <a:avLst>
                    <a:gd name="adj" fmla="val 70651"/>
                    <a:gd name="vf" fmla="val 11547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eigh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161520" y="1130040"/>
                  <a:ext cx="5817240" cy="2548440"/>
                  <a:chOff x="3161520" y="1130040"/>
                  <a:chExt cx="5817240" cy="254844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8038800" y="1130040"/>
                    <a:ext cx="711000" cy="68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label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908240" y="2487240"/>
                    <a:ext cx="2400120" cy="119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v=select(neighb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v from 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hift frontier to v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95" name=""/>
                  <p:cNvCxnSpPr>
                    <a:stCxn id="293" idx="4"/>
                    <a:endCxn id="291" idx="0"/>
                  </p:cNvCxnSpPr>
                  <p:nvPr/>
                </p:nvCxnSpPr>
                <p:spPr>
                  <a:xfrm rot="5400000">
                    <a:off x="5372640" y="-395640"/>
                    <a:ext cx="810000" cy="5232960"/>
                  </a:xfrm>
                  <a:prstGeom prst="bentConnector3">
                    <a:avLst>
                      <a:gd name="adj1" fmla="val 49977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6" name=""/>
                  <p:cNvCxnSpPr>
                    <a:stCxn id="291" idx="3"/>
                    <a:endCxn id="294" idx="1"/>
                  </p:cNvCxnSpPr>
                  <p:nvPr/>
                </p:nvCxnSpPr>
                <p:spPr>
                  <a:xfrm>
                    <a:off x="4068000" y="2945520"/>
                    <a:ext cx="84060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7" name=""/>
                  <p:cNvCxnSpPr>
                    <a:stCxn id="294" idx="3"/>
                    <a:endCxn id="293" idx="6"/>
                  </p:cNvCxnSpPr>
                  <p:nvPr/>
                </p:nvCxnSpPr>
                <p:spPr>
                  <a:xfrm flipV="1">
                    <a:off x="7308360" y="1472400"/>
                    <a:ext cx="1442160" cy="1473840"/>
                  </a:xfrm>
                  <a:prstGeom prst="bentConnector3">
                    <a:avLst>
                      <a:gd name="adj1" fmla="val 115855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</p:grpSp>
          <p:cxnSp>
            <p:nvCxnSpPr>
              <p:cNvPr id="298" name=""/>
              <p:cNvCxnSpPr>
                <a:stCxn id="291" idx="1"/>
              </p:cNvCxnSpPr>
              <p:nvPr/>
            </p:nvCxnSpPr>
            <p:spPr>
              <a:xfrm flipH="1">
                <a:off x="1663200" y="2945520"/>
                <a:ext cx="5925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299" name=""/>
            <p:cNvGrpSpPr/>
            <p:nvPr/>
          </p:nvGrpSpPr>
          <p:grpSpPr>
            <a:xfrm>
              <a:off x="1066680" y="1014480"/>
              <a:ext cx="6973920" cy="916920"/>
              <a:chOff x="1066680" y="1014480"/>
              <a:chExt cx="6973920" cy="916920"/>
            </a:xfrm>
          </p:grpSpPr>
          <p:sp>
            <p:nvSpPr>
              <p:cNvPr id="300" name=""/>
              <p:cNvSpPr/>
              <p:nvPr/>
            </p:nvSpPr>
            <p:spPr>
              <a:xfrm>
                <a:off x="4319280" y="10144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49280" y="1152360"/>
                <a:ext cx="1812960" cy="640800"/>
              </a:xfrm>
              <a:prstGeom prst="hexagon">
                <a:avLst>
                  <a:gd name="adj" fmla="val 70730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02" name=""/>
              <p:cNvCxnSpPr>
                <a:stCxn id="301" idx="3"/>
                <a:endCxn id="300" idx="1"/>
              </p:cNvCxnSpPr>
              <p:nvPr/>
            </p:nvCxnSpPr>
            <p:spPr>
              <a:xfrm>
                <a:off x="4062240" y="1472760"/>
                <a:ext cx="2577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303" name=""/>
              <p:cNvCxnSpPr>
                <a:stCxn id="304" idx="6"/>
                <a:endCxn id="301" idx="1"/>
              </p:cNvCxnSpPr>
              <p:nvPr/>
            </p:nvCxnSpPr>
            <p:spPr>
              <a:xfrm>
                <a:off x="2018880" y="1472760"/>
                <a:ext cx="2311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grpSp>
            <p:nvGrpSpPr>
              <p:cNvPr id="305" name=""/>
              <p:cNvGrpSpPr/>
              <p:nvPr/>
            </p:nvGrpSpPr>
            <p:grpSpPr>
              <a:xfrm>
                <a:off x="1066680" y="1117440"/>
                <a:ext cx="951840" cy="710640"/>
                <a:chOff x="1066680" y="1117440"/>
                <a:chExt cx="951840" cy="7106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307520" y="1117440"/>
                  <a:ext cx="711000" cy="7106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06" name=""/>
                <p:cNvCxnSpPr/>
                <p:nvPr/>
              </p:nvCxnSpPr>
              <p:spPr>
                <a:xfrm>
                  <a:off x="1066680" y="1472400"/>
                  <a:ext cx="2433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307" name=""/>
              <p:cNvCxnSpPr/>
              <p:nvPr/>
            </p:nvCxnSpPr>
            <p:spPr>
              <a:xfrm>
                <a:off x="7797240" y="147276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08" name=""/>
          <p:cNvCxnSpPr/>
          <p:nvPr/>
        </p:nvCxnSpPr>
        <p:spPr>
          <a:xfrm flipV="1">
            <a:off x="1663200" y="1816200"/>
            <a:ext cx="1080" cy="1117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0" y="4786200"/>
            <a:ext cx="91440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hood as stack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= top      delet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 the initialization, neighb(u) is assumed to be given as stack for every 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973680"/>
            <a:ext cx="9144000" cy="764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ier as queu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first (at left end)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ontier := rest(fronti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ppend (at right end)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B. No node occurs more than once in frontier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753160"/>
            <a:ext cx="89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Prove that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rves correctness and termination of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Write and test an efficient C++ program for machine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1A9-7E5B-4E6A-930E-EC979E589D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uting th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of path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sourc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determine “shortest” paths to reachable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paths by accumulated weight of edg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,&lt;) well-founded partial or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path meas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est lower bound glb(m,m’) for every m,m’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ed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 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+: M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adding edge weight to path measur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otonicity:  m &lt; m’ implies m + w &lt; m + 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vity wrt glb: glb(m,m’) + w = glb(m + w,m’ + 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PATH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efined inductively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ight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eight(pe)= weight(p)+weight(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380-C761-4F5B-BDD8-667976E58C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uting minim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ight of pa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5968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defi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n-weight(u) = glb{weight(p)| p is a path from source to u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B. The function is well-defined since by the well-foundedness of &lt;,  countable sets of measures (which may occur due to paths with cycles) have a gl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iv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ximation of min-weight from ab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nodes reachable from sou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fun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-b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 up-bd(u)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very v reachable by an edge e from u s.t. up-bd(v) can be decreased via up-bd(u)+weight(e)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 up-bd(v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 glb{up-bd(v), up-bd(u)+weight(e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If  not up-bd(v) </a:t>
            </a:r>
            <a:r>
              <a:rPr b="0" lang="en-US" sz="2000" spc="-1" strike="noStrike">
                <a:solidFill>
                  <a:srgbClr val="66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up-bd(u)+weight(e),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glb{up-bd(v), up-bd(u)+weight(e)} &lt; up-bd(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161-4730-42AB-A997-8AF0C9ABBF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mpute up-b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:</a:t>
            </a:r>
            <a:br>
              <a:rPr sz="2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me machin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fining “frontier shift” to “lowering up-bd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952200"/>
            <a:ext cx="88646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ntier = {source}      ctl-state = sc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0" y="4699080"/>
            <a:ext cx="8940960" cy="2158920"/>
            <a:chOff x="0" y="4699080"/>
            <a:chExt cx="8940960" cy="2158920"/>
          </a:xfrm>
        </p:grpSpPr>
        <p:grpSp>
          <p:nvGrpSpPr>
            <p:cNvPr id="319" name=""/>
            <p:cNvGrpSpPr/>
            <p:nvPr/>
          </p:nvGrpSpPr>
          <p:grpSpPr>
            <a:xfrm>
              <a:off x="0" y="4699080"/>
              <a:ext cx="8940960" cy="2154960"/>
              <a:chOff x="0" y="4699080"/>
              <a:chExt cx="8940960" cy="215496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4773600"/>
                <a:ext cx="3086280" cy="16794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251160" y="5575320"/>
                <a:ext cx="343080" cy="76320"/>
              </a:xfrm>
              <a:prstGeom prst="rightArrow">
                <a:avLst>
                  <a:gd name="adj1" fmla="val 50000"/>
                  <a:gd name="adj2" fmla="val 112382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3746520" y="4699080"/>
                <a:ext cx="5194440" cy="2154960"/>
                <a:chOff x="3746520" y="4699080"/>
                <a:chExt cx="5194440" cy="21549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746520" y="5052960"/>
                  <a:ext cx="5194440" cy="1801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hift frontier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o v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not up-bd(v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up-bd(u)+weight(u,v)</a:t>
                  </a:r>
                  <a:r>
                    <a:rPr b="0" lang="en-US" sz="2800" spc="-1" strike="noStrike">
                      <a:solidFill>
                        <a:srgbClr val="66ffff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hen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p-bd(v):= glb{up-bd(v), up-bd(u)+weight(u,v)}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v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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frontier then insert v into fronti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746520" y="4699080"/>
                  <a:ext cx="5194440" cy="3682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ower up-bd(v) via u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5" name=""/>
            <p:cNvSpPr/>
            <p:nvPr/>
          </p:nvSpPr>
          <p:spPr>
            <a:xfrm>
              <a:off x="0" y="6515280"/>
              <a:ext cx="2768760" cy="342720"/>
            </a:xfrm>
            <a:prstGeom prst="wedgeRoundRectCallout">
              <a:avLst>
                <a:gd name="adj1" fmla="val 137842"/>
                <a:gd name="adj2" fmla="val -6250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.frontier not a multi-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0" y="2182680"/>
            <a:ext cx="8991720" cy="2297160"/>
            <a:chOff x="0" y="2182680"/>
            <a:chExt cx="8991720" cy="2297160"/>
          </a:xfrm>
        </p:grpSpPr>
        <p:grpSp>
          <p:nvGrpSpPr>
            <p:cNvPr id="327" name=""/>
            <p:cNvGrpSpPr/>
            <p:nvPr/>
          </p:nvGrpSpPr>
          <p:grpSpPr>
            <a:xfrm>
              <a:off x="0" y="2182680"/>
              <a:ext cx="8991720" cy="2297160"/>
              <a:chOff x="0" y="2182680"/>
              <a:chExt cx="8991720" cy="22971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079640" y="2182680"/>
                <a:ext cx="7912080" cy="2297160"/>
                <a:chOff x="1079640" y="2182680"/>
                <a:chExt cx="7912080" cy="229716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1676160" y="2298600"/>
                  <a:ext cx="7315560" cy="2181240"/>
                  <a:chOff x="1676160" y="2298600"/>
                  <a:chExt cx="7315560" cy="218124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268360" y="2298600"/>
                    <a:ext cx="6723360" cy="2181240"/>
                    <a:chOff x="2268360" y="2298600"/>
                    <a:chExt cx="6723360" cy="21812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2268360" y="3793680"/>
                      <a:ext cx="1812960" cy="641520"/>
                    </a:xfrm>
                    <a:prstGeom prst="hexagon">
                      <a:avLst>
                        <a:gd name="adj" fmla="val 70651"/>
                        <a:gd name="vf" fmla="val 11547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mp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3174480" y="2298600"/>
                      <a:ext cx="5817240" cy="2181240"/>
                      <a:chOff x="3174480" y="2298600"/>
                      <a:chExt cx="5817240" cy="218124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051760" y="2298600"/>
                        <a:ext cx="711000" cy="685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abel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4921200" y="3655800"/>
                        <a:ext cx="2400120" cy="824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et v=select(neighb</a:t>
                        </a: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 in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elete v from neighb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shift frontier to v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cxnSp>
                    <p:nvCxnSpPr>
                      <p:cNvPr id="335" name=""/>
                      <p:cNvCxnSpPr>
                        <a:stCxn id="333" idx="4"/>
                        <a:endCxn id="331" idx="0"/>
                      </p:cNvCxnSpPr>
                      <p:nvPr/>
                    </p:nvCxnSpPr>
                    <p:spPr>
                      <a:xfrm rot="5400000">
                        <a:off x="5385600" y="772920"/>
                        <a:ext cx="810000" cy="5232960"/>
                      </a:xfrm>
                      <a:prstGeom prst="bentConnector3">
                        <a:avLst>
                          <a:gd name="adj1" fmla="val 49977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6" name=""/>
                      <p:cNvCxnSpPr>
                        <a:stCxn id="331" idx="3"/>
                        <a:endCxn id="334" idx="1"/>
                      </p:cNvCxnSpPr>
                      <p:nvPr/>
                    </p:nvCxnSpPr>
                    <p:spPr>
                      <a:xfrm>
                        <a:off x="4080960" y="4114080"/>
                        <a:ext cx="840600" cy="1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7" name=""/>
                      <p:cNvCxnSpPr>
                        <a:stCxn id="334" idx="3"/>
                        <a:endCxn id="333" idx="6"/>
                      </p:cNvCxnSpPr>
                      <p:nvPr/>
                    </p:nvCxnSpPr>
                    <p:spPr>
                      <a:xfrm flipV="1">
                        <a:off x="7321320" y="2640960"/>
                        <a:ext cx="1442160" cy="1473840"/>
                      </a:xfrm>
                      <a:prstGeom prst="bentConnector3">
                        <a:avLst>
                          <a:gd name="adj1" fmla="val 115855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</p:grpSp>
              </p:grpSp>
              <p:cxnSp>
                <p:nvCxnSpPr>
                  <p:cNvPr id="338" name=""/>
                  <p:cNvCxnSpPr>
                    <a:stCxn id="331" idx="1"/>
                  </p:cNvCxnSpPr>
                  <p:nvPr/>
                </p:nvCxnSpPr>
                <p:spPr>
                  <a:xfrm flipH="1">
                    <a:off x="1676160" y="4114440"/>
                    <a:ext cx="59256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1079640" y="2182680"/>
                  <a:ext cx="6973920" cy="916920"/>
                  <a:chOff x="1079640" y="2182680"/>
                  <a:chExt cx="6973920" cy="9169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332240" y="2182680"/>
                    <a:ext cx="3492720" cy="9169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u=select(f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ontier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u from fronti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itialize neighb by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(u,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eighb(u)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262240" y="2320920"/>
                    <a:ext cx="1812960" cy="641160"/>
                  </a:xfrm>
                  <a:prstGeom prst="hexagon">
                    <a:avLst>
                      <a:gd name="adj" fmla="val 70691"/>
                      <a:gd name="vf" fmla="val 115470"/>
                    </a:avLst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frontier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42" name=""/>
                  <p:cNvCxnSpPr>
                    <a:stCxn id="341" idx="3"/>
                    <a:endCxn id="340" idx="1"/>
                  </p:cNvCxnSpPr>
                  <p:nvPr/>
                </p:nvCxnSpPr>
                <p:spPr>
                  <a:xfrm>
                    <a:off x="4075200" y="2641320"/>
                    <a:ext cx="2577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43" name=""/>
                  <p:cNvCxnSpPr>
                    <a:stCxn id="344" idx="6"/>
                    <a:endCxn id="341" idx="1"/>
                  </p:cNvCxnSpPr>
                  <p:nvPr/>
                </p:nvCxnSpPr>
                <p:spPr>
                  <a:xfrm>
                    <a:off x="2031840" y="2641320"/>
                    <a:ext cx="2311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1079640" y="2286000"/>
                    <a:ext cx="951840" cy="711000"/>
                    <a:chOff x="1079640" y="2286000"/>
                    <a:chExt cx="951840" cy="71100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320480" y="2286000"/>
                      <a:ext cx="711000" cy="711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46" name=""/>
                    <p:cNvCxnSpPr/>
                    <p:nvPr/>
                  </p:nvCxnSpPr>
                  <p:spPr>
                    <a:xfrm>
                      <a:off x="1079640" y="2641320"/>
                      <a:ext cx="24336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  <a:tailEnd len="med" type="triangle" w="med"/>
                    </a:ln>
                  </p:spPr>
                </p:cxnSp>
              </p:grpSp>
              <p:cxnSp>
                <p:nvCxnSpPr>
                  <p:cNvPr id="347" name=""/>
                  <p:cNvCxnSpPr/>
                  <p:nvPr/>
                </p:nvCxnSpPr>
                <p:spPr>
                  <a:xfrm>
                    <a:off x="7810200" y="2641320"/>
                    <a:ext cx="2437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0" y="2971800"/>
                <a:ext cx="1663920" cy="1117440"/>
                <a:chOff x="0" y="2971800"/>
                <a:chExt cx="1663920" cy="1117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0" y="3022560"/>
                  <a:ext cx="1270080" cy="6487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1" lang="it-IT" sz="3200" spc="-1" strike="noStrike" baseline="-25000">
                      <a:solidFill>
                        <a:srgbClr val="000000"/>
                      </a:solidFill>
                      <a:latin typeface="Arial"/>
                    </a:rPr>
                    <a:t>4/5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it-IT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50" name=""/>
                <p:cNvCxnSpPr/>
                <p:nvPr/>
              </p:nvCxnSpPr>
              <p:spPr>
                <a:xfrm flipV="1">
                  <a:off x="1663200" y="2971800"/>
                  <a:ext cx="1080" cy="111780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351" name=""/>
            <p:cNvSpPr/>
            <p:nvPr/>
          </p:nvSpPr>
          <p:spPr>
            <a:xfrm>
              <a:off x="0" y="3662280"/>
              <a:ext cx="1270080" cy="703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o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D94-20B6-4DA5-8AF5-EE20F7C5C9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8991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termination and completeness proofs for M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9525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 (for finite grap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scan step diminishes the size of fro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label step shrinks neighb; each head node v upon entering frontier gets up-bd(v) updated to a smaller value. Since &lt; is well-founded, this can happen only finitely of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22440" y="3681360"/>
            <a:ext cx="7912080" cy="2664000"/>
            <a:chOff x="622440" y="3681360"/>
            <a:chExt cx="7912080" cy="2664000"/>
          </a:xfrm>
        </p:grpSpPr>
        <p:grpSp>
          <p:nvGrpSpPr>
            <p:cNvPr id="355" name=""/>
            <p:cNvGrpSpPr/>
            <p:nvPr/>
          </p:nvGrpSpPr>
          <p:grpSpPr>
            <a:xfrm>
              <a:off x="622440" y="3681360"/>
              <a:ext cx="7912080" cy="2664000"/>
              <a:chOff x="622440" y="3681360"/>
              <a:chExt cx="7912080" cy="26640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218960" y="3796920"/>
                <a:ext cx="7315560" cy="2548440"/>
                <a:chOff x="1218960" y="3796920"/>
                <a:chExt cx="7315560" cy="254844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1811160" y="3796920"/>
                  <a:ext cx="6723360" cy="2548440"/>
                  <a:chOff x="1811160" y="3796920"/>
                  <a:chExt cx="6723360" cy="25484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1811160" y="529200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2717280" y="3796920"/>
                    <a:ext cx="5817240" cy="2548440"/>
                    <a:chOff x="2717280" y="3796920"/>
                    <a:chExt cx="5817240" cy="254844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7594560" y="379692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464000" y="515412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up-bd(v) via 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62" name=""/>
                    <p:cNvCxnSpPr>
                      <a:stCxn id="360" idx="4"/>
                      <a:endCxn id="358" idx="0"/>
                    </p:cNvCxnSpPr>
                    <p:nvPr/>
                  </p:nvCxnSpPr>
                  <p:spPr>
                    <a:xfrm rot="5400000">
                      <a:off x="4928400" y="227124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3" name=""/>
                    <p:cNvCxnSpPr>
                      <a:stCxn id="358" idx="3"/>
                      <a:endCxn id="361" idx="1"/>
                    </p:cNvCxnSpPr>
                    <p:nvPr/>
                  </p:nvCxnSpPr>
                  <p:spPr>
                    <a:xfrm>
                      <a:off x="3623760" y="561240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4" name=""/>
                    <p:cNvCxnSpPr>
                      <a:stCxn id="361" idx="3"/>
                      <a:endCxn id="360" idx="6"/>
                    </p:cNvCxnSpPr>
                    <p:nvPr/>
                  </p:nvCxnSpPr>
                  <p:spPr>
                    <a:xfrm flipV="1">
                      <a:off x="6864120" y="413928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365" name=""/>
                <p:cNvCxnSpPr>
                  <a:stCxn id="358" idx="1"/>
                </p:cNvCxnSpPr>
                <p:nvPr/>
              </p:nvCxnSpPr>
              <p:spPr>
                <a:xfrm flipH="1">
                  <a:off x="1218960" y="56124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366" name=""/>
              <p:cNvGrpSpPr/>
              <p:nvPr/>
            </p:nvGrpSpPr>
            <p:grpSpPr>
              <a:xfrm>
                <a:off x="622440" y="3681360"/>
                <a:ext cx="6973920" cy="916920"/>
                <a:chOff x="622440" y="3681360"/>
                <a:chExt cx="6973920" cy="916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875040" y="368136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(u,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eighb(u)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05040" y="3819240"/>
                  <a:ext cx="1812960" cy="640800"/>
                </a:xfrm>
                <a:prstGeom prst="hexagon">
                  <a:avLst>
                    <a:gd name="adj" fmla="val 70730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69" name=""/>
                <p:cNvCxnSpPr>
                  <a:stCxn id="368" idx="3"/>
                  <a:endCxn id="367" idx="1"/>
                </p:cNvCxnSpPr>
                <p:nvPr/>
              </p:nvCxnSpPr>
              <p:spPr>
                <a:xfrm>
                  <a:off x="3618000" y="413964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70" name=""/>
                <p:cNvCxnSpPr>
                  <a:stCxn id="371" idx="6"/>
                  <a:endCxn id="368" idx="1"/>
                </p:cNvCxnSpPr>
                <p:nvPr/>
              </p:nvCxnSpPr>
              <p:spPr>
                <a:xfrm>
                  <a:off x="1574640" y="413964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72" name=""/>
                <p:cNvGrpSpPr/>
                <p:nvPr/>
              </p:nvGrpSpPr>
              <p:grpSpPr>
                <a:xfrm>
                  <a:off x="622440" y="3784320"/>
                  <a:ext cx="951840" cy="710640"/>
                  <a:chOff x="622440" y="3784320"/>
                  <a:chExt cx="951840" cy="7106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863280" y="3784320"/>
                    <a:ext cx="711000" cy="7106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73" name=""/>
                  <p:cNvCxnSpPr/>
                  <p:nvPr/>
                </p:nvCxnSpPr>
                <p:spPr>
                  <a:xfrm>
                    <a:off x="622440" y="41392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374" name=""/>
                <p:cNvCxnSpPr/>
                <p:nvPr/>
              </p:nvCxnSpPr>
              <p:spPr>
                <a:xfrm>
                  <a:off x="7353000" y="413964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"/>
            <p:cNvCxnSpPr/>
            <p:nvPr/>
          </p:nvCxnSpPr>
          <p:spPr>
            <a:xfrm flipV="1">
              <a:off x="1206000" y="446976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56C-2865-4773-8C98-5E2EACF7D2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rrectness Proof for the computation of min-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101592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or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min-weight(u)= up-bd(u) for every 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ince up-bd(u) is a lower bound 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(p) for every path p from source to u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since min-weight by definition is the glb of such path weights, als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l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t each step t and for each v: min-weight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2B5-BDED-4DC4-9B12-1266465BAB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0"/>
            <a:ext cx="830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the approximation of min-weight by up-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0" y="431640"/>
            <a:ext cx="91440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ach step t, for each v: 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Proof 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(t). For t=0 the claim holds by defini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+1 (only) rule “lower up-bd(v) via u” sets 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namely to  glb{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}. Remains to sh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which is true by  ind.hyp. for v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tter relation follows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*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min-weight(u)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nd.hyp.) via monotonicity of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d (*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| p path from source to v}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.(u,v)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+weight(u,v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glb distri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({weight(p) | p path from source to u})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-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n-weight(u) 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72940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663-1768-4B30-86AD-3632124E05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82760" y="0"/>
            <a:ext cx="8305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lower bou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up-bd(v) of weight of paths to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571320"/>
            <a:ext cx="91440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 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(path length). For t=0 the claim holds by defin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p.(u,v) be a path of length t+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up-bd(u) +weight(u,v)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termination of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otherwis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ower up-bd(v) via 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fi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d.hyp.)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 by monotonicity of 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up-bd(u) +weight(u,v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weight(u,v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(p.(u,v)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35608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4F7-5B52-4A0A-9EE4-7444C11A52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2 (Incremental Design by Refinement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71D-387E-4EB6-91E8-B09A84446F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antiating data struct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and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,&lt;) = (Nat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&lt;) well-founded order of shortest path measures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st lower bound glb(m,m’) = min(m,m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WEIGHT = (Nat, +)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ith n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tonicity:  m&lt;m’ implies m+w&lt;m’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 distributive wrt +: glb(m +w,m’ +w) = glb(m,m’)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n instantiation to the constrained shortest path problem see K. Stroetmann’s paper in JUCS 199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jkstra’s refinement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e Ch.3.2.1 of the Asm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9FA-396E-490A-BFA8-A742F23378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F. Moore: The Shortest Path Through a Ma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International Symposium on the Theory of Switching, Part II, Vol. 30 of “The Annals of the Computation Laboratory of Harvard University”, Cambridge, MA, 1959, Harvard University Pr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. Stroetmann: The Constrained Shortest Path Problem: A Case Study in Using A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J. of Universal Computer Science 3 (4)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Chapter 3.2.1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086-C8E3-4DA3-8EE2-5F887B9C5D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: Illustrating Stepwise Refin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30040"/>
            <a:ext cx="91440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mputing Graph Reachability Set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Wave Propagation of Frontier: 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orhoodwise Frontier Propagation 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dgewise Frontier Extension per Neighborhood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Queue and Stack Implementation of Frontier and Neighborhood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troducing abstract weights for measuring paths and computing shortest  path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5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Moore’s algorith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stantiating data structures for measures and we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3C3-DED5-4263-8D04-ED35993224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1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Graph Reachability Se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directed graph (NODE, E, source) (here mostly assumed to be finite) with a distinguished source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very node which is reachable from source via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rrange the labeling so that it terminates for finite grap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at source, move along edges to neighbor nodes and label every reached node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ed stepwise, pushing in each step the “frontier” of the lastly reached nodes one edge further,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without revisiting nodes which have already been labeled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9BB-5457-4F7B-8B3D-AB845205E4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Reachability Set: Machine 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0448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ly source is labeled as visite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V(source)=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ave Propagat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Ru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ll (u,v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 s.t. u is labeled as visited &amp; v is not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v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2989440"/>
            <a:ext cx="9144000" cy="1739880"/>
            <a:chOff x="0" y="2989440"/>
            <a:chExt cx="9144000" cy="1739880"/>
          </a:xfrm>
        </p:grpSpPr>
        <p:sp>
          <p:nvSpPr>
            <p:cNvPr id="60" name=""/>
            <p:cNvSpPr/>
            <p:nvPr/>
          </p:nvSpPr>
          <p:spPr>
            <a:xfrm>
              <a:off x="0" y="3154680"/>
              <a:ext cx="3987720" cy="12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ctness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ch node which is reachable from source is exactly onc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36960" y="2989440"/>
              <a:ext cx="5207040" cy="1739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Existence claim : induction on the length of paths from sou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queness property follows from the rule guard  enforcing that only nodes not yet labeled as visited are considered for being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4568760"/>
            <a:ext cx="9144000" cy="1931760"/>
            <a:chOff x="0" y="4568760"/>
            <a:chExt cx="9144000" cy="1931760"/>
          </a:xfrm>
        </p:grpSpPr>
        <p:sp>
          <p:nvSpPr>
            <p:cNvPr id="63" name=""/>
            <p:cNvSpPr/>
            <p:nvPr/>
          </p:nvSpPr>
          <p:spPr>
            <a:xfrm>
              <a:off x="0" y="4568760"/>
              <a:ext cx="3809880" cy="9475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tion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finite graphs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achine termin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5553000"/>
              <a:ext cx="5220000" cy="947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ning of termination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re is no more edge (u,v)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hose tail 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labeled as visited but whose head v is no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97480" y="5167080"/>
              <a:ext cx="37465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By each rule applic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et of nodes which are no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beled as visited decreas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0FE-5654-4551-9DA1-DF16951D8F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ying the FRONTIER of wave propag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876240"/>
            <a:ext cx="89535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ie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nodes lastly labeled as visited (*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ntier = {source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source is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4200"/>
            <a:ext cx="7797600" cy="1145880"/>
            <a:chOff x="0" y="2284200"/>
            <a:chExt cx="7797600" cy="1145880"/>
          </a:xfrm>
        </p:grpSpPr>
        <p:sp>
          <p:nvSpPr>
            <p:cNvPr id="69" name=""/>
            <p:cNvSpPr/>
            <p:nvPr/>
          </p:nvSpPr>
          <p:spPr>
            <a:xfrm>
              <a:off x="0" y="262908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943280" y="2284200"/>
              <a:ext cx="5854320" cy="1145880"/>
              <a:chOff x="1943280" y="2284200"/>
              <a:chExt cx="5854320" cy="1145880"/>
            </a:xfrm>
          </p:grpSpPr>
          <p:sp>
            <p:nvSpPr>
              <p:cNvPr id="71" name=""/>
              <p:cNvSpPr/>
              <p:nvPr/>
            </p:nvSpPr>
            <p:spPr>
              <a:xfrm>
                <a:off x="2489400" y="261648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81560" y="251316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3" name=""/>
              <p:cNvCxnSpPr>
                <a:stCxn id="71" idx="6"/>
                <a:endCxn id="72" idx="1"/>
              </p:cNvCxnSpPr>
              <p:nvPr/>
            </p:nvCxnSpPr>
            <p:spPr>
              <a:xfrm>
                <a:off x="3200040" y="297144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74" name=""/>
              <p:cNvCxnSpPr>
                <a:stCxn id="72" idx="3"/>
                <a:endCxn id="71" idx="0"/>
              </p:cNvCxnSpPr>
              <p:nvPr/>
            </p:nvCxnSpPr>
            <p:spPr>
              <a:xfrm flipH="1" flipV="1">
                <a:off x="2844720" y="261576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1943280" y="298476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0" y="5981760"/>
            <a:ext cx="9144000" cy="847800"/>
            <a:chOff x="0" y="5981760"/>
            <a:chExt cx="9144000" cy="847800"/>
          </a:xfrm>
        </p:grpSpPr>
        <p:sp>
          <p:nvSpPr>
            <p:cNvPr id="77" name=""/>
            <p:cNvSpPr/>
            <p:nvPr/>
          </p:nvSpPr>
          <p:spPr>
            <a:xfrm>
              <a:off x="0" y="5981760"/>
              <a:ext cx="9144000" cy="431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mma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teps are in 1-1 correspondence &amp; perform the same labeling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461280"/>
              <a:ext cx="4978440" cy="368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of: by run induction from  (*) abo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3575160"/>
            <a:ext cx="9144000" cy="2255400"/>
            <a:chOff x="0" y="3575160"/>
            <a:chExt cx="9144000" cy="2255400"/>
          </a:xfrm>
        </p:grpSpPr>
        <p:sp>
          <p:nvSpPr>
            <p:cNvPr id="80" name=""/>
            <p:cNvSpPr/>
            <p:nvPr/>
          </p:nvSpPr>
          <p:spPr>
            <a:xfrm>
              <a:off x="5956200" y="4367160"/>
              <a:ext cx="2451240" cy="673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 v as visite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isited(v)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68880" y="3795840"/>
              <a:ext cx="2819520" cy="459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b(u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{v| (u,v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0" y="3575160"/>
              <a:ext cx="5943600" cy="2255400"/>
              <a:chOff x="0" y="3575160"/>
              <a:chExt cx="5943600" cy="225540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3575160"/>
                <a:ext cx="3975120" cy="119124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hift frontier to neighb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forall v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761000"/>
                <a:ext cx="5943600" cy="1069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324480" y="5180040"/>
              <a:ext cx="2819520" cy="64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B.Nodes in frontier ar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9EA-8CE3-4420-AC6C-1C0BE53616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run computing the reachability s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78160" y="3579840"/>
            <a:ext cx="533160" cy="533160"/>
            <a:chOff x="3278160" y="3579840"/>
            <a:chExt cx="533160" cy="533160"/>
          </a:xfrm>
        </p:grpSpPr>
        <p:sp>
          <p:nvSpPr>
            <p:cNvPr id="88" name=""/>
            <p:cNvSpPr/>
            <p:nvPr/>
          </p:nvSpPr>
          <p:spPr>
            <a:xfrm>
              <a:off x="3278160" y="35798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4120" y="35798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68880" y="2436840"/>
            <a:ext cx="533160" cy="533520"/>
            <a:chOff x="4268880" y="2436840"/>
            <a:chExt cx="533160" cy="533520"/>
          </a:xfrm>
        </p:grpSpPr>
        <p:sp>
          <p:nvSpPr>
            <p:cNvPr id="91" name=""/>
            <p:cNvSpPr/>
            <p:nvPr/>
          </p:nvSpPr>
          <p:spPr>
            <a:xfrm>
              <a:off x="4268880" y="24368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4840" y="24368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73440" y="3960720"/>
            <a:ext cx="533520" cy="533520"/>
            <a:chOff x="4573440" y="3960720"/>
            <a:chExt cx="533520" cy="533520"/>
          </a:xfrm>
        </p:grpSpPr>
        <p:sp>
          <p:nvSpPr>
            <p:cNvPr id="94" name=""/>
            <p:cNvSpPr/>
            <p:nvPr/>
          </p:nvSpPr>
          <p:spPr>
            <a:xfrm>
              <a:off x="4573440" y="39607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9760" y="3960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878360" y="2970360"/>
            <a:ext cx="533520" cy="533160"/>
            <a:chOff x="4878360" y="2970360"/>
            <a:chExt cx="533520" cy="533160"/>
          </a:xfrm>
        </p:grpSpPr>
        <p:sp>
          <p:nvSpPr>
            <p:cNvPr id="97" name=""/>
            <p:cNvSpPr/>
            <p:nvPr/>
          </p:nvSpPr>
          <p:spPr>
            <a:xfrm>
              <a:off x="4878360" y="29703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297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402240" y="4189320"/>
            <a:ext cx="533520" cy="533520"/>
            <a:chOff x="6402240" y="4189320"/>
            <a:chExt cx="533520" cy="533520"/>
          </a:xfrm>
        </p:grpSpPr>
        <p:sp>
          <p:nvSpPr>
            <p:cNvPr id="100" name=""/>
            <p:cNvSpPr/>
            <p:nvPr/>
          </p:nvSpPr>
          <p:spPr>
            <a:xfrm>
              <a:off x="6402240" y="41893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8560" y="4189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402240" y="2513160"/>
            <a:ext cx="533520" cy="533160"/>
            <a:chOff x="6402240" y="2513160"/>
            <a:chExt cx="533520" cy="533160"/>
          </a:xfrm>
        </p:grpSpPr>
        <p:sp>
          <p:nvSpPr>
            <p:cNvPr id="103" name=""/>
            <p:cNvSpPr/>
            <p:nvPr/>
          </p:nvSpPr>
          <p:spPr>
            <a:xfrm>
              <a:off x="6402240" y="25131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8560" y="251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06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88" idx="5"/>
            <a:endCxn id="94" idx="2"/>
          </p:cNvCxnSpPr>
          <p:nvPr/>
        </p:nvCxnSpPr>
        <p:spPr>
          <a:xfrm>
            <a:off x="3733920" y="4035240"/>
            <a:ext cx="840240" cy="192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8" idx="7"/>
            <a:endCxn id="91" idx="3"/>
          </p:cNvCxnSpPr>
          <p:nvPr/>
        </p:nvCxnSpPr>
        <p:spPr>
          <a:xfrm flipV="1">
            <a:off x="3733920" y="2891880"/>
            <a:ext cx="613440" cy="765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1" idx="7"/>
            <a:endCxn id="103" idx="2"/>
          </p:cNvCxnSpPr>
          <p:nvPr/>
        </p:nvCxnSpPr>
        <p:spPr>
          <a:xfrm>
            <a:off x="4723920" y="2514600"/>
            <a:ext cx="1678680" cy="265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3" idx="5"/>
            <a:endCxn id="107" idx="0"/>
          </p:cNvCxnSpPr>
          <p:nvPr/>
        </p:nvCxnSpPr>
        <p:spPr>
          <a:xfrm>
            <a:off x="6857640" y="2968200"/>
            <a:ext cx="840600" cy="383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7" idx="7"/>
            <a:endCxn id="103" idx="3"/>
          </p:cNvCxnSpPr>
          <p:nvPr/>
        </p:nvCxnSpPr>
        <p:spPr>
          <a:xfrm flipV="1">
            <a:off x="5333760" y="2967840"/>
            <a:ext cx="1146600" cy="80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0"/>
            <a:endCxn id="97" idx="4"/>
          </p:cNvCxnSpPr>
          <p:nvPr/>
        </p:nvCxnSpPr>
        <p:spPr>
          <a:xfrm flipV="1">
            <a:off x="4801680" y="3503160"/>
            <a:ext cx="34380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3" idx="4"/>
            <a:endCxn id="94" idx="7"/>
          </p:cNvCxnSpPr>
          <p:nvPr/>
        </p:nvCxnSpPr>
        <p:spPr>
          <a:xfrm flipH="1">
            <a:off x="5028480" y="3046320"/>
            <a:ext cx="1640520" cy="992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0" idx="7"/>
            <a:endCxn id="106" idx="3"/>
          </p:cNvCxnSpPr>
          <p:nvPr/>
        </p:nvCxnSpPr>
        <p:spPr>
          <a:xfrm flipV="1">
            <a:off x="6858000" y="3806640"/>
            <a:ext cx="689760" cy="460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4" idx="6"/>
            <a:endCxn id="100" idx="2"/>
          </p:cNvCxnSpPr>
          <p:nvPr/>
        </p:nvCxnSpPr>
        <p:spPr>
          <a:xfrm>
            <a:off x="5106960" y="4227120"/>
            <a:ext cx="129600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54480" y="3122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7880" y="28940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315200" y="1587600"/>
            <a:ext cx="1828800" cy="533160"/>
            <a:chOff x="7315200" y="1587600"/>
            <a:chExt cx="1828800" cy="533160"/>
          </a:xfrm>
        </p:grpSpPr>
        <p:sp>
          <p:nvSpPr>
            <p:cNvPr id="120" name=""/>
            <p:cNvSpPr/>
            <p:nvPr/>
          </p:nvSpPr>
          <p:spPr>
            <a:xfrm>
              <a:off x="7315200" y="1587600"/>
              <a:ext cx="1828800" cy="5331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160"/>
                <a:gd name="textAreaBottom" fmla="*/ 4183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3800" y="16635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460520" y="1892160"/>
            <a:ext cx="14479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79560"/>
            <a:ext cx="12952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8160" y="2436840"/>
            <a:ext cx="1828440" cy="2057400"/>
            <a:chOff x="3278160" y="2436840"/>
            <a:chExt cx="1828440" cy="2057400"/>
          </a:xfrm>
        </p:grpSpPr>
        <p:grpSp>
          <p:nvGrpSpPr>
            <p:cNvPr id="125" name=""/>
            <p:cNvGrpSpPr/>
            <p:nvPr/>
          </p:nvGrpSpPr>
          <p:grpSpPr>
            <a:xfrm>
              <a:off x="4268520" y="2436840"/>
              <a:ext cx="533160" cy="533160"/>
              <a:chOff x="4268520" y="2436840"/>
              <a:chExt cx="533160" cy="533160"/>
            </a:xfrm>
          </p:grpSpPr>
          <p:sp>
            <p:nvSpPr>
              <p:cNvPr id="126" name=""/>
              <p:cNvSpPr/>
              <p:nvPr/>
            </p:nvSpPr>
            <p:spPr>
              <a:xfrm>
                <a:off x="4268520" y="2436840"/>
                <a:ext cx="533160" cy="5331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44480" y="243684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278160" y="3579840"/>
              <a:ext cx="533160" cy="533160"/>
              <a:chOff x="3278160" y="3579840"/>
              <a:chExt cx="533160" cy="533160"/>
            </a:xfrm>
          </p:grpSpPr>
          <p:sp>
            <p:nvSpPr>
              <p:cNvPr id="129" name=""/>
              <p:cNvSpPr/>
              <p:nvPr/>
            </p:nvSpPr>
            <p:spPr>
              <a:xfrm>
                <a:off x="3278160" y="3579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4120" y="3579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573440" y="3960720"/>
              <a:ext cx="533160" cy="533520"/>
              <a:chOff x="4573440" y="3960720"/>
              <a:chExt cx="533160" cy="533520"/>
            </a:xfrm>
          </p:grpSpPr>
          <p:sp>
            <p:nvSpPr>
              <p:cNvPr id="132" name=""/>
              <p:cNvSpPr/>
              <p:nvPr/>
            </p:nvSpPr>
            <p:spPr>
              <a:xfrm>
                <a:off x="4573440" y="39607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49400" y="3960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4268880" y="2436840"/>
            <a:ext cx="2666520" cy="2286000"/>
            <a:chOff x="4268880" y="2436840"/>
            <a:chExt cx="2666520" cy="2286000"/>
          </a:xfrm>
        </p:grpSpPr>
        <p:grpSp>
          <p:nvGrpSpPr>
            <p:cNvPr id="135" name=""/>
            <p:cNvGrpSpPr/>
            <p:nvPr/>
          </p:nvGrpSpPr>
          <p:grpSpPr>
            <a:xfrm>
              <a:off x="4268880" y="2436840"/>
              <a:ext cx="533160" cy="533160"/>
              <a:chOff x="4268880" y="2436840"/>
              <a:chExt cx="533160" cy="533160"/>
            </a:xfrm>
          </p:grpSpPr>
          <p:sp>
            <p:nvSpPr>
              <p:cNvPr id="136" name=""/>
              <p:cNvSpPr/>
              <p:nvPr/>
            </p:nvSpPr>
            <p:spPr>
              <a:xfrm>
                <a:off x="4268880" y="2436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4840" y="2436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573440" y="3960720"/>
              <a:ext cx="533160" cy="533160"/>
              <a:chOff x="4573440" y="3960720"/>
              <a:chExt cx="533160" cy="533160"/>
            </a:xfrm>
          </p:grpSpPr>
          <p:sp>
            <p:nvSpPr>
              <p:cNvPr id="139" name=""/>
              <p:cNvSpPr/>
              <p:nvPr/>
            </p:nvSpPr>
            <p:spPr>
              <a:xfrm>
                <a:off x="4573440" y="396072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49400" y="396072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878360" y="2970000"/>
              <a:ext cx="532800" cy="533520"/>
              <a:chOff x="4878360" y="2970000"/>
              <a:chExt cx="532800" cy="533520"/>
            </a:xfrm>
          </p:grpSpPr>
          <p:sp>
            <p:nvSpPr>
              <p:cNvPr id="142" name=""/>
              <p:cNvSpPr/>
              <p:nvPr/>
            </p:nvSpPr>
            <p:spPr>
              <a:xfrm>
                <a:off x="4878360" y="2970000"/>
                <a:ext cx="53280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953960" y="29700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402240" y="4189320"/>
              <a:ext cx="533160" cy="533520"/>
              <a:chOff x="6402240" y="4189320"/>
              <a:chExt cx="533160" cy="533520"/>
            </a:xfrm>
          </p:grpSpPr>
          <p:sp>
            <p:nvSpPr>
              <p:cNvPr id="145" name=""/>
              <p:cNvSpPr/>
              <p:nvPr/>
            </p:nvSpPr>
            <p:spPr>
              <a:xfrm>
                <a:off x="6402240" y="41893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7820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402240" y="2512800"/>
              <a:ext cx="533160" cy="533520"/>
              <a:chOff x="6402240" y="2512800"/>
              <a:chExt cx="533160" cy="533520"/>
            </a:xfrm>
          </p:grpSpPr>
          <p:sp>
            <p:nvSpPr>
              <p:cNvPr id="148" name=""/>
              <p:cNvSpPr/>
              <p:nvPr/>
            </p:nvSpPr>
            <p:spPr>
              <a:xfrm>
                <a:off x="6402240" y="25128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78200" y="2512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4878360" y="2513160"/>
            <a:ext cx="3124080" cy="2209320"/>
            <a:chOff x="4878360" y="2513160"/>
            <a:chExt cx="3124080" cy="2209320"/>
          </a:xfrm>
        </p:grpSpPr>
        <p:grpSp>
          <p:nvGrpSpPr>
            <p:cNvPr id="151" name=""/>
            <p:cNvGrpSpPr/>
            <p:nvPr/>
          </p:nvGrpSpPr>
          <p:grpSpPr>
            <a:xfrm>
              <a:off x="4878360" y="2970000"/>
              <a:ext cx="533160" cy="533160"/>
              <a:chOff x="4878360" y="2970000"/>
              <a:chExt cx="533160" cy="533160"/>
            </a:xfrm>
          </p:grpSpPr>
          <p:sp>
            <p:nvSpPr>
              <p:cNvPr id="152" name=""/>
              <p:cNvSpPr/>
              <p:nvPr/>
            </p:nvSpPr>
            <p:spPr>
              <a:xfrm>
                <a:off x="4878360" y="297000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54320" y="2970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402240" y="4189320"/>
              <a:ext cx="533520" cy="533160"/>
              <a:chOff x="6402240" y="4189320"/>
              <a:chExt cx="533520" cy="533160"/>
            </a:xfrm>
          </p:grpSpPr>
          <p:sp>
            <p:nvSpPr>
              <p:cNvPr id="155" name=""/>
              <p:cNvSpPr/>
              <p:nvPr/>
            </p:nvSpPr>
            <p:spPr>
              <a:xfrm>
                <a:off x="6402240" y="4189320"/>
                <a:ext cx="53352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7856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402240" y="2513160"/>
              <a:ext cx="533160" cy="533160"/>
              <a:chOff x="6402240" y="2513160"/>
              <a:chExt cx="533160" cy="533160"/>
            </a:xfrm>
          </p:grpSpPr>
          <p:sp>
            <p:nvSpPr>
              <p:cNvPr id="158" name=""/>
              <p:cNvSpPr/>
              <p:nvPr/>
            </p:nvSpPr>
            <p:spPr>
              <a:xfrm>
                <a:off x="6402240" y="251316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78200" y="2513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468920" y="3351240"/>
              <a:ext cx="533520" cy="532800"/>
              <a:chOff x="7468920" y="3351240"/>
              <a:chExt cx="533520" cy="532800"/>
            </a:xfrm>
          </p:grpSpPr>
          <p:sp>
            <p:nvSpPr>
              <p:cNvPr id="161" name=""/>
              <p:cNvSpPr/>
              <p:nvPr/>
            </p:nvSpPr>
            <p:spPr>
              <a:xfrm>
                <a:off x="7468920" y="3351240"/>
                <a:ext cx="533520" cy="532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45240" y="33512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64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315200" y="1600200"/>
            <a:ext cx="1828800" cy="533520"/>
            <a:chOff x="7315200" y="1600200"/>
            <a:chExt cx="1828800" cy="533520"/>
          </a:xfrm>
        </p:grpSpPr>
        <p:sp>
          <p:nvSpPr>
            <p:cNvPr id="167" name=""/>
            <p:cNvSpPr/>
            <p:nvPr/>
          </p:nvSpPr>
          <p:spPr>
            <a:xfrm>
              <a:off x="7315200" y="160020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43800" y="16765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315200" y="1574640"/>
            <a:ext cx="1828800" cy="533520"/>
            <a:chOff x="7315200" y="1574640"/>
            <a:chExt cx="1828800" cy="533520"/>
          </a:xfrm>
        </p:grpSpPr>
        <p:sp>
          <p:nvSpPr>
            <p:cNvPr id="170" name=""/>
            <p:cNvSpPr/>
            <p:nvPr/>
          </p:nvSpPr>
          <p:spPr>
            <a:xfrm>
              <a:off x="7315200" y="157464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16509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15200" y="1562040"/>
            <a:ext cx="1828800" cy="545760"/>
            <a:chOff x="7315200" y="1562040"/>
            <a:chExt cx="1828800" cy="545760"/>
          </a:xfrm>
        </p:grpSpPr>
        <p:sp>
          <p:nvSpPr>
            <p:cNvPr id="173" name=""/>
            <p:cNvSpPr/>
            <p:nvPr/>
          </p:nvSpPr>
          <p:spPr>
            <a:xfrm>
              <a:off x="7315200" y="1562040"/>
              <a:ext cx="1828800" cy="5457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7360 h 545760"/>
                <a:gd name="textAreaBottom" fmla="*/ 428400 h 54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43800" y="1640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905120" y="1219320"/>
            <a:ext cx="6095520" cy="2666880"/>
            <a:chOff x="1905120" y="1219320"/>
            <a:chExt cx="6095520" cy="2666880"/>
          </a:xfrm>
        </p:grpSpPr>
        <p:sp>
          <p:nvSpPr>
            <p:cNvPr id="176" name=""/>
            <p:cNvSpPr/>
            <p:nvPr/>
          </p:nvSpPr>
          <p:spPr>
            <a:xfrm>
              <a:off x="2819520" y="380988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467480" y="3352680"/>
              <a:ext cx="533160" cy="533520"/>
              <a:chOff x="7467480" y="3352680"/>
              <a:chExt cx="533160" cy="533520"/>
            </a:xfrm>
          </p:grpSpPr>
          <p:sp>
            <p:nvSpPr>
              <p:cNvPr id="178" name=""/>
              <p:cNvSpPr/>
              <p:nvPr/>
            </p:nvSpPr>
            <p:spPr>
              <a:xfrm>
                <a:off x="7543440" y="3429000"/>
                <a:ext cx="381240" cy="38088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67480" y="3352680"/>
                <a:ext cx="533160" cy="53352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905120" y="1219320"/>
              <a:ext cx="373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149960" y="5835600"/>
            <a:ext cx="1994040" cy="580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imation courtes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M. Vea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006560"/>
            <a:ext cx="9144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ropagation: moving frontier simultaneously for each node in frontier to all its neighbors (restricted to those which have not yet been labeled as visi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3289320"/>
            <a:ext cx="3975120" cy="1991520"/>
            <a:chOff x="228600" y="3289320"/>
            <a:chExt cx="3975120" cy="1991520"/>
          </a:xfrm>
        </p:grpSpPr>
        <p:grpSp>
          <p:nvGrpSpPr>
            <p:cNvPr id="184" name=""/>
            <p:cNvGrpSpPr/>
            <p:nvPr/>
          </p:nvGrpSpPr>
          <p:grpSpPr>
            <a:xfrm>
              <a:off x="228600" y="3289320"/>
              <a:ext cx="2476080" cy="1879560"/>
              <a:chOff x="228600" y="3289320"/>
              <a:chExt cx="2476080" cy="1879560"/>
            </a:xfrm>
          </p:grpSpPr>
          <p:sp>
            <p:nvSpPr>
              <p:cNvPr id="185" name=""/>
              <p:cNvSpPr/>
              <p:nvPr/>
            </p:nvSpPr>
            <p:spPr>
              <a:xfrm>
                <a:off x="1218960" y="3289320"/>
                <a:ext cx="482760" cy="457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Lucida Console"/>
                  </a:rPr>
                  <a:t>u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28600" y="4711680"/>
                <a:ext cx="2476080" cy="457200"/>
                <a:chOff x="228600" y="4711680"/>
                <a:chExt cx="2476080" cy="457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286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17152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1934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90" name=""/>
              <p:cNvCxnSpPr>
                <a:stCxn id="185" idx="3"/>
                <a:endCxn id="187" idx="0"/>
              </p:cNvCxnSpPr>
              <p:nvPr/>
            </p:nvCxnSpPr>
            <p:spPr>
              <a:xfrm flipH="1">
                <a:off x="494640" y="3679920"/>
                <a:ext cx="7963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1" name=""/>
              <p:cNvCxnSpPr>
                <a:stCxn id="185" idx="5"/>
                <a:endCxn id="188" idx="0"/>
              </p:cNvCxnSpPr>
              <p:nvPr/>
            </p:nvCxnSpPr>
            <p:spPr>
              <a:xfrm>
                <a:off x="1629720" y="3679920"/>
                <a:ext cx="8089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2" name=""/>
              <p:cNvCxnSpPr>
                <a:stCxn id="185" idx="4"/>
                <a:endCxn id="189" idx="0"/>
              </p:cNvCxnSpPr>
              <p:nvPr/>
            </p:nvCxnSpPr>
            <p:spPr>
              <a:xfrm>
                <a:off x="1460160" y="3746160"/>
                <a:ext cx="1080" cy="9658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  <p:sp>
          <p:nvSpPr>
            <p:cNvPr id="193" name=""/>
            <p:cNvSpPr/>
            <p:nvPr/>
          </p:nvSpPr>
          <p:spPr>
            <a:xfrm>
              <a:off x="2921040" y="4943520"/>
              <a:ext cx="12826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neighb(u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68240" y="5168880"/>
            <a:ext cx="5950080" cy="1308240"/>
            <a:chOff x="768240" y="5168880"/>
            <a:chExt cx="5950080" cy="1308240"/>
          </a:xfrm>
        </p:grpSpPr>
        <p:grpSp>
          <p:nvGrpSpPr>
            <p:cNvPr id="195" name=""/>
            <p:cNvGrpSpPr/>
            <p:nvPr/>
          </p:nvGrpSpPr>
          <p:grpSpPr>
            <a:xfrm>
              <a:off x="768240" y="5168880"/>
              <a:ext cx="1396800" cy="1308240"/>
              <a:chOff x="768240" y="5168880"/>
              <a:chExt cx="1396800" cy="1308240"/>
            </a:xfrm>
          </p:grpSpPr>
          <p:sp>
            <p:nvSpPr>
              <p:cNvPr id="196" name=""/>
              <p:cNvSpPr/>
              <p:nvPr/>
            </p:nvSpPr>
            <p:spPr>
              <a:xfrm>
                <a:off x="768240" y="6019920"/>
                <a:ext cx="53352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31880" y="6019920"/>
                <a:ext cx="53316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98" name=""/>
              <p:cNvCxnSpPr>
                <a:stCxn id="189" idx="4"/>
                <a:endCxn id="196" idx="0"/>
              </p:cNvCxnSpPr>
              <p:nvPr/>
            </p:nvCxnSpPr>
            <p:spPr>
              <a:xfrm flipH="1">
                <a:off x="1034640" y="5168880"/>
                <a:ext cx="4262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  <p:cxnSp>
            <p:nvCxnSpPr>
              <p:cNvPr id="199" name=""/>
              <p:cNvCxnSpPr>
                <a:stCxn id="189" idx="4"/>
                <a:endCxn id="197" idx="0"/>
              </p:cNvCxnSpPr>
              <p:nvPr/>
            </p:nvCxnSpPr>
            <p:spPr>
              <a:xfrm>
                <a:off x="1460160" y="5168880"/>
                <a:ext cx="4388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"/>
            <p:cNvSpPr/>
            <p:nvPr/>
          </p:nvSpPr>
          <p:spPr>
            <a:xfrm>
              <a:off x="2311560" y="5756400"/>
              <a:ext cx="440676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t steps all nodes reachable by a path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length at most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D5F-3E06-44B5-9534-B9E3BD8147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ifting frontier to neighborhood of ONE node per ste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one next node for frontier propagation by abstract scheduling function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el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o be refined l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2131200"/>
            <a:ext cx="9031320" cy="1433160"/>
            <a:chOff x="0" y="2131200"/>
            <a:chExt cx="9031320" cy="1433160"/>
          </a:xfrm>
        </p:grpSpPr>
        <p:sp>
          <p:nvSpPr>
            <p:cNvPr id="204" name=""/>
            <p:cNvSpPr/>
            <p:nvPr/>
          </p:nvSpPr>
          <p:spPr>
            <a:xfrm>
              <a:off x="0" y="248904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208160" y="2131200"/>
              <a:ext cx="7823160" cy="1146240"/>
              <a:chOff x="1208160" y="2131200"/>
              <a:chExt cx="7823160" cy="1146240"/>
            </a:xfrm>
          </p:grpSpPr>
          <p:sp>
            <p:nvSpPr>
              <p:cNvPr id="206" name=""/>
              <p:cNvSpPr/>
              <p:nvPr/>
            </p:nvSpPr>
            <p:spPr>
              <a:xfrm>
                <a:off x="5310000" y="236052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208160" y="2463480"/>
                <a:ext cx="1257120" cy="711360"/>
                <a:chOff x="1208160" y="2463480"/>
                <a:chExt cx="1257120" cy="7113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753920" y="246348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08160" y="283176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2986200" y="249840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11" name=""/>
              <p:cNvCxnSpPr>
                <a:stCxn id="210" idx="3"/>
                <a:endCxn id="206" idx="1"/>
              </p:cNvCxnSpPr>
              <p:nvPr/>
            </p:nvCxnSpPr>
            <p:spPr>
              <a:xfrm>
                <a:off x="4798800" y="281880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2" name=""/>
              <p:cNvCxnSpPr>
                <a:stCxn id="206" idx="3"/>
                <a:endCxn id="208" idx="0"/>
              </p:cNvCxnSpPr>
              <p:nvPr/>
            </p:nvCxnSpPr>
            <p:spPr>
              <a:xfrm flipH="1" flipV="1">
                <a:off x="2109240" y="246312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3" name=""/>
              <p:cNvCxnSpPr>
                <a:stCxn id="208" idx="6"/>
                <a:endCxn id="210" idx="1"/>
              </p:cNvCxnSpPr>
              <p:nvPr/>
            </p:nvCxnSpPr>
            <p:spPr>
              <a:xfrm>
                <a:off x="2464920" y="281880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14" name=""/>
          <p:cNvGrpSpPr/>
          <p:nvPr/>
        </p:nvGrpSpPr>
        <p:grpSpPr>
          <a:xfrm>
            <a:off x="0" y="4222800"/>
            <a:ext cx="9144000" cy="997560"/>
            <a:chOff x="0" y="4222800"/>
            <a:chExt cx="9144000" cy="997560"/>
          </a:xfrm>
        </p:grpSpPr>
        <p:sp>
          <p:nvSpPr>
            <p:cNvPr id="215" name=""/>
            <p:cNvSpPr/>
            <p:nvPr/>
          </p:nvSpPr>
          <p:spPr>
            <a:xfrm>
              <a:off x="0" y="4222800"/>
              <a:ext cx="9144000" cy="997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mma 2. If 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step t label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node as visited, then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does the same in some step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t 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69360" y="4763880"/>
              <a:ext cx="1574640" cy="398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Proof: 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0" y="3532320"/>
            <a:ext cx="9144000" cy="673200"/>
            <a:chOff x="0" y="3532320"/>
            <a:chExt cx="9144000" cy="673200"/>
          </a:xfrm>
        </p:grpSpPr>
        <p:sp>
          <p:nvSpPr>
            <p:cNvPr id="218" name=""/>
            <p:cNvSpPr/>
            <p:nvPr/>
          </p:nvSpPr>
          <p:spPr>
            <a:xfrm>
              <a:off x="0" y="3600360"/>
              <a:ext cx="8077320" cy="542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emma 1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 s.t.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’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13600" y="3532320"/>
              <a:ext cx="1130400" cy="673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roof: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0" y="5234040"/>
            <a:ext cx="8966160" cy="1526400"/>
            <a:chOff x="0" y="5234040"/>
            <a:chExt cx="8966160" cy="1526400"/>
          </a:xfrm>
        </p:grpSpPr>
        <p:sp>
          <p:nvSpPr>
            <p:cNvPr id="221" name=""/>
            <p:cNvSpPr/>
            <p:nvPr/>
          </p:nvSpPr>
          <p:spPr>
            <a:xfrm>
              <a:off x="0" y="6054840"/>
              <a:ext cx="5321160" cy="70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rollary 3 :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-labeling is complete if every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 frontier is eventually selec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5234040"/>
              <a:ext cx="65786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: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if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5614920"/>
              <a:ext cx="65786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 2: Uniqueness o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-labeling preserved by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259240"/>
              <a:ext cx="2413080" cy="703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ssuming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inite fan-o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505-DA82-457B-8671-21C6115E04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onically relat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and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runs (for finite fan-ou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832120"/>
            <a:ext cx="91440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run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simulated by a “breadth-first”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ing the same labelings of nodes as visited,  where each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pplied to 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 is simulated by selecting successively all the elements of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5115960"/>
            <a:ext cx="9031320" cy="1433160"/>
            <a:chOff x="0" y="5115960"/>
            <a:chExt cx="9031320" cy="1433160"/>
          </a:xfrm>
        </p:grpSpPr>
        <p:sp>
          <p:nvSpPr>
            <p:cNvPr id="228" name=""/>
            <p:cNvSpPr/>
            <p:nvPr/>
          </p:nvSpPr>
          <p:spPr>
            <a:xfrm>
              <a:off x="0" y="547380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208160" y="5115960"/>
              <a:ext cx="7823160" cy="1146240"/>
              <a:chOff x="1208160" y="5115960"/>
              <a:chExt cx="7823160" cy="1146240"/>
            </a:xfrm>
          </p:grpSpPr>
          <p:sp>
            <p:nvSpPr>
              <p:cNvPr id="230" name=""/>
              <p:cNvSpPr/>
              <p:nvPr/>
            </p:nvSpPr>
            <p:spPr>
              <a:xfrm>
                <a:off x="5310000" y="53452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08160" y="5448240"/>
                <a:ext cx="1257120" cy="711360"/>
                <a:chOff x="1208160" y="5448240"/>
                <a:chExt cx="1257120" cy="711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753920" y="544824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208160" y="581652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2986200" y="548316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5" name=""/>
              <p:cNvCxnSpPr>
                <a:stCxn id="234" idx="3"/>
                <a:endCxn id="230" idx="1"/>
              </p:cNvCxnSpPr>
              <p:nvPr/>
            </p:nvCxnSpPr>
            <p:spPr>
              <a:xfrm>
                <a:off x="4798800" y="580356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6" name=""/>
              <p:cNvCxnSpPr>
                <a:stCxn id="230" idx="3"/>
                <a:endCxn id="232" idx="0"/>
              </p:cNvCxnSpPr>
              <p:nvPr/>
            </p:nvCxnSpPr>
            <p:spPr>
              <a:xfrm flipH="1" flipV="1">
                <a:off x="2109240" y="544788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7" name=""/>
              <p:cNvCxnSpPr>
                <a:stCxn id="232" idx="6"/>
                <a:endCxn id="234" idx="1"/>
              </p:cNvCxnSpPr>
              <p:nvPr/>
            </p:nvCxnSpPr>
            <p:spPr>
              <a:xfrm>
                <a:off x="2464920" y="580356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38" name=""/>
          <p:cNvGrpSpPr/>
          <p:nvPr/>
        </p:nvGrpSpPr>
        <p:grpSpPr>
          <a:xfrm>
            <a:off x="609480" y="1077480"/>
            <a:ext cx="7797600" cy="1145880"/>
            <a:chOff x="609480" y="1077480"/>
            <a:chExt cx="7797600" cy="1145880"/>
          </a:xfrm>
        </p:grpSpPr>
        <p:sp>
          <p:nvSpPr>
            <p:cNvPr id="239" name=""/>
            <p:cNvSpPr/>
            <p:nvPr/>
          </p:nvSpPr>
          <p:spPr>
            <a:xfrm>
              <a:off x="609480" y="142236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552760" y="1077480"/>
              <a:ext cx="5854320" cy="1145880"/>
              <a:chOff x="2552760" y="1077480"/>
              <a:chExt cx="5854320" cy="1145880"/>
            </a:xfrm>
          </p:grpSpPr>
          <p:sp>
            <p:nvSpPr>
              <p:cNvPr id="241" name=""/>
              <p:cNvSpPr/>
              <p:nvPr/>
            </p:nvSpPr>
            <p:spPr>
              <a:xfrm>
                <a:off x="3098880" y="140976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91040" y="130644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3" name=""/>
              <p:cNvCxnSpPr>
                <a:stCxn id="241" idx="6"/>
                <a:endCxn id="242" idx="1"/>
              </p:cNvCxnSpPr>
              <p:nvPr/>
            </p:nvCxnSpPr>
            <p:spPr>
              <a:xfrm>
                <a:off x="3809520" y="176472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44" name=""/>
              <p:cNvCxnSpPr>
                <a:stCxn id="242" idx="3"/>
                <a:endCxn id="241" idx="0"/>
              </p:cNvCxnSpPr>
              <p:nvPr/>
            </p:nvCxnSpPr>
            <p:spPr>
              <a:xfrm flipH="1" flipV="1">
                <a:off x="3454200" y="140904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45" name=""/>
              <p:cNvSpPr/>
              <p:nvPr/>
            </p:nvSpPr>
            <p:spPr>
              <a:xfrm>
                <a:off x="2552760" y="177804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D30-27F5-43A1-8873-F3170F6BD8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23Z</dcterms:modified>
  <cp:revision>753</cp:revision>
  <dc:subject>Illustrating an ASM refinement hierarchy</dc:subject>
  <dc:title>ASM refinements for shortest path algorithm</dc:title>
</cp:coreProperties>
</file>