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4D07-EA95-40A3-B7F5-5BF5BC14E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CE52-8887-487D-AD5B-A7A68BED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B423-6864-4007-AA27-F7334B7ED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71B3-B586-428C-8233-BAAF8B462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86AE-0862-4307-A68A-AEC1E73A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F45A-3729-4689-AF82-AA9E0A7C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D60E-04A8-4501-861C-89A0EB79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984A-C37C-4863-BF9F-79F930E1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B342-6852-4E60-B373-317D848F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4298-1F59-4B41-AD0F-C494B2AF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B50F-16C6-49D4-B22A-21C211C0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E09B-3210-4EBF-A7A7-3BDE887F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0AE0-2B23-457D-A340-D938202FA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on-deterministic Sorting AS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0265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deterministic sorting by iterating local swa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oose i,j in dom(a) s.t.i &lt; j &amp; a(i) &gt; a(j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(i) := a(j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(j) := a(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Sorting and Samp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E799-619A-4150-AFAD-73A596186D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00"/>
                </a:solidFill>
                <a:latin typeface="Arial"/>
              </a:rPr>
              <a:t>Sampling 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increasing real-time moments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or firing a rule in a discrete time sequence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362320"/>
            <a:ext cx="85503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89089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Goal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ximate a continuous set of rules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rule(t,t’) with t&lt;t’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which are to be fired in a discrete time sequence,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y a finite number of samples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 with increasing sequence of real interval boundari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cab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hoose t &gt; currtime i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ule(currtime,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amples := add(t,samples)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currtime := 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re currtime is a monitored function which is supposed to evolve continuous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cab8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Sorting and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2459-99F9-4762-AEAC-4DBA9ED0F4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2-04-08T20:51:46Z</dcterms:modified>
  <cp:revision>708</cp:revision>
  <dc:subject/>
  <dc:title>Illustrating ASM choose-construct</dc:title>
</cp:coreProperties>
</file>