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2551-89C9-4C39-B605-CFEABA2AE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0D8B-A13D-438C-8EDC-C819245C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7167-7E4B-4346-84C6-52D652220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F41C-7AA4-4D1F-B802-74878C9D0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5CBE-E687-4CEC-A6F8-AB3D60C7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409C-0021-400A-8338-40B5B6C8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C646-7355-4FF2-9CFB-C8C1A07E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A56C-7BAD-4F64-A254-C84B7E8C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AB8F-7974-4E4D-BAC5-805E4360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34F9-F373-41B4-A218-881ECF92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65AD-4142-4279-B77E-864E1F65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2429-5491-4336-BF57-668FDCCA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1EC2-65BD-4C7A-ABDF-548C7C088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finement Exercise: ASMs with Stack Operatio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40840" y="723960"/>
            <a:ext cx="396252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using static concate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(Elem)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ck:= Elem.stack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MOVE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stack = Elem.q   then stack:= q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se errormsg:=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81560" y="673200"/>
            <a:ext cx="47624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using dynamic head,nex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DD(Elem) =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let pos = new(POS)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next(pos):= he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head:= p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stack(pos):= E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MOVE =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if head </a:t>
            </a:r>
            <a:r>
              <a:rPr b="1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unde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then head:= next(he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else errormsg:=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940280"/>
            <a:ext cx="9144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rove: M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correctly refines M1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“corresponding” runs have “equiv” stack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1.e2. … en  ~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stack(head)=e1, …, stack(next</a:t>
            </a:r>
            <a:r>
              <a:rPr b="0" lang="en-US" sz="2400" spc="-1" strike="noStrike" baseline="30000">
                <a:solidFill>
                  <a:srgbClr val="ff99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head))=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d execs of ADD resp. REMOVE ops correspond to each 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Sta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187E-05F0-4996-A8F5-EA2B125D212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2-04-07T15:17:03Z</dcterms:modified>
  <cp:revision>706</cp:revision>
  <dc:subject/>
  <dc:title>ASM model for stack</dc:title>
</cp:coreProperties>
</file>