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782300" cy="7656513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144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4192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-144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84192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fld id="{A1FBCCAC-65A3-4E36-B748-C5A9CF39F45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Img"/>
          </p:nvPr>
        </p:nvSpPr>
        <p:spPr>
          <a:xfrm>
            <a:off x="669960" y="553680"/>
            <a:ext cx="543888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4430880"/>
            <a:ext cx="575784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77880" y="4707360"/>
            <a:ext cx="54226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4192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fld id="{8D5791D0-7036-4F7A-8649-334B05778F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144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144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4192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65160" y="879480"/>
            <a:ext cx="4851360" cy="34448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37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91440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33800"/>
            <a:ext cx="91440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2384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9760" y="113652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21440" y="113652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3380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9760" y="403380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21440" y="403380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1365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64920" y="6919560"/>
            <a:ext cx="60498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2384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33800"/>
            <a:ext cx="91440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5960" y="4456080"/>
            <a:ext cx="873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99200" y="798480"/>
            <a:ext cx="5816520" cy="56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527440" y="803160"/>
            <a:ext cx="375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190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45960" y="6988320"/>
            <a:ext cx="96822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5320" y="933480"/>
            <a:ext cx="899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95320" y="6869160"/>
            <a:ext cx="899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1365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20040" y="7147080"/>
            <a:ext cx="18734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de-DE" sz="1000" spc="-1" strike="noStrike">
                <a:solidFill>
                  <a:srgbClr val="081d58"/>
                </a:solidFill>
                <a:latin typeface="UniversS 55 Roman"/>
              </a:rPr>
              <a:t>Courtesy of P. Päppinghaus, Siemens A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2840" y="1687680"/>
            <a:ext cx="9410760" cy="1589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Report on a Practical Application of 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SMs in Software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76080" y="5300280"/>
            <a:ext cx="7629480" cy="13366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gon Börg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eter Päppingha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oachim Schm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6240" y="3478320"/>
            <a:ext cx="941076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 FALKO Project </a:t>
            </a:r>
            <a:br>
              <a:rPr sz="3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emens (Munich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rch 1998 - May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oal of „FALKO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87400" y="1044720"/>
            <a:ext cx="906624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2858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n purpose of FALKO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ruct &amp; validate timetables f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am/sub-/railway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tables constructed offline from raw data wh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 be input manually via a GU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 be read in from files written in established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idation done by simulatio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 main components + 1 hidden discrete event simulation kernel controlling th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130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Courier New"/>
              </a:rPr>
              <a:t>Component modeling the railway process has been formally specified and designed using AS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063de8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integrating an existing librar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or numerical computations (computing train velocities, trip times etc.) designed and hand coded conventio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ffort for Component „Railway Process Model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7400" y="1044720"/>
            <a:ext cx="906624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 fontScale="96000"/>
          </a:bodyPr>
          <a:p>
            <a:pPr marL="274320" indent="0">
              <a:lnSpc>
                <a:spcPct val="14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tal Effort for Railway Process Model: 66 pw (person week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ign Ph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quirement specification based on predecessor system, developed in meetings of the      design team, documented by minutes of the meetings (4 persons 2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sign of 1st draft of executable ASM model (1 person 8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veral cycles of testing and debugging using the ASM Workbench (developed by Giuseppe Del Castillo as part of his Doctoral Thesis at University of Paderborn)  (1 person 8 weeks + 1 person 11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view of 2nd draft of ASM model by design team plus external reviewers (6 persons 1 we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veral cycles of improving, testing and debugging (2 persons 5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plementation Ph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velopment of ASM-SL to C++ Code Generator (developed by Joachim Schmid as part of his Doctoral Thesis at University of Ulm, 1 person 4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pecification and implementation of additional handwritten C++ code (1 person 2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gration of FALKO system including testing and debugging (3 persons 3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ocumentation of railway process model component (as collection of HTML documents with literate programming features, linked to ASM Workbench) and final polish (1 person 6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mparison: ca. 110% of estimated total effort for conventional software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ze of ASM Model and C++ Code for „Railway Process Model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87040" y="1216080"/>
            <a:ext cx="9231480" cy="55036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M Model (source of C++ code gener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3 000 lines of ASM Workbench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20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15 functions and relations (240 functions, 75 rel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1 dyna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9 ex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9 st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6 der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++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9 000 lines of generated C++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2 900 additional lines of handwritten C++ Code, consisting 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. 400 lines wrapper code for interfacing to other components of FAL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. 2 500 lines low-level library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ilway process model of prototypical predecessor system:                                                    ca. 20 000 lines of (handwritten) C++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periences with Use of ASMs for Software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7040" y="1044720"/>
            <a:ext cx="923148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 fontScale="99000"/>
          </a:bodyPr>
          <a:p>
            <a:pPr marL="28296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velopers and reviewers had no problems to understand the formal specification (ASM 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sts with ASM model uncovered, at an early stage, bugs also in other components of the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herence of specification and implementation by seamless too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erformance loss of generated code tolerable even for product quality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 installations at Subway Vienna Operator since March 1999, 1 in daily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ustomer reported no bugs so f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 bugs discovered in tests run by FALKO developers, temporary fixes for the 2 bugs (by handhacking the generated C++ code) later replaced by recompiling updated ASM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ment Environ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uilt-up, supporting seamless flow from spec t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7040" y="1044720"/>
            <a:ext cx="923148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28584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gon Börger, Peter Päppinghaus, Joachim Schmi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ort on a Practical Application of ASMs in Software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: Y. Gurevich et al.( Eds.): Abstract State Machines. Theory and Applications. Springer LNCS 1912, 2002, 361-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iuseppe Del Castillo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ASM Workbench. A Tool Environment for Computer-Aided Analysis and Validation of Abstract State Machine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sertation, Heinz Nixdorf Institut, Universi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 Paderborn, 2001, pp.iv + 212,   ISBN 3 - 9311 466 – 82 –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. Schmid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iling Abstract State Machines to C.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: Journal of Universal Computer Science 7 (11), 2001, 1069-10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6T12:20:14Z</dcterms:created>
  <dc:creator>Peter Paeppinghaus</dc:creator>
  <dc:description/>
  <dc:language>en-US</dc:language>
  <cp:lastModifiedBy>Egon Boerger</cp:lastModifiedBy>
  <cp:lastPrinted>2000-05-08T14:56:43Z</cp:lastPrinted>
  <dcterms:modified xsi:type="dcterms:W3CDTF">2002-04-03T11:54:17Z</dcterms:modified>
  <cp:revision>229</cp:revision>
  <dc:subject>Project Data on Use of ASMs in the Project</dc:subject>
  <dc:title>Falko Project at Siemens</dc:title>
</cp:coreProperties>
</file>