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E94-C4CE-4343-B3E6-6F92ADCA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25EF-2D05-4706-BA9B-548499D7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13B-9349-4965-ADE4-6502F5AE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D34-7D1D-49ED-A220-7006806A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4B92-7909-4595-B27C-86AE7DEB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0A8-BDEB-45FC-B214-8CD247AC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C10-D21D-4991-9743-5661123D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C9D-657D-4845-9950-A4563521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C91-3D86-4421-AF79-99D276FE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B02-6B83-489F-AA04-E4696A71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DB8-9F0C-428B-8F44-9D49DEBB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0CD-9178-4382-BBC5-31615DCA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F741-C445-437A-8186-F4025AFEE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eal-Time Process Control Systems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(Real-Time Controller ASM for the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ailroad Crossing Case Study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als of Real-Time Controller ASM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th Atomic Action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oll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ecutes instan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viron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s take place instantaneous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ach real-time moment, there 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ll defined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ns which satisf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vironment-controller separation princip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In the definition below, we will allow that the controller is constituted by multiple agents, each of which executes a basic ASM. Atomicity of actions constitutes an idealization, to be refined by durative actions.</a:t>
            </a: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5BD-C5F0-4180-8552-22BEBD86EC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calling Basic AS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asic A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finite set of rules, executed by a single agen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l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having the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d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n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Upd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pdat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inite set of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 (t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,…,t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:=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rbitrary functions,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Boolean valued expression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der formul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urrent 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structure) 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all the fireable rules in 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.t. Cond is true in 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all exprs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t occuring in updates f(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:=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e simultaneously all these function up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pdating yields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next 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BF0-0626-43F4-A5DF-ABB8037BAC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uns of Real-Time Controller AS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74772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un of a Real-Time Controller AS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iven b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iscre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equence 0 =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... of reals – consisting of (all &amp; only) the computationally significant real-time “moments” of M - and associated states S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where currtime =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is obtained from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= S(t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) minus currtime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Case 1: a computation step (of some agents) of M, without any change of monitored fcts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Case 2: a change of monitored fcts, without any M-comp step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extension to stat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C6C-A3D7-4F52-A314-051C32220E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ndard Extension of Runs of Real-Time Controller ASM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914400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u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S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 real-time controller ASM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natural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ed to stat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rbitrary real-time mo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follow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time = t in S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)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in Case 1 (result of the instantaneous M-step executed at time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)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in Case 2 (unchanged M-state, since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M-step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s place, &amp; the instantaneous change of monitored fcts becomes effective a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mma.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t’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’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s discre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f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ly finitely man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. This condition excludes so-called Zeno runs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AE6-5A76-4705-BD49-CA6F356098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l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8E4F-F798-4372-87CD-3C11D4B1B2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89028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blem Description of Railroad Crossing Case Stud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98400"/>
            <a:ext cx="9144000" cy="589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ystem to be developed operates a gate at a railroad crossing. A set of trains travel on multiple tracks in both directions. Each track has four sensors, detecting when a train enters resp. exits the crossing: L1, L2 for trains coming from the left, R1, R2 for trains coming from the right. Based on these sensor signals, a controller should signal the gate to open/cl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 the following two propert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syst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fe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When a train is in the crossing, the gate is clo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ve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The gate is open when no train is in the cros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639-9AD7-49E8-A549-F490B87EBF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Motion Assumptions of Railroad Cross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in Mo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For every track, there is a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rain motion sequ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... of reals with the following proper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l St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t the initial momen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observed track segment [L1,R1] is empt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Patter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ears in the sequence, the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ear in the sequence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 incoming train is detected at either L1 or 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is train reaches the cro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is train is detected to have left the crossing at L2 resp. 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letenes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 sequenc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..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s all the (and only) trains that appear on this tr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ECB-FF25-4ED2-A8E8-D81906145A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&amp; Gate Assumptions of Railroad Cross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Approachi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minimal/maximal time for a train to reach the crossing after having been detected at L1/R1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 for all i in a train motion seq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Closure/Openi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no interva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t, t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resp. [t, t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is a signal to close/open in force without at some moment in this interval the gate being closed/ope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versus Train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lt;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 Gate may react to closure/opening commands with some (bounded) delay, whereas wlog we will assume the controller to react immediately, i.e. at the instant when it is enabl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FCA-2FEE-4D42-B2D8-60D692EFAC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748800"/>
            <a:ext cx="8991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urrtime: REAL is the central monitored time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static domain with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monitored fct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Status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{empty, coming, inCrossing}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fct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Deadline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EAL 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to measure the allowable WaitingTime bw the train appearance and the latest possible moment to start the gate closing (for the gate to be closed in ti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two dynamic fcts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for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gate moving directions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an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final gate posi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ir </a:t>
            </a:r>
            <a:r>
              <a:rPr b="0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{open, close}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by the 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</a:t>
            </a:r>
            <a:r>
              <a:rPr b="0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{opened, closed}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by the g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AE8A-C771-4C18-9338-DFB04C40F2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roller ASM for Railroad Crossing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622440"/>
            <a:ext cx="8991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ontroller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forall x </a:t>
            </a:r>
            <a:r>
              <a:rPr b="0" lang="it-IT" sz="1800" spc="-1" strike="noStrike">
                <a:solidFill>
                  <a:srgbClr val="66ff99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TRAC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etDeadlin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ignalClos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ClearDeadlin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ignal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etDeadline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TrackStatus (x) = coming &amp; Deadline (x) =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the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eadline (x) := currtime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(Wait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ignalClose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urrtime = Deadline (x)  then Dir := cl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learDeadline 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TrackStatus (x) = empty &amp; Deadline (x) &lt;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hen Deadline (x) :=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ignalOpen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Dir = close &amp;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afeToOpen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then Dir:=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where SafeToOpen </a:t>
            </a:r>
            <a:r>
              <a:rPr b="0" lang="it-IT" sz="2800" spc="-1" strike="noStrike">
                <a:solidFill>
                  <a:srgbClr val="ff99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RACK: TrackStatus (x) = empty 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99"/>
                </a:solidFill>
                <a:latin typeface="Arial"/>
              </a:rPr>
              <a:t>enough time to open before next closure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urrtime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&lt; Deadline (x)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1B6-E4A2-4C7B-A733-36516615A4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6440"/>
            <a:ext cx="886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5 (Synchronous Multi-Agent ASM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EBB-1F0D-4A66-9AF5-C13BEF25D2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ASM: an instance of a Flip Flo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622080"/>
            <a:ext cx="9144000" cy="62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Gat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OpenG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loseG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where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penGate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If Dir = ope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:= open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loseGat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Dir = clos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:= clo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= opene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ir = 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al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Status (x) = empty             Deadline(x) =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B. Sharpening the guards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Gate rules by GateStatus = closed/ope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gnalClose (x) by Dir = 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a machine where each step changes the state. We disregard this optimization, since the definition of  runs of a real-time controller ASM is not restricted to machine steps which change the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3D7-F574-454B-B1B4-3BB805A475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The Agent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240" y="584280"/>
            <a:ext cx="91314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lroad Crossing Controller ASM has three ag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ontroller, G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nv, represented by the monitored fct Track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 representation of Env as agent has to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ternalize the timing conditions of train motion sequence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e.g. by a timed automaton ASM, consisting of one machine for each track x,  each able to fire independently &amp; simultaneous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16600" y="3809880"/>
            <a:ext cx="41274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B. The notion of real-time controller ASM run has to be adapted to treating env as a special team of ag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82760" y="3765600"/>
            <a:ext cx="4076640" cy="3092400"/>
            <a:chOff x="482760" y="3765600"/>
            <a:chExt cx="4076640" cy="3092400"/>
          </a:xfrm>
        </p:grpSpPr>
        <p:sp>
          <p:nvSpPr>
            <p:cNvPr id="127" name=""/>
            <p:cNvSpPr/>
            <p:nvPr/>
          </p:nvSpPr>
          <p:spPr>
            <a:xfrm>
              <a:off x="482760" y="3765600"/>
              <a:ext cx="9396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67200" y="6058080"/>
              <a:ext cx="977760" cy="799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inCrossin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79800" y="376560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76520" y="4000680"/>
              <a:ext cx="114300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(x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27" idx="6"/>
              <a:endCxn id="130" idx="1"/>
            </p:cNvCxnSpPr>
            <p:nvPr/>
          </p:nvCxnSpPr>
          <p:spPr>
            <a:xfrm>
              <a:off x="1422360" y="4152600"/>
              <a:ext cx="2548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32" name=""/>
            <p:cNvCxnSpPr>
              <a:stCxn id="130" idx="3"/>
              <a:endCxn id="129" idx="2"/>
            </p:cNvCxnSpPr>
            <p:nvPr/>
          </p:nvCxnSpPr>
          <p:spPr>
            <a:xfrm>
              <a:off x="2819160" y="4152600"/>
              <a:ext cx="26100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8" idx="2"/>
              <a:endCxn id="127" idx="4"/>
            </p:cNvCxnSpPr>
            <p:nvPr/>
          </p:nvCxnSpPr>
          <p:spPr>
            <a:xfrm flipH="1" flipV="1">
              <a:off x="952200" y="4539600"/>
              <a:ext cx="2115360" cy="1918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2552760" y="4889520"/>
              <a:ext cx="2006640" cy="876240"/>
            </a:xfrm>
            <a:prstGeom prst="hexagon">
              <a:avLst>
                <a:gd name="adj" fmla="val 57251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in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lock(x)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9" idx="4"/>
              <a:endCxn id="134" idx="0"/>
            </p:cNvCxnSpPr>
            <p:nvPr/>
          </p:nvCxnSpPr>
          <p:spPr>
            <a:xfrm>
              <a:off x="3555720" y="4540320"/>
              <a:ext cx="1080" cy="3499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36" name=""/>
            <p:cNvCxnSpPr>
              <a:stCxn id="134" idx="2"/>
              <a:endCxn id="128" idx="0"/>
            </p:cNvCxnSpPr>
            <p:nvPr/>
          </p:nvCxnSpPr>
          <p:spPr>
            <a:xfrm>
              <a:off x="3555720" y="5765760"/>
              <a:ext cx="1080" cy="2930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C84-347A-4BFD-9BF4-172B69E619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Run of the Railroad Crossing ASM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0768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al-time controller ASM run. These runs reflect the train motion condition through the moments of change of the monitored function Track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ng the computationally significant moments of the run,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track x has a subsequence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=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…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gnificant moments of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ch tha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rackStatus(x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emp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every interval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com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 ...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 &amp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2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inCross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...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ty over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if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final significant moment of track x, in which case 3|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 In those runs, the Controller is assumed to react immediately, the reaction time of Gate to be bounded in the sense of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ate Closure/Opening Tim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04A-6BBC-46D7-9C08-FF58C8202E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c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1FD-137D-4BA5-B37C-E9DC820104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fety &amp; Liveness for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0768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arbitrary runs of the Railroad Crossing ASM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ing two properties hol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fety Theor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t any moment when a train is in the crossing (Gate Status (x) = inCrossing for some track x), the gate is closed (GateStatus = closed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veness Theor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ever the crossing is empty (i.e.TrackStatus(x)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rossing for every x) in an open real-time interv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ith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 gate is open in the closed interval [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where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WaitTime =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(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NB. It can be shown that the Liveness Thm fails if d</a:t>
            </a:r>
            <a:r>
              <a:rPr b="0" lang="en-US" sz="2400" spc="-1" strike="noStrike" baseline="-25000">
                <a:solidFill>
                  <a:srgbClr val="ff7c8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 or D</a:t>
            </a:r>
            <a:r>
              <a:rPr b="0" lang="en-US" sz="2400" spc="-1" strike="noStrike" baseline="-25000">
                <a:solidFill>
                  <a:srgbClr val="ff7c8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 are replaced with smaller valu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NB.One can also prove that the closing of the gate is never interrupted; under appropriate assumptions the same holds for open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D5E-4C1F-4C33-8503-2205A81BB9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65240"/>
            <a:ext cx="91440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ving Safety for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735120"/>
            <a:ext cx="91440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some track x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tatus(x) = inCrossing over 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We show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GateStatus = closed ove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[t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3i+1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+ d</a:t>
            </a:r>
            <a:r>
              <a:rPr b="0" lang="en-US" sz="3200" spc="-1" strike="noStrike" baseline="-25000">
                <a:solidFill>
                  <a:srgbClr val="ccecff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[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roo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Deadline (x) fires 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Controller is immediate) setting Deadline(x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Wait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tatus(x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= (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3i+3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nce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over 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 makes SafeToOpen false, hence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SignalOpen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also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OpenG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ver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SignalClose(x) fires a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 that immediately afte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Dir=close holds (&amp; remains unchanged over 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ir=close immediately after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mplie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ateStatus = clo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 some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t&lt;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remains so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as long as SignalOpen is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i.e. over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and therefore over [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only OpenGate, fireable only after SignalOpen, can change it to ope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0FB-07D7-47C0-8D80-505FE18801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ving Liveness for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98480"/>
            <a:ext cx="91440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Deadline Lemma (see below), for every track x ho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line(x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op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ver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 SafeToOpen holds at currtime =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us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ir=open holds immediately after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ossibly through firing of SignalOpe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dline(x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time  ove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nce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over 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very SignalClose(x) is disabled, so that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ir remains op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CloseGate is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 = open o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ime assumption imply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GateStatus = opened for some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&lt; t &lt;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remains so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as long as CloseGate is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mely ove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ateStatus = open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ver [</a:t>
            </a:r>
            <a:r>
              <a:rPr b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only CloseGate, fireable only after some SignalClose(x), can change it to cl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F15-42C8-4055-896F-BB51873AC6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adline Lemma for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75996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adline Lem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run of the Railroad Crossing ASM, let x be a track with significant moments 0 =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…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dline(x)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 (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WaitTi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ver (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TrackStatus(x) </a:t>
            </a:r>
            <a:r>
              <a:rPr b="1" lang="en-US" sz="20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inCrossing over an interval (</a:t>
            </a:r>
            <a:r>
              <a:rPr b="1" lang="en-US" sz="20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over this interval Deadline(x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e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= 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WaitTi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e (a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(b)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assume Deadline(x)&lt;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WaitTime -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 at some t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)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dline(x) =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WaitTi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at t for some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t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t&lt;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by hypothesis,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and the inCrossing interval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[t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Arial"/>
              </a:rPr>
              <a:t>3i+2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,t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Arial"/>
              </a:rPr>
              <a:t>3i+3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) are disjoi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tha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WaitTim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WaitTime = Deadline(x) (at t)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(by assumption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contrad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6A3-992E-4178-99B1-30E2AA227C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c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0EF-1857-4E1D-B885-134304A22B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Case Study : Refinement Exercis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546120"/>
            <a:ext cx="8978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the Railroad Crossing ASM by introducing gate positions between  Closed = 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Opened = 9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Clarify the real-world timing assumptions which allow that Dir=close/open only when GateStatus=opened/clos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. Consider the following timed automaton ASM, with additional GateStatus values closing, opening, and refined rules OpenGate, CloseG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160" y="3530520"/>
            <a:ext cx="9067680" cy="3177360"/>
            <a:chOff x="38160" y="3530520"/>
            <a:chExt cx="9067680" cy="3177360"/>
          </a:xfrm>
        </p:grpSpPr>
        <p:sp>
          <p:nvSpPr>
            <p:cNvPr id="154" name=""/>
            <p:cNvSpPr/>
            <p:nvPr/>
          </p:nvSpPr>
          <p:spPr>
            <a:xfrm>
              <a:off x="7664400" y="376560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13280" y="389880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 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040" y="574668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pen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35440" y="3530520"/>
              <a:ext cx="1498680" cy="355680"/>
            </a:xfrm>
            <a:prstGeom prst="hexagon">
              <a:avLst>
                <a:gd name="adj" fmla="val 105339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=clo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5520" y="4851360"/>
              <a:ext cx="1930320" cy="482760"/>
            </a:xfrm>
            <a:prstGeom prst="hexagon">
              <a:avLst>
                <a:gd name="adj" fmla="val 99963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 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13280" y="640080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 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35440" y="6019920"/>
              <a:ext cx="1498680" cy="355320"/>
            </a:xfrm>
            <a:prstGeom prst="hexagon">
              <a:avLst>
                <a:gd name="adj" fmla="val 105446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r=op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160" y="4876920"/>
              <a:ext cx="1930320" cy="482400"/>
            </a:xfrm>
            <a:prstGeom prst="hexagon">
              <a:avLst>
                <a:gd name="adj" fmla="val 100037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 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63" idx="7"/>
              <a:endCxn id="154" idx="1"/>
            </p:cNvCxnSpPr>
            <p:nvPr/>
          </p:nvCxnSpPr>
          <p:spPr>
            <a:xfrm>
              <a:off x="1334880" y="3877920"/>
              <a:ext cx="646956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/>
            <p:nvPr/>
          </p:nvCxnSpPr>
          <p:spPr>
            <a:xfrm flipH="1" flipV="1">
              <a:off x="1356840" y="6395760"/>
              <a:ext cx="6455520" cy="86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56" idx="0"/>
              <a:endCxn id="161" idx="2"/>
            </p:cNvCxnSpPr>
            <p:nvPr/>
          </p:nvCxnSpPr>
          <p:spPr>
            <a:xfrm flipV="1">
              <a:off x="1002960" y="5358960"/>
              <a:ext cx="1080" cy="388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6" name=""/>
            <p:cNvCxnSpPr>
              <a:stCxn id="161" idx="0"/>
              <a:endCxn id="163" idx="4"/>
            </p:cNvCxnSpPr>
            <p:nvPr/>
          </p:nvCxnSpPr>
          <p:spPr>
            <a:xfrm flipV="1">
              <a:off x="1002960" y="4539600"/>
              <a:ext cx="1080" cy="3373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4" idx="4"/>
              <a:endCxn id="158" idx="0"/>
            </p:cNvCxnSpPr>
            <p:nvPr/>
          </p:nvCxnSpPr>
          <p:spPr>
            <a:xfrm>
              <a:off x="8140320" y="4540320"/>
              <a:ext cx="1080" cy="311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8" name=""/>
            <p:cNvCxnSpPr>
              <a:stCxn id="158" idx="2"/>
              <a:endCxn id="169" idx="0"/>
            </p:cNvCxnSpPr>
            <p:nvPr/>
          </p:nvCxnSpPr>
          <p:spPr>
            <a:xfrm>
              <a:off x="8140320" y="5333760"/>
              <a:ext cx="1080" cy="4006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70" name=""/>
          <p:cNvGrpSpPr/>
          <p:nvPr/>
        </p:nvGrpSpPr>
        <p:grpSpPr>
          <a:xfrm>
            <a:off x="533520" y="3765600"/>
            <a:ext cx="8096040" cy="2768400"/>
            <a:chOff x="533520" y="3765600"/>
            <a:chExt cx="8096040" cy="2768400"/>
          </a:xfrm>
        </p:grpSpPr>
        <p:sp>
          <p:nvSpPr>
            <p:cNvPr id="163" name=""/>
            <p:cNvSpPr/>
            <p:nvPr/>
          </p:nvSpPr>
          <p:spPr>
            <a:xfrm>
              <a:off x="533520" y="3765600"/>
              <a:ext cx="9396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pe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51800" y="5734080"/>
              <a:ext cx="977760" cy="799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los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63" idx="6"/>
              <a:endCxn id="169" idx="1"/>
            </p:cNvCxnSpPr>
            <p:nvPr/>
          </p:nvCxnSpPr>
          <p:spPr>
            <a:xfrm>
              <a:off x="1473120" y="4152960"/>
              <a:ext cx="6322320" cy="1699200"/>
            </a:xfrm>
            <a:prstGeom prst="straightConnector1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9" idx="2"/>
              <a:endCxn id="163" idx="5"/>
            </p:cNvCxnSpPr>
            <p:nvPr/>
          </p:nvCxnSpPr>
          <p:spPr>
            <a:xfrm flipH="1" flipV="1">
              <a:off x="1334880" y="4427280"/>
              <a:ext cx="6317280" cy="1707120"/>
            </a:xfrm>
            <a:prstGeom prst="straightConnector1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73" name=""/>
            <p:cNvSpPr/>
            <p:nvPr/>
          </p:nvSpPr>
          <p:spPr>
            <a:xfrm>
              <a:off x="3441600" y="5092560"/>
              <a:ext cx="11430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OpenG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84600" y="4788000"/>
              <a:ext cx="11430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seG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11C-2B56-42F4-A8F3-9803550C90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cess 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E37-4927-47DF-A982-0E3725189D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ercises for the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455760"/>
            <a:ext cx="9144000" cy="64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 the following properties for runs of the Railroad Crossing A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with significant mo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=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… for a track x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tDeadline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when TrackStatus(x) has become com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gnalClose(x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Wait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earDeadline 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&gt;0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hen TrackStatus(x) has become emp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the local SafeToOpen(x) condition, namel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ckStatus(x)=empty or currtim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open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&lt; Deadline (x).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how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WaitTime &gt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then s(x) hold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WaitTime –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and fail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WaitTime –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WaitTim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then s(x) hold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] and fails over intervals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(x) changes from false to true at moment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i&gt;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rackStatus(x) has become emp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gnal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when SafeToOpen becomes true. If SafeToOpen becomes true at t, then some TrackStatus(x) has become empty at t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D8D-2A4A-4B0D-B267-5801BCD635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ASM : Exercises (Cont’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at the Liveness Theorem fails if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replaced with smaller valu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e that the closing of the gate is never interrupted, i.e. if Dir is set to close at some moment t, then Dir = close holds over the interval   (t , t+d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e that if WaitTim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n the opening of the gate is never interrupted, i.e. if Dir is set to open at some moment t, then Dir = open holds over the interval (t, t+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w that the Railroad Crossing ASM, viewed as consisting of three agents for Controller, Gate, and the Environment (representing a team that updates the monitored functions), in a natural way satisfies the axioms for an async AS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 the definition of real-time controller ASMs to the case where the changes of monitored functions are treated as resulting from updates of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m en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g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750-5BF7-4631-8643-AF59695DC5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7696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47280"/>
            <a:ext cx="93600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Heitmeyer and D. Mandrioli (Eds.) : Formal Methods for Real-Time Computin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Wiley &amp; Sons, Chichester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. Gurevich and J. K. Huggins: The Railroad Crossing Problem: An Experiment with Instantaneous Actions and Immediate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Computer Science Logic. Selected Papers from CSL’95 (Ed. H. Kleine Büning). Springer LNCS 1092, 1996, 266-2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Beauquier, T. Colard, A. Slissenko: A Predicate Logic Framework for Mechanical Verification of Real-Time Gurevich Abstract State Machines: A Case Study with PV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 00-25, University Paris 12, CS Dept, 2000. See http://www.univ-paris12.fr/lacl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9EF-1FF3-43B0-876B-9700CD7391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7696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647280"/>
            <a:ext cx="93600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L. Parnas and J. Madey: Functional Documentation for Computer Systems Engineering (Vol.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 Master University TR CRL 237, Hamilton, Ontario, Sept.199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L. Parnas and J. Madey: Functional documents for computer systems. I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ce of Computer Programming 25 (1995), 41-6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894-3F60-4433-B47C-A54A04FC96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-Variable Model for Process Control 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635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ransforms continuous physical quantities, measured by e.g. 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sens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to discrete software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transforms discrete sw OUTPUT into values for 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actua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manipulate the continuous physical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79360" y="1558440"/>
            <a:ext cx="8623440" cy="1946160"/>
            <a:chOff x="279360" y="1558440"/>
            <a:chExt cx="8623440" cy="1946160"/>
          </a:xfrm>
        </p:grpSpPr>
        <p:sp>
          <p:nvSpPr>
            <p:cNvPr id="51" name=""/>
            <p:cNvSpPr/>
            <p:nvPr/>
          </p:nvSpPr>
          <p:spPr>
            <a:xfrm>
              <a:off x="279360" y="2045880"/>
              <a:ext cx="1854360" cy="8863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48440" y="2058840"/>
              <a:ext cx="1854360" cy="8863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54" idx="2"/>
              <a:endCxn id="51" idx="0"/>
            </p:cNvCxnSpPr>
            <p:nvPr/>
          </p:nvCxnSpPr>
          <p:spPr>
            <a:xfrm>
              <a:off x="1206000" y="1558440"/>
              <a:ext cx="1080" cy="48780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</a:ln>
          </p:spPr>
        </p:cxnSp>
        <p:cxnSp>
          <p:nvCxnSpPr>
            <p:cNvPr id="55" name=""/>
            <p:cNvCxnSpPr>
              <a:stCxn id="51" idx="2"/>
              <a:endCxn id="56" idx="0"/>
            </p:cNvCxnSpPr>
            <p:nvPr/>
          </p:nvCxnSpPr>
          <p:spPr>
            <a:xfrm>
              <a:off x="1206000" y="2930040"/>
              <a:ext cx="1080" cy="54648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58" idx="0"/>
              <a:endCxn id="52" idx="2"/>
            </p:cNvCxnSpPr>
            <p:nvPr/>
          </p:nvCxnSpPr>
          <p:spPr>
            <a:xfrm flipV="1">
              <a:off x="7975080" y="2942280"/>
              <a:ext cx="1080" cy="56268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</a:ln>
          </p:spPr>
        </p:cxnSp>
        <p:cxnSp>
          <p:nvCxnSpPr>
            <p:cNvPr id="59" name=""/>
            <p:cNvCxnSpPr>
              <a:stCxn id="52" idx="0"/>
              <a:endCxn id="60" idx="2"/>
            </p:cNvCxnSpPr>
            <p:nvPr/>
          </p:nvCxnSpPr>
          <p:spPr>
            <a:xfrm flipV="1">
              <a:off x="7975080" y="1567440"/>
              <a:ext cx="1080" cy="49140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279360" y="3489480"/>
            <a:ext cx="8655120" cy="947160"/>
            <a:chOff x="279360" y="3489480"/>
            <a:chExt cx="8655120" cy="947160"/>
          </a:xfrm>
        </p:grpSpPr>
        <p:sp>
          <p:nvSpPr>
            <p:cNvPr id="56" name=""/>
            <p:cNvSpPr/>
            <p:nvPr/>
          </p:nvSpPr>
          <p:spPr>
            <a:xfrm>
              <a:off x="279360" y="3489480"/>
              <a:ext cx="1854360" cy="94716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creteSw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16760" y="3517920"/>
              <a:ext cx="1917720" cy="886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creteS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49600" y="3519360"/>
              <a:ext cx="1968480" cy="88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F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>
              <a:off x="2133360" y="3962160"/>
              <a:ext cx="1416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64" name=""/>
            <p:cNvCxnSpPr>
              <a:stCxn id="62" idx="3"/>
              <a:endCxn id="58" idx="1"/>
            </p:cNvCxnSpPr>
            <p:nvPr/>
          </p:nvCxnSpPr>
          <p:spPr>
            <a:xfrm flipV="1">
              <a:off x="5517720" y="3960000"/>
              <a:ext cx="1499400" cy="25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222120" y="687240"/>
            <a:ext cx="8737560" cy="886320"/>
            <a:chOff x="222120" y="687240"/>
            <a:chExt cx="8737560" cy="886320"/>
          </a:xfrm>
        </p:grpSpPr>
        <p:sp>
          <p:nvSpPr>
            <p:cNvPr id="54" name=""/>
            <p:cNvSpPr/>
            <p:nvPr/>
          </p:nvSpPr>
          <p:spPr>
            <a:xfrm>
              <a:off x="222120" y="687240"/>
              <a:ext cx="1968480" cy="88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tor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Va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91200" y="687240"/>
              <a:ext cx="1968480" cy="88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oll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Va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870120"/>
              <a:ext cx="266688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ysProces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4" idx="3"/>
              <a:endCxn id="66" idx="1"/>
            </p:cNvCxnSpPr>
            <p:nvPr/>
          </p:nvCxnSpPr>
          <p:spPr>
            <a:xfrm>
              <a:off x="2190240" y="1130040"/>
              <a:ext cx="1010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68" name=""/>
            <p:cNvCxnSpPr>
              <a:stCxn id="66" idx="3"/>
              <a:endCxn id="60" idx="1"/>
            </p:cNvCxnSpPr>
            <p:nvPr/>
          </p:nvCxnSpPr>
          <p:spPr>
            <a:xfrm>
              <a:off x="5867280" y="1130040"/>
              <a:ext cx="1124640" cy="5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9" name=""/>
          <p:cNvSpPr/>
          <p:nvPr/>
        </p:nvSpPr>
        <p:spPr>
          <a:xfrm>
            <a:off x="2813040" y="1676520"/>
            <a:ext cx="3543480" cy="1574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: define SOFT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ly imp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F62-FCE8-4051-9053-8C8BDFCB9E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pling &amp; Synchronization Proble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 Contro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pling Probl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imate continuous flow of physical process data by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a finite number of) discrete samp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taken at real-time moments that form an increasing discrete seq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ynchronization Probl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ynchronize the SOFT controller with the IN/OUT devices to guarantee a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orrect reactive behavi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entire software system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wrt the en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stable states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 controller st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ing OUTP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639-5690-4D5A-8B68-A11686672A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 Control Syste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914400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vironment-Controller Separation Princip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each moment, the software controll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through its input device takes INPUT from the environment, without involving any further internal computation st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makes an internal computation step (including the preparation of OUTPUT to be sent to the output device), without involving any further INPUT re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is principle is applied by many process control systems. Its appropriateness for a physical system to be controlled depends 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rrectness of sampling mechan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ufficient hw speed (for the internal controller steps) wrt samp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4D2-28D3-4067-9DCF-4951A74122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in Neural Ne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825480"/>
            <a:ext cx="88390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ural N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usually seen as a black-box yielding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env, as result of 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nal compu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ich is triggered by 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pu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n from the env. The internal computation consists of a finite sequence of atomic actions performed by the basic computing elements (nodes of a directed data-flow grap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orward propagation mode, the network input is transmitted by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input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o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internal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hich propagate their results through the graph until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output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reached</a:t>
            </a:r>
            <a:r>
              <a:rPr b="1" lang="en-US" sz="2000" spc="-1" strike="noStrike">
                <a:solidFill>
                  <a:srgbClr val="ff9900"/>
                </a:solidFill>
                <a:latin typeface="Lucida Console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15080" y="4102200"/>
            <a:ext cx="6361920" cy="2361600"/>
            <a:chOff x="415080" y="4102200"/>
            <a:chExt cx="6361920" cy="2361600"/>
          </a:xfrm>
        </p:grpSpPr>
        <p:sp>
          <p:nvSpPr>
            <p:cNvPr id="77" name=""/>
            <p:cNvSpPr/>
            <p:nvPr/>
          </p:nvSpPr>
          <p:spPr>
            <a:xfrm>
              <a:off x="834840" y="4201920"/>
              <a:ext cx="641520" cy="43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25560" y="4102200"/>
              <a:ext cx="1746360" cy="636480"/>
            </a:xfrm>
            <a:prstGeom prst="hexagon">
              <a:avLst>
                <a:gd name="adj" fmla="val 68594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input to be consum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22560" y="4162320"/>
              <a:ext cx="1112760" cy="5173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a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ural Kerne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86320" y="4201920"/>
              <a:ext cx="942840" cy="43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51240" y="5035320"/>
              <a:ext cx="1413000" cy="649080"/>
            </a:xfrm>
            <a:prstGeom prst="hexagon">
              <a:avLst>
                <a:gd name="adj" fmla="val 54423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re units to be comput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83080" y="6099120"/>
              <a:ext cx="950760" cy="3646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K ste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65680" y="5086080"/>
              <a:ext cx="514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95680" y="5686200"/>
              <a:ext cx="5461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5080" y="4421160"/>
              <a:ext cx="406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79560" y="5178960"/>
              <a:ext cx="1112760" cy="3621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earSta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7" name=""/>
            <p:cNvCxnSpPr>
              <a:stCxn id="81" idx="1"/>
              <a:endCxn id="86" idx="3"/>
            </p:cNvCxnSpPr>
            <p:nvPr/>
          </p:nvCxnSpPr>
          <p:spPr>
            <a:xfrm flipH="1">
              <a:off x="3891600" y="5360400"/>
              <a:ext cx="125964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6" idx="1"/>
              <a:endCxn id="77" idx="4"/>
            </p:cNvCxnSpPr>
            <p:nvPr/>
          </p:nvCxnSpPr>
          <p:spPr>
            <a:xfrm rot="10800000">
              <a:off x="1154880" y="4637880"/>
              <a:ext cx="1624680" cy="72252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77" idx="6"/>
              <a:endCxn id="78" idx="1"/>
            </p:cNvCxnSpPr>
            <p:nvPr/>
          </p:nvCxnSpPr>
          <p:spPr>
            <a:xfrm>
              <a:off x="1476360" y="4420800"/>
              <a:ext cx="34992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78" idx="3"/>
              <a:endCxn id="79" idx="1"/>
            </p:cNvCxnSpPr>
            <p:nvPr/>
          </p:nvCxnSpPr>
          <p:spPr>
            <a:xfrm>
              <a:off x="3571920" y="4420800"/>
              <a:ext cx="351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79" idx="3"/>
              <a:endCxn id="80" idx="2"/>
            </p:cNvCxnSpPr>
            <p:nvPr/>
          </p:nvCxnSpPr>
          <p:spPr>
            <a:xfrm>
              <a:off x="5034960" y="4420800"/>
              <a:ext cx="351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80" idx="4"/>
              <a:endCxn id="81" idx="0"/>
            </p:cNvCxnSpPr>
            <p:nvPr/>
          </p:nvCxnSpPr>
          <p:spPr>
            <a:xfrm>
              <a:off x="5857560" y="4638240"/>
              <a:ext cx="1080" cy="397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81" idx="2"/>
              <a:endCxn id="82" idx="0"/>
            </p:cNvCxnSpPr>
            <p:nvPr/>
          </p:nvCxnSpPr>
          <p:spPr>
            <a:xfrm>
              <a:off x="5857920" y="5684760"/>
              <a:ext cx="2160" cy="414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82" idx="3"/>
              <a:endCxn id="80" idx="6"/>
            </p:cNvCxnSpPr>
            <p:nvPr/>
          </p:nvCxnSpPr>
          <p:spPr>
            <a:xfrm flipH="1" flipV="1">
              <a:off x="6328440" y="4420440"/>
              <a:ext cx="5400" cy="1860840"/>
            </a:xfrm>
            <a:prstGeom prst="bentConnector3">
              <a:avLst>
                <a:gd name="adj1" fmla="val -880000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95" name=""/>
          <p:cNvSpPr/>
          <p:nvPr/>
        </p:nvSpPr>
        <p:spPr>
          <a:xfrm>
            <a:off x="0" y="6058080"/>
            <a:ext cx="4508640" cy="799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s whether NK h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d its internal compu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13680" y="4191120"/>
            <a:ext cx="1930320" cy="20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ce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um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3C5-E161-4120-9C8F-B59EAFC398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in Circui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825480"/>
            <a:ext cx="89917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rcuit Synchroniz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 clock which alternates between low and high pu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it viewed 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np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s (representing the environ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lock pulse is 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and output idle, input may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lock pulse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and output may change, input is i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BB1-54BA-4CF0-887B-46962F86FB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al-Time Controller ASMs (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ith atomic action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Railroad Crossing Controller AS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4C7-3410-48A5-92AD-C9BFB2CCE0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3:53:05Z</dcterms:modified>
  <cp:revision>511</cp:revision>
  <dc:subject>Railcrossing Gate Controller</dc:subject>
  <dc:title>Railcrossing Gate Controller</dc:title>
</cp:coreProperties>
</file>