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CAC-1472-4965-9FC4-B8EFB1DB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CE7-1B81-4FF2-8E08-4D9847F6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488-7D71-4699-AC06-3477C8BA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96D-B6E3-4A05-8839-72B7255B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4FF-D97F-4F91-AE4F-89BFE1C6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E85-0B58-4970-AD9B-6568347C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FB7-D3DD-44B8-B87E-A6F28E2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D50-32F8-4FC0-B382-E16B04CA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8AF-244E-43D8-A9B3-89FDC0B4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28E-947F-4B9E-AFB6-C9223282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123-A15C-45D1-BF23-D439DA7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06C-2E41-4608-AF71-0ACB9096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8CD-81F1-4460-BF21-AD89B37A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onsensus in Networ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in Networks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 for reaching consensus among homogeneous agents of finite connected networks (using only communication between neighbors, without broker or mediator, with abstract requests and answer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hmic Idea: every agent (node) m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aunch a requ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s neighbors and wait for the re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ag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replies received from his neighbors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ply to req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all agents agree (maybe nev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C5A-3807-41FB-87A2-BFCE1D2FCC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finite connected set (of nod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es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questFrom(n)|n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plyFrom(n)|n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end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gre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tl_state=pending, Request = empty, Reply = f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730-6B07-408E-999D-CE629C58B3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02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Control State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90720" y="927000"/>
            <a:ext cx="3397320" cy="3301920"/>
            <a:chOff x="2790720" y="927000"/>
            <a:chExt cx="3397320" cy="3301920"/>
          </a:xfrm>
        </p:grpSpPr>
        <p:sp>
          <p:nvSpPr>
            <p:cNvPr id="50" name=""/>
            <p:cNvSpPr/>
            <p:nvPr/>
          </p:nvSpPr>
          <p:spPr>
            <a:xfrm>
              <a:off x="2790720" y="927000"/>
              <a:ext cx="1168560" cy="812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e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5480" y="3517920"/>
              <a:ext cx="952560" cy="71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gre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1333080"/>
            <a:ext cx="9144000" cy="2905560"/>
            <a:chOff x="0" y="1333080"/>
            <a:chExt cx="9144000" cy="2905560"/>
          </a:xfrm>
        </p:grpSpPr>
        <p:sp>
          <p:nvSpPr>
            <p:cNvPr id="53" name=""/>
            <p:cNvSpPr/>
            <p:nvPr/>
          </p:nvSpPr>
          <p:spPr>
            <a:xfrm>
              <a:off x="6235560" y="2344680"/>
              <a:ext cx="29084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ctedReplies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= f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333080"/>
              <a:ext cx="5235840" cy="2905560"/>
              <a:chOff x="0" y="1333080"/>
              <a:chExt cx="5235840" cy="2905560"/>
            </a:xfrm>
          </p:grpSpPr>
          <p:sp>
            <p:nvSpPr>
              <p:cNvPr id="55" name=""/>
              <p:cNvSpPr/>
              <p:nvPr/>
            </p:nvSpPr>
            <p:spPr>
              <a:xfrm>
                <a:off x="2354400" y="2263680"/>
                <a:ext cx="2041560" cy="819360"/>
              </a:xfrm>
              <a:prstGeom prst="hexagon">
                <a:avLst>
                  <a:gd name="adj" fmla="val 62291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pec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pli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ple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67240" y="387360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395440"/>
                <a:ext cx="14796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06520" y="3860640"/>
                <a:ext cx="4827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05160" y="3508200"/>
                <a:ext cx="1939680" cy="730440"/>
              </a:xfrm>
              <a:prstGeom prst="hexagon">
                <a:avLst>
                  <a:gd name="adj" fmla="val 66387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osenRu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0" name=""/>
              <p:cNvCxnSpPr>
                <a:stCxn id="50" idx="4"/>
                <a:endCxn id="55" idx="0"/>
              </p:cNvCxnSpPr>
              <p:nvPr/>
            </p:nvCxnSpPr>
            <p:spPr>
              <a:xfrm>
                <a:off x="3374640" y="173952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2"/>
                <a:endCxn id="59" idx="0"/>
              </p:cNvCxnSpPr>
              <p:nvPr/>
            </p:nvCxnSpPr>
            <p:spPr>
              <a:xfrm>
                <a:off x="3374640" y="3082680"/>
                <a:ext cx="1080" cy="4258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9" idx="3"/>
                <a:endCxn id="51" idx="2"/>
              </p:cNvCxnSpPr>
              <p:nvPr/>
            </p:nvCxnSpPr>
            <p:spPr>
              <a:xfrm>
                <a:off x="4344840" y="3873240"/>
                <a:ext cx="891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3" name=""/>
              <p:cNvCxnSpPr>
                <a:stCxn id="59" idx="1"/>
                <a:endCxn id="57" idx="2"/>
              </p:cNvCxnSpPr>
              <p:nvPr/>
            </p:nvCxnSpPr>
            <p:spPr>
              <a:xfrm rot="10800000">
                <a:off x="739080" y="2912400"/>
                <a:ext cx="1666080" cy="96120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4" name=""/>
              <p:cNvCxnSpPr>
                <a:stCxn id="57" idx="0"/>
                <a:endCxn id="50" idx="2"/>
              </p:cNvCxnSpPr>
              <p:nvPr/>
            </p:nvCxnSpPr>
            <p:spPr>
              <a:xfrm flipH="1" flipV="1" rot="5400000">
                <a:off x="1233720" y="838440"/>
                <a:ext cx="1062720" cy="205164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5" name=""/>
          <p:cNvGrpSpPr/>
          <p:nvPr/>
        </p:nvGrpSpPr>
        <p:grpSpPr>
          <a:xfrm>
            <a:off x="3374280" y="697680"/>
            <a:ext cx="4750560" cy="2820240"/>
            <a:chOff x="3374280" y="697680"/>
            <a:chExt cx="4750560" cy="2820240"/>
          </a:xfrm>
        </p:grpSpPr>
        <p:sp>
          <p:nvSpPr>
            <p:cNvPr id="66" name=""/>
            <p:cNvSpPr/>
            <p:nvPr/>
          </p:nvSpPr>
          <p:spPr>
            <a:xfrm>
              <a:off x="4843440" y="1038240"/>
              <a:ext cx="1736640" cy="590400"/>
            </a:xfrm>
            <a:prstGeom prst="hexagon">
              <a:avLst>
                <a:gd name="adj" fmla="val 73537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76880" y="1180800"/>
              <a:ext cx="1047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51" idx="0"/>
              <a:endCxn id="66" idx="2"/>
            </p:cNvCxnSpPr>
            <p:nvPr/>
          </p:nvCxnSpPr>
          <p:spPr>
            <a:xfrm flipV="1">
              <a:off x="5711400" y="1628280"/>
              <a:ext cx="1080" cy="18900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6" idx="3"/>
              <a:endCxn id="67" idx="1"/>
            </p:cNvCxnSpPr>
            <p:nvPr/>
          </p:nvCxnSpPr>
          <p:spPr>
            <a:xfrm>
              <a:off x="6580080" y="1333080"/>
              <a:ext cx="49752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6"/>
              <a:endCxn id="66" idx="1"/>
            </p:cNvCxnSpPr>
            <p:nvPr/>
          </p:nvCxnSpPr>
          <p:spPr>
            <a:xfrm>
              <a:off x="3959280" y="1333080"/>
              <a:ext cx="88488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0"/>
              <a:endCxn id="50" idx="0"/>
            </p:cNvCxnSpPr>
            <p:nvPr/>
          </p:nvCxnSpPr>
          <p:spPr>
            <a:xfrm flipV="1" rot="16200000">
              <a:off x="5360400" y="-1059840"/>
              <a:ext cx="254520" cy="4226760"/>
            </a:xfrm>
            <a:prstGeom prst="bentConnector3">
              <a:avLst>
                <a:gd name="adj1" fmla="val 189943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0" y="5175360"/>
            <a:ext cx="5003640" cy="1684800"/>
            <a:chOff x="0" y="5175360"/>
            <a:chExt cx="5003640" cy="1684800"/>
          </a:xfrm>
        </p:grpSpPr>
        <p:sp>
          <p:nvSpPr>
            <p:cNvPr id="73" name=""/>
            <p:cNvSpPr/>
            <p:nvPr/>
          </p:nvSpPr>
          <p:spPr>
            <a:xfrm>
              <a:off x="0" y="5175360"/>
              <a:ext cx="2882880" cy="12218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unchNewReques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:= empty BroadcastReques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126120"/>
              <a:ext cx="5003640" cy="73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roadcastRequest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sert RequestFrom(self) into Request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067360" y="4108320"/>
            <a:ext cx="4076640" cy="1984680"/>
            <a:chOff x="5067360" y="4108320"/>
            <a:chExt cx="4076640" cy="1984680"/>
          </a:xfrm>
        </p:grpSpPr>
        <p:sp>
          <p:nvSpPr>
            <p:cNvPr id="76" name=""/>
            <p:cNvSpPr/>
            <p:nvPr/>
          </p:nvSpPr>
          <p:spPr>
            <a:xfrm>
              <a:off x="5067360" y="5419800"/>
              <a:ext cx="407664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d answ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From(n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ert ReplyFrom(self) into Reply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61120" y="4108320"/>
              <a:ext cx="2882880" cy="13132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equest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elete r from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nd answer for 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179-6EA0-41A1-9969-7CE360765A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Stability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consensus ASM, if the run terminates, then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agr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y = 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follows from the definition of LaunchNewRequest,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en Reply=full at agent, then there is no RequestFrom(agent) in Request(n) for any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 neighb(ag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7CD-0A9C-40F5-9EAE-BD9C2AE449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5 (in particular Fig. 35.1) and Section 80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ABE-2082-4175-BD97-676C1B2249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39Z</dcterms:modified>
  <cp:revision>745</cp:revision>
  <dc:subject>The ASM Method</dc:subject>
  <dc:title>The ASM Method</dc:title>
</cp:coreProperties>
</file>