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C6BF-D2AA-4E77-8ADC-5A7C0E54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20EE-C469-4CF0-8BDF-A58FC4C0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852E-7D44-4967-8837-E08F8FBE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4B74-05F9-4582-A6C6-52C07078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5737-7396-4889-AF70-360E0956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9258-E2A4-4363-9F76-31FBFEBB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0BA-C3FF-4B64-9F13-FB61A79B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B9CF-A3CA-4AE7-9F83-A9C886C2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6E3-BE6C-4746-9B99-16A30EBD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89A6-36B4-4C52-BAAA-5C81E277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415-C10C-4D98-9574-9345E899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B2B-6730-4A2B-A361-76F4750C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F687-9AA6-495E-A3EF-104F809C1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urner 1993)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blem Description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sign a system for the following multi-player ga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A Daemon generates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Bump signals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at random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. Players in system env have to guess whether the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number of generated Bump signals is odd or even,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by sending a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rob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signal. The system replies by sending the signal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Win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resp.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Los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if the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number of the generated Bump signals is odd resp. ev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system keeps track of the score of each player. The score is initially 0. It is increased (decreased) by 1 for each (un) successful guess. A player can ask for the current value of the score by the signal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esult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which is answered by the system with the signal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Scor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Before a player can start playing , the player must log in via signal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NewGam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. A player logs out via signal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ndGam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. The system allocates a player a unique ID on logging in, and de-allocates it on logging out. The system cannot tell whether different IDs are being used by the same play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817-21B6-4388-801D-896243B2AD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-agent ASM for Daemon Gam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ith global dynamic externa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t issuin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aem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0880" y="2514600"/>
            <a:ext cx="8610840" cy="1066680"/>
            <a:chOff x="380880" y="2514600"/>
            <a:chExt cx="8610840" cy="1066680"/>
          </a:xfrm>
        </p:grpSpPr>
        <p:sp>
          <p:nvSpPr>
            <p:cNvPr id="45" name=""/>
            <p:cNvSpPr/>
            <p:nvPr/>
          </p:nvSpPr>
          <p:spPr>
            <a:xfrm>
              <a:off x="5410080" y="2590920"/>
              <a:ext cx="533520" cy="3070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3520" y="2971800"/>
              <a:ext cx="2666880" cy="609480"/>
            </a:xfrm>
            <a:prstGeom prst="hexagon">
              <a:avLst>
                <a:gd name="adj" fmla="val 109392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in = Prob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amp; p in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657600" y="3048120"/>
              <a:ext cx="1905120" cy="457200"/>
            </a:xfrm>
            <a:prstGeom prst="hexagon">
              <a:avLst>
                <a:gd name="adj" fmla="val 104173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inning(lot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48520" y="2514600"/>
              <a:ext cx="2514600" cy="5335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score  : = p.score  +1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out : =  W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3276720"/>
              <a:ext cx="1526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" name=""/>
            <p:cNvCxnSpPr>
              <a:stCxn id="46" idx="3"/>
              <a:endCxn id="47" idx="1"/>
            </p:cNvCxnSpPr>
            <p:nvPr/>
          </p:nvCxnSpPr>
          <p:spPr>
            <a:xfrm>
              <a:off x="3200400" y="3276360"/>
              <a:ext cx="45792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1" name=""/>
            <p:cNvCxnSpPr>
              <a:stCxn id="47" idx="3"/>
              <a:endCxn id="48" idx="1"/>
            </p:cNvCxnSpPr>
            <p:nvPr/>
          </p:nvCxnSpPr>
          <p:spPr>
            <a:xfrm flipV="1">
              <a:off x="5562360" y="2781000"/>
              <a:ext cx="686520" cy="496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52" name=""/>
            <p:cNvSpPr/>
            <p:nvPr/>
          </p:nvSpPr>
          <p:spPr>
            <a:xfrm>
              <a:off x="8763120" y="2819520"/>
              <a:ext cx="228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410080" y="3276720"/>
            <a:ext cx="3581640" cy="761760"/>
            <a:chOff x="5410080" y="3276720"/>
            <a:chExt cx="3581640" cy="761760"/>
          </a:xfrm>
        </p:grpSpPr>
        <p:sp>
          <p:nvSpPr>
            <p:cNvPr id="54" name=""/>
            <p:cNvSpPr/>
            <p:nvPr/>
          </p:nvSpPr>
          <p:spPr>
            <a:xfrm>
              <a:off x="5410080" y="3581280"/>
              <a:ext cx="533520" cy="3070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48520" y="3505320"/>
              <a:ext cx="2514600" cy="5331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score : = p.score  -1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out : =  Lo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6" name=""/>
            <p:cNvCxnSpPr>
              <a:stCxn id="47" idx="3"/>
              <a:endCxn id="55" idx="1"/>
            </p:cNvCxnSpPr>
            <p:nvPr/>
          </p:nvCxnSpPr>
          <p:spPr>
            <a:xfrm>
              <a:off x="5562360" y="3276720"/>
              <a:ext cx="686520" cy="496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57" name=""/>
            <p:cNvSpPr/>
            <p:nvPr/>
          </p:nvSpPr>
          <p:spPr>
            <a:xfrm>
              <a:off x="8763120" y="3733920"/>
              <a:ext cx="228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80880" y="4266720"/>
            <a:ext cx="5867640" cy="1067400"/>
            <a:chOff x="380880" y="4266720"/>
            <a:chExt cx="5867640" cy="1067400"/>
          </a:xfrm>
        </p:grpSpPr>
        <p:sp>
          <p:nvSpPr>
            <p:cNvPr id="59" name=""/>
            <p:cNvSpPr/>
            <p:nvPr/>
          </p:nvSpPr>
          <p:spPr>
            <a:xfrm>
              <a:off x="533520" y="4724280"/>
              <a:ext cx="2666880" cy="609840"/>
            </a:xfrm>
            <a:prstGeom prst="hexagon">
              <a:avLst>
                <a:gd name="adj" fmla="val 109327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in = Resul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amp; p in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81280" y="4838760"/>
              <a:ext cx="2133720" cy="3808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out : = p.score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>
              <a:stCxn id="62" idx="2"/>
              <a:endCxn id="59" idx="1"/>
            </p:cNvCxnSpPr>
            <p:nvPr/>
          </p:nvCxnSpPr>
          <p:spPr>
            <a:xfrm flipH="1" rot="16200000">
              <a:off x="152280" y="4647600"/>
              <a:ext cx="610200" cy="15336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3"/>
              <a:endCxn id="60" idx="1"/>
            </p:cNvCxnSpPr>
            <p:nvPr/>
          </p:nvCxnSpPr>
          <p:spPr>
            <a:xfrm>
              <a:off x="3200400" y="5028840"/>
              <a:ext cx="38160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64" name=""/>
            <p:cNvSpPr/>
            <p:nvPr/>
          </p:nvSpPr>
          <p:spPr>
            <a:xfrm>
              <a:off x="5715000" y="5029200"/>
              <a:ext cx="5335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248520" y="4266720"/>
              <a:ext cx="0" cy="7621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880" y="5041440"/>
            <a:ext cx="5868000" cy="1295640"/>
            <a:chOff x="380880" y="5041440"/>
            <a:chExt cx="5868000" cy="1295640"/>
          </a:xfrm>
        </p:grpSpPr>
        <p:sp>
          <p:nvSpPr>
            <p:cNvPr id="67" name=""/>
            <p:cNvSpPr/>
            <p:nvPr/>
          </p:nvSpPr>
          <p:spPr>
            <a:xfrm>
              <a:off x="533520" y="5727600"/>
              <a:ext cx="2666880" cy="609480"/>
            </a:xfrm>
            <a:prstGeom prst="hexagon">
              <a:avLst>
                <a:gd name="adj" fmla="val 109392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in = EndG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amp; p in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81280" y="5842080"/>
              <a:ext cx="2057400" cy="3808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lete p from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0880" y="5041800"/>
              <a:ext cx="0" cy="990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9" idx="0"/>
              <a:endCxn id="67" idx="1"/>
            </p:cNvCxnSpPr>
            <p:nvPr/>
          </p:nvCxnSpPr>
          <p:spPr>
            <a:xfrm>
              <a:off x="380880" y="6032160"/>
              <a:ext cx="1533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7" idx="3"/>
              <a:endCxn id="68" idx="1"/>
            </p:cNvCxnSpPr>
            <p:nvPr/>
          </p:nvCxnSpPr>
          <p:spPr>
            <a:xfrm>
              <a:off x="3200400" y="6032160"/>
              <a:ext cx="38160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68" idx="3"/>
              <a:endCxn id="65" idx="0"/>
            </p:cNvCxnSpPr>
            <p:nvPr/>
          </p:nvCxnSpPr>
          <p:spPr>
            <a:xfrm flipV="1">
              <a:off x="5638680" y="5041440"/>
              <a:ext cx="610560" cy="99144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73" name=""/>
          <p:cNvSpPr/>
          <p:nvPr/>
        </p:nvSpPr>
        <p:spPr>
          <a:xfrm>
            <a:off x="7010280" y="0"/>
            <a:ext cx="2133720" cy="495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&amp; play ru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851040"/>
            <a:ext cx="8991720" cy="5727600"/>
            <a:chOff x="0" y="851040"/>
            <a:chExt cx="8991720" cy="5727600"/>
          </a:xfrm>
        </p:grpSpPr>
        <p:sp>
          <p:nvSpPr>
            <p:cNvPr id="75" name=""/>
            <p:cNvSpPr/>
            <p:nvPr/>
          </p:nvSpPr>
          <p:spPr>
            <a:xfrm>
              <a:off x="0" y="1308240"/>
              <a:ext cx="8991720" cy="525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0" y="851040"/>
              <a:ext cx="8978760" cy="5727600"/>
              <a:chOff x="0" y="851040"/>
              <a:chExt cx="8978760" cy="5727600"/>
            </a:xfrm>
          </p:grpSpPr>
          <p:sp>
            <p:nvSpPr>
              <p:cNvPr id="77" name=""/>
              <p:cNvSpPr/>
              <p:nvPr/>
            </p:nvSpPr>
            <p:spPr>
              <a:xfrm>
                <a:off x="0" y="851040"/>
                <a:ext cx="8940960" cy="444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orall usr in USER , forall p in PLAY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42000" y="5753160"/>
                <a:ext cx="2336760" cy="82548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ynchronizing users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nd plays in paralle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0" y="1460520"/>
            <a:ext cx="8991720" cy="2971800"/>
            <a:chOff x="0" y="1460520"/>
            <a:chExt cx="8991720" cy="2971800"/>
          </a:xfrm>
        </p:grpSpPr>
        <p:grpSp>
          <p:nvGrpSpPr>
            <p:cNvPr id="80" name=""/>
            <p:cNvGrpSpPr/>
            <p:nvPr/>
          </p:nvGrpSpPr>
          <p:grpSpPr>
            <a:xfrm>
              <a:off x="228600" y="1460520"/>
              <a:ext cx="8763120" cy="2971800"/>
              <a:chOff x="228600" y="1460520"/>
              <a:chExt cx="8763120" cy="2971800"/>
            </a:xfrm>
          </p:grpSpPr>
          <p:sp>
            <p:nvSpPr>
              <p:cNvPr id="81" name=""/>
              <p:cNvSpPr/>
              <p:nvPr/>
            </p:nvSpPr>
            <p:spPr>
              <a:xfrm>
                <a:off x="533520" y="1460520"/>
                <a:ext cx="2666880" cy="609480"/>
              </a:xfrm>
              <a:prstGeom prst="hexagon">
                <a:avLst>
                  <a:gd name="adj" fmla="val 109392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usr.in = NewGam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&amp; usr in US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581280" y="1498680"/>
                <a:ext cx="2210040" cy="53316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et p = new (PLAY)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.initialize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   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600" y="4127400"/>
                <a:ext cx="304920" cy="3049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3" name=""/>
              <p:cNvCxnSpPr>
                <a:stCxn id="62" idx="0"/>
                <a:endCxn id="81" idx="1"/>
              </p:cNvCxnSpPr>
              <p:nvPr/>
            </p:nvCxnSpPr>
            <p:spPr>
              <a:xfrm flipH="1" flipV="1" rot="5400000">
                <a:off x="-724320" y="2869560"/>
                <a:ext cx="2363040" cy="15336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84" name=""/>
              <p:cNvCxnSpPr>
                <a:stCxn id="81" idx="3"/>
                <a:endCxn id="82" idx="1"/>
              </p:cNvCxnSpPr>
              <p:nvPr/>
            </p:nvCxnSpPr>
            <p:spPr>
              <a:xfrm>
                <a:off x="3200400" y="1764720"/>
                <a:ext cx="381600" cy="108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sp>
            <p:nvSpPr>
              <p:cNvPr id="85" name=""/>
              <p:cNvSpPr/>
              <p:nvPr/>
            </p:nvSpPr>
            <p:spPr>
              <a:xfrm>
                <a:off x="5791320" y="1765080"/>
                <a:ext cx="32004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91720" y="1765080"/>
                <a:ext cx="0" cy="2514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7" name=""/>
              <p:cNvCxnSpPr>
                <a:stCxn id="86" idx="0"/>
                <a:endCxn id="62" idx="3"/>
              </p:cNvCxnSpPr>
              <p:nvPr/>
            </p:nvCxnSpPr>
            <p:spPr>
              <a:xfrm flipH="1">
                <a:off x="532800" y="4279320"/>
                <a:ext cx="8458920" cy="108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  <p:sp>
          <p:nvSpPr>
            <p:cNvPr id="88" name=""/>
            <p:cNvSpPr/>
            <p:nvPr/>
          </p:nvSpPr>
          <p:spPr>
            <a:xfrm>
              <a:off x="0" y="4279680"/>
              <a:ext cx="228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BCD-611C-4973-86DC-FDD893FB99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Further Explana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.initializ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= p.score: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Is th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(lot issuing)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Daemon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‘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integral part of the description’ or ‘artefact of the informal explanation’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bump count global </a:t>
            </a:r>
            <a:r>
              <a:rPr b="0" lang="it-IT" sz="1600" spc="-1" strike="noStrike">
                <a:solidFill>
                  <a:srgbClr val="ff9966"/>
                </a:solidFill>
                <a:latin typeface="Arial"/>
              </a:rPr>
              <a:t>(‘since the system started’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or per ga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Both questions are about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he nature of a lot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(global or local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Monitored fct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(s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winning/losing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lot</a:t>
            </a:r>
            <a:r>
              <a:rPr b="0" lang="it-IT" sz="1800" spc="-1" strike="noStrike">
                <a:solidFill>
                  <a:srgbClr val="ff9966"/>
                </a:solidFill>
                <a:latin typeface="Arial"/>
              </a:rPr>
              <a:t>, Bump counter increasing  by 1, </a:t>
            </a:r>
            <a:r>
              <a:rPr b="0" lang="it-IT" sz="1800" spc="-1" strike="noStrike">
                <a:solidFill>
                  <a:srgbClr val="f2cab8"/>
                </a:solidFill>
                <a:latin typeface="Arial"/>
              </a:rPr>
              <a:t>alternating  0-1-f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Agent with rule 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forall p in PLAY  p.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bump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:=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1 –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p.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bump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Derived fct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p.bump = bump–p.bump</a:t>
            </a:r>
            <a:r>
              <a:rPr b="0" lang="it-IT" sz="2000" spc="-1" strike="noStrike" baseline="-25000">
                <a:solidFill>
                  <a:srgbClr val="f2cab8"/>
                </a:solidFill>
                <a:latin typeface="Arial"/>
              </a:rPr>
              <a:t>init</a:t>
            </a: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with global bump, adding to p.initialize the update p.bump</a:t>
            </a:r>
            <a:r>
              <a:rPr b="0" lang="it-IT" sz="2000" spc="-1" strike="noStrike" baseline="-25000">
                <a:solidFill>
                  <a:srgbClr val="ff9966"/>
                </a:solidFill>
                <a:latin typeface="Arial"/>
              </a:rPr>
              <a:t>init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:= bu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dentification of players and games: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’Presumably some identifiers are needed, but how should they be allocated and what should they distinguish?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‘The players should be an anonymous part of the env of the system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new(PLAY) adds fresh elements p to PLAY, identified as instance paramete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possible to link user and play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adding </a:t>
            </a: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p.user:= sender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to p.initiali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728E-4087-4478-9769-6857466473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Further Explanations (Cont’d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03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terruption of Probe or Result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‘Should it be allowable for another signal to be processed by the system bw Probe and Win/Lose, or bw Result and Score?’ ‘Probe and Result should be followed by their respective responses before any other signal is processed.’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Guaranteed by atomicity of ASM rule ex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obustness Condi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What should happen if a player who is already logged in tries to issue NewGame again?’  ‘NewGame should be allowed to happen in a current game, but should be ignored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What should happen if a player issues any signal other than NewGame before logging into a game?’ ‘The intention was to allow Probe, Result, or EndGame when a game is not current, but to ignore these signals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Guaranteed by no ASM rule being applicable (equiv to SK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xcluding behaviour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‘What should happen if the player issues Win, Lose, or Score signals?’ ‘The intention was to disallow such behaviour:it simply must not happen, as opposed to happening but be ignored.’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Excluded by sign cond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x.in = NewGame, Probe, Result, EndG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A40-F3E7-4AE4-80A2-2BC33DB9A9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Referenc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K. J. Turner (Ed.): Using Formal Description Techniques – An Introduction to Estelle, LOTOS and SD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John Wiley, New York, 199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 a Petri net solution see section 11 (in particular Fig. 7, pg.314)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J. Billington: Protocol Specification Using P-Graphs, a Technique Based on Coloured Petri Nets.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In: W. Reisig, G. Rozenberg (Eds.): Lectures on Petri Nets II: Applications. Springer LNCS 1492 (1998) 293-33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Chapter 2.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571D-2DDE-4990-A9F7-7709BD349C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2:59Z</dcterms:modified>
  <cp:revision>710</cp:revision>
  <dc:subject>Illustrating ASM construct forall</dc:subject>
  <dc:title>ASM Model for Daemon Game </dc:title>
</cp:coreProperties>
</file>