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483-E212-4ED7-8492-57174C4B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D4E-F37B-40EA-93EB-198E5CD0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E5F-3A7B-4744-9241-7DF53682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E5E-1AD4-4BFB-A785-BE7A58FE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27A-53CF-4A30-83C3-AB777DFB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3B8-479D-4158-9EA7-CE137DB4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5AB-A46B-4B2C-A7CA-BD873B64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8DB-049B-4AAA-A501-0D1F9E28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74E-EC31-44D7-B5BC-B29827A3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D81-8D65-4316-9D0A-5F51A57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253-6BCE-41F6-A708-9A062DBA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9E0-B2EE-496A-8CF5-2E34DB63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BE9F-4874-4CA3-9193-70B3E5A7E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xclusive Use of Shared Resources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Dining Philosophers Problem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problem stat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every interested agent to eventually use some shared resource in exclusive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two users to use the shared resource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s each equipped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ourc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(different agents may have the same resou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wner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ource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ording the current user of a given 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691-B255-4A90-833E-3A700878F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single agent vie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7249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ery single agent would like to execute alternately the following two ru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3762360"/>
            <a:ext cx="42166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3749760"/>
            <a:ext cx="42670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440" y="4800600"/>
            <a:ext cx="8775720" cy="1739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flicts in using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hared among different ag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risolved by defining a partial order among possibly conflicting moves in a distributed (appropriately initialized) run of an async ASM. Realizing such an order reflects appropriate scheduling and priority poli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19F-98E6-433F-9073-D0C73D343D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ning Philosoph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llustrating exclusive use of shared resour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54080"/>
            <a:ext cx="8978760" cy="1190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hared resources represented as “forks” used by “philosophers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source assigning function F: depends on the neighbourhood in the underlying 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.g. each agent may have one left and one right neighbour sharing the resource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k = (leftF,rightF) with elementwise defined Ow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05080" y="2577960"/>
            <a:ext cx="4057200" cy="2222280"/>
            <a:chOff x="2305080" y="2577960"/>
            <a:chExt cx="4057200" cy="2222280"/>
          </a:xfrm>
        </p:grpSpPr>
        <p:sp>
          <p:nvSpPr>
            <p:cNvPr id="54" name=""/>
            <p:cNvSpPr/>
            <p:nvPr/>
          </p:nvSpPr>
          <p:spPr>
            <a:xfrm>
              <a:off x="2305080" y="2590560"/>
              <a:ext cx="799920" cy="66060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lef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76760" y="2577960"/>
              <a:ext cx="785520" cy="66024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igh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77920" y="3885840"/>
              <a:ext cx="912600" cy="914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h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>
              <a:off x="2999880" y="3141000"/>
              <a:ext cx="1348200" cy="732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/>
            <p:nvPr/>
          </p:nvCxnSpPr>
          <p:spPr>
            <a:xfrm flipH="1">
              <a:off x="4347720" y="3128760"/>
              <a:ext cx="1355760" cy="7452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/>
            <p:nvPr/>
          </p:nvCxnSpPr>
          <p:spPr>
            <a:xfrm flipV="1">
              <a:off x="4803480" y="3199680"/>
              <a:ext cx="1180080" cy="11059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/>
            <p:nvPr/>
          </p:nvCxnSpPr>
          <p:spPr>
            <a:xfrm rot="10800000">
              <a:off x="2678760" y="3250440"/>
              <a:ext cx="1173600" cy="10926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54160" y="5313240"/>
            <a:ext cx="8686800" cy="959400"/>
            <a:chOff x="254160" y="5313240"/>
            <a:chExt cx="8686800" cy="959400"/>
          </a:xfrm>
        </p:grpSpPr>
        <p:sp>
          <p:nvSpPr>
            <p:cNvPr id="62" name=""/>
            <p:cNvSpPr/>
            <p:nvPr/>
          </p:nvSpPr>
          <p:spPr>
            <a:xfrm>
              <a:off x="254160" y="5313240"/>
              <a:ext cx="436860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self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8000" y="5324400"/>
              <a:ext cx="415296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non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B86-F237-43FD-9B8F-7C696EDBDD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F43-8C68-4061-A112-D07AD56A78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12Z</dcterms:modified>
  <cp:revision>716</cp:revision>
  <dc:subject/>
  <dc:title>ASM model for dining philosophers</dc:title>
</cp:coreProperties>
</file>