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DFC-AD88-425C-A537-AEAE02ED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E58-009F-4CA7-95A7-0CEF15EA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B9A-EA8F-464A-96E2-E2C38794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344-7520-405C-8A88-A5C168A6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A49-0275-454D-AEC0-3E72F22E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A4B-EE72-4949-BACA-AA52087E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596-661A-47B2-A2CB-361331A9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031-5866-47FD-B3D8-DE4F09BD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8FA-068B-44BF-9CA5-1447D1D1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95A-DCD2-4CBA-B973-ACAFBA58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EAF-4997-45A7-B05E-750E276E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978-EEB0-49EF-B5F4-E498930D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65A1-9099-49C6-BF82-6E73EC781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 an ASM which offers the following operations, predicates and functions on double linked lists, whose elements have values in a given set  VALU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reateList (VALUE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reate a new double linked list with elements taking values in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end at the end a new element with given valu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sert (L, Val, Elem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nsert after Elem in L a new element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ete (L, Elem) 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ete Elem from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ccessByValue (L, Val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turn the first element in L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ssByIndex (L, i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turn the i-th element in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mpty (L), length (L), occurs (L, Elem), position (L, El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pdate (L, Elem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pdate the the value of Elem in L to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t (L1,L2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catenate two given lists in the given 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lit (L, Elem, L1, L2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lit L into L1, containing L up to including Elem, and L2 containing the rest list of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EBA-9476-4946-8F1A-AC86C5814E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L</a:t>
            </a:r>
            <a:r>
              <a:rPr b="0" lang="it-IT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[ ]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pend (Delete (L,E),E) = Delete (Append (L,E),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 from the defn of initialize (L), length (L), Append, Delete &amp; the fact that Append/Insert yield a non null co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s from the defn of ELEM(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B3A-CA71-4AB7-923F-F004C61C1A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Propertie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e that the Linked List ASM has the following propert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is empty iff the next-link of its head points to its tail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fter applying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, the list is not emp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newly created linked list is empty and its length is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y Append/Delete  the list length in/de-creases by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non empty L and arbitrary elements E the following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(Delete (L,E),E) = Delete (Append (L,E),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E13-074D-48B0-8B23-E334D0D0DA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Problem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exercise in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062-934A-46E5-A2AF-39716E3C99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LINKED-LIST (VALUE) : dynamic set, with fcts “pointing” to structures of the following form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often VALUE suppressed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ynamic set ELEM (L) of “objects” currly listed in 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stinguished elems Head (L), Tail (L)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evious (L), next (L)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   dyn link f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 (L) 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VALUE  yields curr value of list e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itialize(L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for L </a:t>
            </a:r>
            <a:r>
              <a:rPr b="1" lang="it-IT" sz="2400" spc="-1" strike="noStrike">
                <a:solidFill>
                  <a:srgbClr val="ff99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LINKED-LIS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as usual, L is suppressed)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empty linked list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with values in VALUE,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d as follows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Arial"/>
              </a:rPr>
              <a:t>ELEM := { Head, Tail }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ext (Head) := Tail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revious (Tail) := H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cab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revious (Head) := next (Tail) := null (ELEM)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start/end the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 (Head) := cont (Tail) := null (VALUE)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have no con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5397480"/>
            <a:ext cx="7467120" cy="1257120"/>
            <a:chOff x="914400" y="5397480"/>
            <a:chExt cx="7467120" cy="1257120"/>
          </a:xfrm>
        </p:grpSpPr>
        <p:sp>
          <p:nvSpPr>
            <p:cNvPr id="50" name=""/>
            <p:cNvSpPr/>
            <p:nvPr/>
          </p:nvSpPr>
          <p:spPr>
            <a:xfrm>
              <a:off x="2133360" y="5397480"/>
              <a:ext cx="7617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954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57240" y="5397480"/>
              <a:ext cx="76176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440" y="5397480"/>
              <a:ext cx="76176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560" y="539748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5626080"/>
              <a:ext cx="11426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038480" y="5473440"/>
              <a:ext cx="114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1976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440" y="6121440"/>
              <a:ext cx="761760" cy="533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3360" y="6121440"/>
              <a:ext cx="837720" cy="4950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evio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560" y="6121440"/>
              <a:ext cx="761760" cy="53316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54B-4093-41B9-AF64-89B8907E63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reateList (VALUE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t L = new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LINKED-LIST ( VALUE ))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in   initialize (L)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4800" y="3124080"/>
            <a:ext cx="5029200" cy="1295280"/>
            <a:chOff x="4114800" y="3124080"/>
            <a:chExt cx="5029200" cy="1295280"/>
          </a:xfrm>
        </p:grpSpPr>
        <p:grpSp>
          <p:nvGrpSpPr>
            <p:cNvPr id="66" name=""/>
            <p:cNvGrpSpPr/>
            <p:nvPr/>
          </p:nvGrpSpPr>
          <p:grpSpPr>
            <a:xfrm>
              <a:off x="4114800" y="3124080"/>
              <a:ext cx="5029200" cy="307080"/>
              <a:chOff x="4114800" y="3124080"/>
              <a:chExt cx="5029200" cy="307080"/>
            </a:xfrm>
          </p:grpSpPr>
          <p:sp>
            <p:nvSpPr>
              <p:cNvPr id="67" name=""/>
              <p:cNvSpPr/>
              <p:nvPr/>
            </p:nvSpPr>
            <p:spPr>
              <a:xfrm>
                <a:off x="41148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76560" y="3124080"/>
                <a:ext cx="762120" cy="3049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386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3818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19760" y="3124080"/>
                <a:ext cx="76212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80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19560" y="3352680"/>
                <a:ext cx="1143000" cy="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019200" y="3200400"/>
                <a:ext cx="1143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381880" y="411480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0120" y="4114800"/>
              <a:ext cx="761760" cy="30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0" y="4114800"/>
              <a:ext cx="76212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009920" y="3352680"/>
              <a:ext cx="1600200" cy="838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467480" y="3352680"/>
              <a:ext cx="144792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0" y="1739880"/>
            <a:ext cx="9144000" cy="1294560"/>
            <a:chOff x="0" y="1739880"/>
            <a:chExt cx="9144000" cy="1294560"/>
          </a:xfrm>
        </p:grpSpPr>
        <p:grpSp>
          <p:nvGrpSpPr>
            <p:cNvPr id="81" name=""/>
            <p:cNvGrpSpPr/>
            <p:nvPr/>
          </p:nvGrpSpPr>
          <p:grpSpPr>
            <a:xfrm>
              <a:off x="4114800" y="1815840"/>
              <a:ext cx="5029200" cy="1218600"/>
              <a:chOff x="4114800" y="1815840"/>
              <a:chExt cx="5029200" cy="12186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114800" y="1815840"/>
                <a:ext cx="5029200" cy="304560"/>
                <a:chOff x="4114800" y="1815840"/>
                <a:chExt cx="5029200" cy="3045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1148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8769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6386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3818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8580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019920" y="20440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6019560" y="18918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6400800" y="2272680"/>
                <a:ext cx="457200" cy="761760"/>
              </a:xfrm>
              <a:prstGeom prst="downArrow">
                <a:avLst>
                  <a:gd name="adj1" fmla="val 50000"/>
                  <a:gd name="adj2" fmla="val 41654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00600" y="2349000"/>
                <a:ext cx="990720" cy="456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El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1739880"/>
              <a:ext cx="9144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00"/>
                </a:buClr>
                <a:buFont typeface="Franklin Gothic Boo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Append (L, Val)</a:t>
              </a: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6320" y="2374920"/>
            <a:ext cx="9067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(ELEM (L))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previous (Tail) &amp;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e &amp;Tail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with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Link a&amp;b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next (a) :=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previous (b) := a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Insert (L, Val, 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1" lang="it-IT" sz="2000" spc="-1" strike="noStrike">
                <a:solidFill>
                  <a:srgbClr val="ffffff"/>
                </a:solidFill>
                <a:latin typeface="Franklin Gothic Book"/>
              </a:rPr>
              <a:t>(ELEM (L))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Elem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&amp;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e &amp;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next (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0DE-3FAD-4DFC-B278-A59D7E517F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&amp; Derived Fct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85800"/>
            <a:ext cx="9144000" cy="2286000"/>
            <a:chOff x="0" y="685800"/>
            <a:chExt cx="9144000" cy="2286000"/>
          </a:xfrm>
        </p:grpSpPr>
        <p:sp>
          <p:nvSpPr>
            <p:cNvPr id="98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Delete (L, e)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   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Franklin Gothic Book"/>
                </a:rPr>
                <a:t>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14800" y="762120"/>
              <a:ext cx="5029200" cy="2209680"/>
              <a:chOff x="4114800" y="762120"/>
              <a:chExt cx="5029200" cy="2209680"/>
            </a:xfrm>
          </p:grpSpPr>
          <p:sp>
            <p:nvSpPr>
              <p:cNvPr id="100" name=""/>
              <p:cNvSpPr/>
              <p:nvPr/>
            </p:nvSpPr>
            <p:spPr>
              <a:xfrm>
                <a:off x="5486400" y="2209680"/>
                <a:ext cx="457200" cy="762120"/>
              </a:xfrm>
              <a:prstGeom prst="downArrow">
                <a:avLst>
                  <a:gd name="adj1" fmla="val 50000"/>
                  <a:gd name="adj2" fmla="val 41673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4114800" y="762120"/>
                <a:ext cx="5029200" cy="1830960"/>
                <a:chOff x="4114800" y="762120"/>
                <a:chExt cx="5029200" cy="1830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381880" y="228600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620120" y="228600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858000" y="228600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114800" y="129528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8769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638680" y="129528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381880" y="1295280"/>
                  <a:ext cx="762120" cy="30492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6201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58000" y="1295280"/>
                  <a:ext cx="762120" cy="304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19920" y="1523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6019560" y="13716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7009920" y="1523880"/>
                  <a:ext cx="160020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7467480" y="1523520"/>
                  <a:ext cx="144792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20120" y="762120"/>
                  <a:ext cx="838080" cy="30456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4114800" y="3276720"/>
            <a:ext cx="5029200" cy="307080"/>
            <a:chOff x="4114800" y="3276720"/>
            <a:chExt cx="5029200" cy="307080"/>
          </a:xfrm>
        </p:grpSpPr>
        <p:sp>
          <p:nvSpPr>
            <p:cNvPr id="117" name=""/>
            <p:cNvSpPr/>
            <p:nvPr/>
          </p:nvSpPr>
          <p:spPr>
            <a:xfrm>
              <a:off x="41148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5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197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v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560" y="3504960"/>
              <a:ext cx="1143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200" y="335268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2209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nk previous (e) &amp; next (e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733920"/>
            <a:ext cx="9144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length (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m ( 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+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Tail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1800" spc="-1" strike="noStrike">
                <a:solidFill>
                  <a:srgbClr val="ccecff"/>
                </a:solidFill>
                <a:latin typeface="Franklin Gothic Book"/>
              </a:rPr>
              <a:t>well defined by initial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occurs (L, e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 :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</a:t>
            </a:r>
            <a:r>
              <a:rPr b="1" lang="it-IT" sz="2400" spc="-1" strike="noStrike">
                <a:solidFill>
                  <a:srgbClr val="0000ff"/>
                </a:solidFill>
                <a:latin typeface="Franklin Gothic Book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e</a:t>
            </a:r>
            <a:r>
              <a:rPr b="1" lang="it-IT" sz="20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ELEM(L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)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position (L, Elem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m (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lem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0" lang="it-IT" sz="2000" spc="-1" strike="noStrike">
                <a:solidFill>
                  <a:srgbClr val="eaeaea"/>
                </a:solidFill>
                <a:latin typeface="Franklin Gothic Book"/>
              </a:rPr>
              <a:t>if occurs (L, Elem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Index (L, i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             if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Value (L, Va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Franklin Gothic Book"/>
              </a:rPr>
              <a:t>fst occ of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where m= min { i | cont (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) = Val } is defined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06F-D58B-42B9-AE78-2519C62E22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09480"/>
            <a:ext cx="9144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Update (L, Elem, Val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If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occurs (L, Ele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then cont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(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se  error msg  “Elem does not occur in L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Cat (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L = new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LINKED-LIST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Head (L) :=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Tail (L) :=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) - {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- {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5334120"/>
            <a:ext cx="8991360" cy="1174320"/>
            <a:chOff x="0" y="5334120"/>
            <a:chExt cx="8991360" cy="1174320"/>
          </a:xfrm>
        </p:grpSpPr>
        <p:grpSp>
          <p:nvGrpSpPr>
            <p:cNvPr id="130" name=""/>
            <p:cNvGrpSpPr/>
            <p:nvPr/>
          </p:nvGrpSpPr>
          <p:grpSpPr>
            <a:xfrm>
              <a:off x="0" y="6095880"/>
              <a:ext cx="5029200" cy="336240"/>
              <a:chOff x="0" y="6095880"/>
              <a:chExt cx="5029200" cy="3362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609588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21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2388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7080" y="6095880"/>
                <a:ext cx="762120" cy="30708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053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f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4320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ead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705720" y="5334120"/>
              <a:ext cx="2285640" cy="1174320"/>
              <a:chOff x="6705720" y="5334120"/>
              <a:chExt cx="2285640" cy="11743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705720" y="5334120"/>
                <a:ext cx="1523880" cy="336240"/>
                <a:chOff x="6705720" y="5334120"/>
                <a:chExt cx="1523880" cy="336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705720" y="5334120"/>
                  <a:ext cx="762120" cy="30708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. . .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467840" y="533412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a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467480" y="6172200"/>
                <a:ext cx="1523880" cy="336240"/>
                <a:chOff x="7467480" y="6172200"/>
                <a:chExt cx="1523880" cy="336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229240" y="6172200"/>
                  <a:ext cx="762120" cy="3070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- - -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467480" y="617220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f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7543800" y="5562720"/>
                <a:ext cx="0" cy="685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8153280" y="5562360"/>
                <a:ext cx="0" cy="685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486400" y="5867280"/>
              <a:ext cx="990720" cy="304920"/>
            </a:xfrm>
            <a:prstGeom prst="rightArrow">
              <a:avLst>
                <a:gd name="adj1" fmla="val 50000"/>
                <a:gd name="adj2" fmla="val 81228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582-EA3A-446F-AF90-E3F5C7B04E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4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480"/>
            <a:ext cx="914400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Split (L, e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= new-tail,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= new-head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Head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ELEM (L)   if position (L, E) &lt; position (L, 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hen 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&amp; next (L)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Tail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2cab8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LEM (L)   if  position (L, e) &lt; position (L, E)                             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	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                           then 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60199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83080" y="1092240"/>
            <a:ext cx="4368960" cy="1252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where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Franklin Gothic Book"/>
              </a:rPr>
              <a:t>e’ = new-tail/head</a:t>
            </a: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cont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next/previous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EL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6019920"/>
            <a:ext cx="2286000" cy="1372680"/>
            <a:chOff x="0" y="6019920"/>
            <a:chExt cx="2286000" cy="1372680"/>
          </a:xfrm>
        </p:grpSpPr>
        <p:grpSp>
          <p:nvGrpSpPr>
            <p:cNvPr id="152" name=""/>
            <p:cNvGrpSpPr/>
            <p:nvPr/>
          </p:nvGrpSpPr>
          <p:grpSpPr>
            <a:xfrm>
              <a:off x="0" y="6019920"/>
              <a:ext cx="1523880" cy="1372680"/>
              <a:chOff x="0" y="6019920"/>
              <a:chExt cx="1523880" cy="137268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6019920"/>
                <a:ext cx="762120" cy="13726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2120" y="6019920"/>
                <a:ext cx="761760" cy="1372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523880" y="6019920"/>
              <a:ext cx="762120" cy="946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- - -                                   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59400" y="5778360"/>
            <a:ext cx="3429000" cy="793440"/>
            <a:chOff x="4559400" y="5778360"/>
            <a:chExt cx="3429000" cy="793440"/>
          </a:xfrm>
        </p:grpSpPr>
        <p:grpSp>
          <p:nvGrpSpPr>
            <p:cNvPr id="157" name=""/>
            <p:cNvGrpSpPr/>
            <p:nvPr/>
          </p:nvGrpSpPr>
          <p:grpSpPr>
            <a:xfrm>
              <a:off x="4559400" y="5778360"/>
              <a:ext cx="2666880" cy="336240"/>
              <a:chOff x="4559400" y="5778360"/>
              <a:chExt cx="2666880" cy="336240"/>
            </a:xfrm>
          </p:grpSpPr>
          <p:sp>
            <p:nvSpPr>
              <p:cNvPr id="158" name=""/>
              <p:cNvSpPr/>
              <p:nvPr/>
            </p:nvSpPr>
            <p:spPr>
              <a:xfrm>
                <a:off x="4559400" y="577836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21520" y="5778360"/>
                <a:ext cx="76176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07320" y="57783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ail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07320" y="6235560"/>
              <a:ext cx="1981080" cy="336240"/>
              <a:chOff x="6007320" y="6235560"/>
              <a:chExt cx="1981080" cy="3362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26280" y="6235560"/>
                <a:ext cx="762120" cy="30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07320" y="62355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ead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15A-CB4B-4334-97B0-950DD468F7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Initially true by defn of initialize (L), preserved by each opn due to the defn of Link (L) and the fact that next/previous are modified only using this macr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 is empty i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next-link of its head points to its tail.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 newly created linked list is empt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ts length is 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fter applying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ppend (L, Val), the list is not empty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Append/Delete  the list length in/de-crea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1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BB0-6366-4C1F-BC17-35555C34C2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16Z</dcterms:modified>
  <cp:revision>712</cp:revision>
  <dc:subject>Illustrating the new-construct of ASMs</dc:subject>
  <dc:title>ASM for linked lists</dc:title>
</cp:coreProperties>
</file>