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484-7578-4D4B-A80E-618C4838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330D-0AC6-400F-92D5-4867570E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DCE-5A13-4E72-85B7-B44D7661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ECA-CDFE-4411-A8B5-1DE153A0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486-6321-4D52-8AC5-977B1E6C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C5F-7F09-49AE-90A6-312B57DB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C582-00BD-4D7B-893F-E2016C69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AFE-2BE5-4511-80F3-45B2255A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C01C-8C62-4790-B1CE-9896FCCA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B6DF-0264-4383-B0DA-1EB1ECBA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905-05FD-410D-ABE8-FB8DFEBE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0E2-8E04-4BAF-8DAE-9B27DA45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A3A1-2DA0-45CF-9677-769B2F1FA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on-deterministic Sorting AS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0265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deterministic sorting by iterating local swa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oose i,j in dom(a) s.t.i &lt; j &amp; a(i) &gt; a(j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(i) := a(j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(j) := a(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Sorting and Samp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689-5D11-4476-972A-0861C3CC0B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Sampling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increasing real-time moments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or firing a rule in a discrete time sequenc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85503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89089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Goal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ximate a continuous set of rules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rule(t,t’) with t&lt;t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which are to be fired in a discrete time sequence,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y a finite number of samples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with increasing sequence of real interval boundar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cab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oose t &gt; currtime 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ule(currtime,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mples := add(t,samples)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currtime :=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 currtime is a monitored function which is supposed to evolve continu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cab8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Sorting and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A97-7467-43E2-89B4-0A9E719E8E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4-08T20:51:46Z</dcterms:modified>
  <cp:revision>708</cp:revision>
  <dc:subject/>
  <dc:title>Illustrating ASM choose-construct</dc:title>
</cp:coreProperties>
</file>