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0088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8A9B-7BD8-4CAD-A3F8-50ADA025D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D10D-4F3B-44AA-9BA9-A1A5260BB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F364-4D15-42E2-A52D-0CDC376F9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4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0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320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4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0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D124-52A0-4EA6-BFFE-4F7E835AC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D4F7-3385-4856-B4AF-4F197EE79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9F76-CABE-46B0-9221-841335625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4668-7AF0-4A7D-8FA7-1BF4C8D2A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1118-1C31-435E-B6E4-CB6C5C04F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F7E5-08BF-46FD-A7E1-B9BBE424F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2174-124A-4DBD-888A-9D7C57FA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8749-F37D-4B32-A4F7-B8E0AA0A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D3BD-3724-44DF-AC4A-23554598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40" y="6616800"/>
            <a:ext cx="990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08640" y="6515280"/>
            <a:ext cx="46353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62840" y="6540480"/>
            <a:ext cx="9525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F736F-8C5C-44B8-94B5-53A613B17F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di.unipi.it/~AsmBook" TargetMode="External"/><Relationship Id="rId2" Type="http://schemas.openxmlformats.org/officeDocument/2006/relationships/hyperlink" Target="http://www.di.unipi.it/~AsmBook" TargetMode="External"/><Relationship Id="rId3" Type="http://schemas.openxmlformats.org/officeDocument/2006/relationships/hyperlink" Target="http://www.di.unipi.it/~AsmBook" TargetMode="External"/><Relationship Id="rId4" Type="http://schemas.openxmlformats.org/officeDocument/2006/relationships/hyperlink" Target="http://www.di.unipi.it/~AsmBook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9144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ntrol structure of the execution semantics of Pipe statements in SpecC: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ipe(Init,cond,Incr,p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,…,p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7840" y="1987560"/>
            <a:ext cx="7435800" cy="4400640"/>
            <a:chOff x="177840" y="1987560"/>
            <a:chExt cx="7435800" cy="4400640"/>
          </a:xfrm>
        </p:grpSpPr>
        <p:sp>
          <p:nvSpPr>
            <p:cNvPr id="43" name=""/>
            <p:cNvSpPr/>
            <p:nvPr/>
          </p:nvSpPr>
          <p:spPr>
            <a:xfrm>
              <a:off x="311040" y="2057400"/>
              <a:ext cx="749520" cy="6350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ini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81360" y="1987560"/>
              <a:ext cx="914400" cy="7747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fill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77840" y="5613480"/>
              <a:ext cx="1015920" cy="7617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finishe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670200" y="5600880"/>
              <a:ext cx="1104840" cy="7873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flush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585120" y="3498840"/>
              <a:ext cx="1028520" cy="7873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runn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3695760" y="1916280"/>
            <a:ext cx="4379760" cy="3684600"/>
            <a:chOff x="3695760" y="1916280"/>
            <a:chExt cx="4379760" cy="3684600"/>
          </a:xfrm>
        </p:grpSpPr>
        <p:sp>
          <p:nvSpPr>
            <p:cNvPr id="49" name=""/>
            <p:cNvSpPr/>
            <p:nvPr/>
          </p:nvSpPr>
          <p:spPr>
            <a:xfrm>
              <a:off x="6350040" y="2197080"/>
              <a:ext cx="1498680" cy="355680"/>
            </a:xfrm>
            <a:prstGeom prst="hexagon">
              <a:avLst>
                <a:gd name="adj" fmla="val 105339"/>
                <a:gd name="vf" fmla="val 115470"/>
              </a:avLst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317840" y="1916280"/>
              <a:ext cx="1295640" cy="9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FillLoo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(cond,Incr,p</a:t>
              </a:r>
              <a:r>
                <a:rPr b="0" lang="it-IT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...p</a:t>
              </a:r>
              <a:r>
                <a:rPr b="0" lang="it-IT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467480" y="2928960"/>
              <a:ext cx="596880" cy="368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769080" y="2928960"/>
              <a:ext cx="520560" cy="368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3" name=""/>
            <p:cNvCxnSpPr>
              <a:stCxn id="49" idx="2"/>
              <a:endCxn id="46" idx="0"/>
            </p:cNvCxnSpPr>
            <p:nvPr/>
          </p:nvCxnSpPr>
          <p:spPr>
            <a:xfrm flipH="1">
              <a:off x="4222800" y="2552760"/>
              <a:ext cx="2877120" cy="304848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44" idx="6"/>
              <a:endCxn id="50" idx="1"/>
            </p:cNvCxnSpPr>
            <p:nvPr/>
          </p:nvCxnSpPr>
          <p:spPr>
            <a:xfrm>
              <a:off x="3695760" y="2374920"/>
              <a:ext cx="622440" cy="1872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55" name=""/>
            <p:cNvCxnSpPr>
              <a:stCxn id="50" idx="3"/>
              <a:endCxn id="49" idx="1"/>
            </p:cNvCxnSpPr>
            <p:nvPr/>
          </p:nvCxnSpPr>
          <p:spPr>
            <a:xfrm flipV="1">
              <a:off x="5613480" y="2374920"/>
              <a:ext cx="736920" cy="1872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56" name=""/>
            <p:cNvCxnSpPr>
              <a:stCxn id="49" idx="3"/>
              <a:endCxn id="47" idx="6"/>
            </p:cNvCxnSpPr>
            <p:nvPr/>
          </p:nvCxnSpPr>
          <p:spPr>
            <a:xfrm flipH="1">
              <a:off x="7613640" y="2374920"/>
              <a:ext cx="235440" cy="1518120"/>
            </a:xfrm>
            <a:prstGeom prst="bentConnector3">
              <a:avLst>
                <a:gd name="adj1" fmla="val -96477"/>
              </a:avLst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</p:grpSp>
      <p:grpSp>
        <p:nvGrpSpPr>
          <p:cNvPr id="57" name=""/>
          <p:cNvGrpSpPr/>
          <p:nvPr/>
        </p:nvGrpSpPr>
        <p:grpSpPr>
          <a:xfrm>
            <a:off x="1193760" y="5673600"/>
            <a:ext cx="2476440" cy="680040"/>
            <a:chOff x="1193760" y="5673600"/>
            <a:chExt cx="2476440" cy="680040"/>
          </a:xfrm>
        </p:grpSpPr>
        <p:sp>
          <p:nvSpPr>
            <p:cNvPr id="58" name=""/>
            <p:cNvSpPr/>
            <p:nvPr/>
          </p:nvSpPr>
          <p:spPr>
            <a:xfrm>
              <a:off x="1765440" y="5673600"/>
              <a:ext cx="1295280" cy="68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FlushLoo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(p</a:t>
              </a:r>
              <a:r>
                <a:rPr b="0" lang="it-IT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...p</a:t>
              </a:r>
              <a:r>
                <a:rPr b="0" lang="it-IT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9" name=""/>
            <p:cNvCxnSpPr>
              <a:stCxn id="46" idx="2"/>
              <a:endCxn id="58" idx="3"/>
            </p:cNvCxnSpPr>
            <p:nvPr/>
          </p:nvCxnSpPr>
          <p:spPr>
            <a:xfrm flipH="1">
              <a:off x="3060720" y="5994720"/>
              <a:ext cx="609840" cy="1908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60" name=""/>
            <p:cNvCxnSpPr>
              <a:stCxn id="58" idx="1"/>
              <a:endCxn id="45" idx="6"/>
            </p:cNvCxnSpPr>
            <p:nvPr/>
          </p:nvCxnSpPr>
          <p:spPr>
            <a:xfrm flipH="1" flipV="1">
              <a:off x="1193760" y="5994360"/>
              <a:ext cx="572040" cy="1944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</p:grpSp>
      <p:grpSp>
        <p:nvGrpSpPr>
          <p:cNvPr id="61" name=""/>
          <p:cNvGrpSpPr/>
          <p:nvPr/>
        </p:nvGrpSpPr>
        <p:grpSpPr>
          <a:xfrm>
            <a:off x="1060560" y="2190600"/>
            <a:ext cx="1720800" cy="368280"/>
            <a:chOff x="1060560" y="2190600"/>
            <a:chExt cx="1720800" cy="368280"/>
          </a:xfrm>
        </p:grpSpPr>
        <p:sp>
          <p:nvSpPr>
            <p:cNvPr id="62" name=""/>
            <p:cNvSpPr/>
            <p:nvPr/>
          </p:nvSpPr>
          <p:spPr>
            <a:xfrm>
              <a:off x="1600200" y="2190600"/>
              <a:ext cx="5968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Ini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3" name=""/>
            <p:cNvCxnSpPr>
              <a:stCxn id="62" idx="3"/>
              <a:endCxn id="44" idx="2"/>
            </p:cNvCxnSpPr>
            <p:nvPr/>
          </p:nvCxnSpPr>
          <p:spPr>
            <a:xfrm>
              <a:off x="2197080" y="2374560"/>
              <a:ext cx="584640" cy="72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43" idx="6"/>
              <a:endCxn id="62" idx="1"/>
            </p:cNvCxnSpPr>
            <p:nvPr/>
          </p:nvCxnSpPr>
          <p:spPr>
            <a:xfrm flipV="1">
              <a:off x="1060560" y="2374560"/>
              <a:ext cx="540000" cy="72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</p:grpSp>
      <p:grpSp>
        <p:nvGrpSpPr>
          <p:cNvPr id="65" name=""/>
          <p:cNvGrpSpPr/>
          <p:nvPr/>
        </p:nvGrpSpPr>
        <p:grpSpPr>
          <a:xfrm>
            <a:off x="38160" y="2692440"/>
            <a:ext cx="1295280" cy="2921040"/>
            <a:chOff x="38160" y="2692440"/>
            <a:chExt cx="1295280" cy="2921040"/>
          </a:xfrm>
        </p:grpSpPr>
        <p:sp>
          <p:nvSpPr>
            <p:cNvPr id="66" name=""/>
            <p:cNvSpPr/>
            <p:nvPr/>
          </p:nvSpPr>
          <p:spPr>
            <a:xfrm>
              <a:off x="38160" y="3843360"/>
              <a:ext cx="129528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advanc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st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45" idx="0"/>
              <a:endCxn id="66" idx="2"/>
            </p:cNvCxnSpPr>
            <p:nvPr/>
          </p:nvCxnSpPr>
          <p:spPr>
            <a:xfrm flipV="1">
              <a:off x="685800" y="4485960"/>
              <a:ext cx="360" cy="112788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66" idx="0"/>
              <a:endCxn id="43" idx="4"/>
            </p:cNvCxnSpPr>
            <p:nvPr/>
          </p:nvCxnSpPr>
          <p:spPr>
            <a:xfrm flipV="1">
              <a:off x="685800" y="2692440"/>
              <a:ext cx="360" cy="115128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</p:grpSp>
      <p:grpSp>
        <p:nvGrpSpPr>
          <p:cNvPr id="69" name=""/>
          <p:cNvGrpSpPr/>
          <p:nvPr/>
        </p:nvGrpSpPr>
        <p:grpSpPr>
          <a:xfrm>
            <a:off x="4775040" y="3892680"/>
            <a:ext cx="3848400" cy="2477880"/>
            <a:chOff x="4775040" y="3892680"/>
            <a:chExt cx="3848400" cy="2477880"/>
          </a:xfrm>
        </p:grpSpPr>
        <p:grpSp>
          <p:nvGrpSpPr>
            <p:cNvPr id="70" name=""/>
            <p:cNvGrpSpPr/>
            <p:nvPr/>
          </p:nvGrpSpPr>
          <p:grpSpPr>
            <a:xfrm>
              <a:off x="4775040" y="4286160"/>
              <a:ext cx="3848400" cy="2084400"/>
              <a:chOff x="4775040" y="4286160"/>
              <a:chExt cx="3848400" cy="2084400"/>
            </a:xfrm>
          </p:grpSpPr>
          <p:sp>
            <p:nvSpPr>
              <p:cNvPr id="71" name=""/>
              <p:cNvSpPr/>
              <p:nvPr/>
            </p:nvSpPr>
            <p:spPr>
              <a:xfrm>
                <a:off x="5931000" y="6002280"/>
                <a:ext cx="444240" cy="36828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n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50040" y="5816520"/>
                <a:ext cx="1498680" cy="355680"/>
              </a:xfrm>
              <a:prstGeom prst="hexagon">
                <a:avLst>
                  <a:gd name="adj" fmla="val 105339"/>
                  <a:gd name="vf" fmla="val 115470"/>
                </a:avLst>
              </a:prstGeom>
              <a:solidFill>
                <a:srgbClr val="f2ca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ond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197760" y="4694400"/>
                <a:ext cx="1803240" cy="680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Spawn(p</a:t>
                </a:r>
                <a:r>
                  <a:rPr b="0" lang="it-IT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...p</a:t>
                </a:r>
                <a:r>
                  <a:rPr b="0" lang="it-IT" sz="1800" spc="-1" strike="noStrike" baseline="-25000">
                    <a:solidFill>
                      <a:srgbClr val="000000"/>
                    </a:solidFill>
                    <a:latin typeface="Arial"/>
                  </a:rPr>
                  <a:t>n</a:t>
                </a: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seq Inc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077320" y="5634000"/>
                <a:ext cx="546120" cy="36828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yes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75" name=""/>
              <p:cNvCxnSpPr>
                <a:stCxn id="47" idx="4"/>
                <a:endCxn id="73" idx="0"/>
              </p:cNvCxnSpPr>
              <p:nvPr/>
            </p:nvCxnSpPr>
            <p:spPr>
              <a:xfrm>
                <a:off x="7099200" y="4286160"/>
                <a:ext cx="360" cy="408600"/>
              </a:xfrm>
              <a:prstGeom prst="straightConnector1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</p:cxnSp>
          <p:cxnSp>
            <p:nvCxnSpPr>
              <p:cNvPr id="76" name=""/>
              <p:cNvCxnSpPr>
                <a:stCxn id="73" idx="2"/>
                <a:endCxn id="72" idx="0"/>
              </p:cNvCxnSpPr>
              <p:nvPr/>
            </p:nvCxnSpPr>
            <p:spPr>
              <a:xfrm>
                <a:off x="7099200" y="5374440"/>
                <a:ext cx="720" cy="442440"/>
              </a:xfrm>
              <a:prstGeom prst="straightConnector1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</p:cxnSp>
          <p:cxnSp>
            <p:nvCxnSpPr>
              <p:cNvPr id="77" name=""/>
              <p:cNvCxnSpPr>
                <a:stCxn id="72" idx="1"/>
                <a:endCxn id="46" idx="6"/>
              </p:cNvCxnSpPr>
              <p:nvPr/>
            </p:nvCxnSpPr>
            <p:spPr>
              <a:xfrm flipH="1">
                <a:off x="4775040" y="5994360"/>
                <a:ext cx="1575360" cy="720"/>
              </a:xfrm>
              <a:prstGeom prst="straightConnector1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</p:cxnSp>
        </p:grpSp>
        <p:cxnSp>
          <p:nvCxnSpPr>
            <p:cNvPr id="78" name=""/>
            <p:cNvCxnSpPr>
              <a:stCxn id="72" idx="3"/>
              <a:endCxn id="47" idx="6"/>
            </p:cNvCxnSpPr>
            <p:nvPr/>
          </p:nvCxnSpPr>
          <p:spPr>
            <a:xfrm flipH="1" flipV="1">
              <a:off x="7613640" y="3892680"/>
              <a:ext cx="235440" cy="2102040"/>
            </a:xfrm>
            <a:prstGeom prst="bentConnector3">
              <a:avLst>
                <a:gd name="adj1" fmla="val -96477"/>
              </a:avLst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ntrol State ASM for SpecC pipe st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9880" y="0"/>
            <a:ext cx="786132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1200" y="571320"/>
            <a:ext cx="8902800" cy="57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. Mueller and R. Doemer and A. Gerstlauer: The Formal Execution Semantics of Spec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: TR ICS-01-59 of University of California at Irvine, November 30, 20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 Börger, R. Stärk: Abstract State Machines.  A Method for High-Level System Design and Analysis Springer-Verlag  2003, see  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unipi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3"/>
              </a:rPr>
              <a:t>.it/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4"/>
              </a:rPr>
              <a:t>AsmBoo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e Chapter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ntrol State ASM for SpecC pipe st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23:35:09Z</dcterms:created>
  <dc:creator>Egon Boerger</dc:creator>
  <dc:description/>
  <dc:language>en-US</dc:language>
  <cp:lastModifiedBy>Egon Boerger</cp:lastModifiedBy>
  <dcterms:modified xsi:type="dcterms:W3CDTF">2003-01-09T14:06:04Z</dcterms:modified>
  <cp:revision>716</cp:revision>
  <dc:subject>The ASM Method</dc:subject>
  <dc:title>The ASM Method</dc:title>
</cp:coreProperties>
</file>