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985-256B-4DA5-8284-0942451A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6E2-2B06-4E77-B951-605290E2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E8E-230E-42C9-8A2B-650E8A00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3A0-C6DD-42DF-8074-C6190A45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00D-A487-468E-ACD3-7E123A0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84C-2174-4044-8A2B-B06D7BB7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08C-F150-4E52-8285-EB471637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AF3-5BBA-43BF-94D3-6E397BFD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BE8-BBC8-4378-A3E5-BD58DAAB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9E2-A38F-4BF6-88A8-B49A8B7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264-1ADD-4595-ABAA-195194C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C82-1209-41D2-91DE-8C797FD5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898B-0DFC-46E3-B00D-19A6A3ADA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Exercise: ASMs with Stack Oper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0840" y="723960"/>
            <a:ext cx="396252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using static concate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(Elem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ck:= Elem.stack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tack = Elem.q   then stack:= 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se errormsg:=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81560" y="673200"/>
            <a:ext cx="4762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sing dynamic head,nex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DD(Elem) =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let pos = new(POS)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ext(pos):= he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ad:= 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tack(pos):= E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MOVE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f head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en head:= next(he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se errormsg:=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40280"/>
            <a:ext cx="9144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ve: M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orrectly refines M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corresponding” runs have “equiv” stack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1.e2. … en  ~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tack(head)=e1, …, stack(next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head))=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execs of ADD resp. REMOVE ops correspond to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ta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1B0-EF67-4160-A2EB-1F9EE11BCB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7T15:17:03Z</dcterms:modified>
  <cp:revision>706</cp:revision>
  <dc:subject/>
  <dc:title>ASM model for stack</dc:title>
</cp:coreProperties>
</file>