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44-AB1D-4930-95A8-3560E02E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C6B-9C23-4937-AD6B-068B98C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17D-CB41-4033-9B25-8B9CFA25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13C-D897-4719-B9BA-BA1D7572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E57-E07B-4108-AD13-BB6371A4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81C-D9D7-4282-8ED9-CF7666BF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D3F-72B1-4EBA-848E-C1397DE3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A1A-231F-49C9-8ED2-B1EC562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1CC-5AF2-44DB-A9DB-F2BB9AF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0A4-ED6B-42C9-9340-46518F6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E63-A2F4-4A89-8EFE-A93ECAD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063-76F4-428C-AA43-3A024BA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B9B-2E6F-479B-B652-0EF2394D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CH (  (cond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t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468440"/>
            <a:ext cx="8991720" cy="1287360"/>
            <a:chOff x="0" y="1468440"/>
            <a:chExt cx="8991720" cy="1287360"/>
          </a:xfrm>
        </p:grpSpPr>
        <p:grpSp>
          <p:nvGrpSpPr>
            <p:cNvPr id="43" name=""/>
            <p:cNvGrpSpPr/>
            <p:nvPr/>
          </p:nvGrpSpPr>
          <p:grpSpPr>
            <a:xfrm>
              <a:off x="0" y="1504800"/>
              <a:ext cx="8991720" cy="1251000"/>
              <a:chOff x="0" y="1504800"/>
              <a:chExt cx="8991720" cy="12510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57480" y="1714680"/>
                <a:ext cx="1498320" cy="355320"/>
              </a:xfrm>
              <a:prstGeom prst="hexagon">
                <a:avLst>
                  <a:gd name="adj" fmla="val 10542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2408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5560" y="17017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73720" y="2400480"/>
                <a:ext cx="1498680" cy="355320"/>
              </a:xfrm>
              <a:prstGeom prst="hexagon">
                <a:avLst>
                  <a:gd name="adj" fmla="val 105446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" name=""/>
              <p:cNvCxnSpPr>
                <a:stCxn id="44" idx="6"/>
                <a:endCxn id="45" idx="1"/>
              </p:cNvCxnSpPr>
              <p:nvPr/>
            </p:nvCxnSpPr>
            <p:spPr>
              <a:xfrm>
                <a:off x="914400" y="1892160"/>
                <a:ext cx="3434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1" name=""/>
              <p:cNvCxnSpPr>
                <a:stCxn id="45" idx="3"/>
                <a:endCxn id="46" idx="2"/>
              </p:cNvCxnSpPr>
              <p:nvPr/>
            </p:nvCxnSpPr>
            <p:spPr>
              <a:xfrm flipV="1">
                <a:off x="2755800" y="1892160"/>
                <a:ext cx="3686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2" name=""/>
              <p:cNvCxnSpPr>
                <a:stCxn id="47" idx="4"/>
                <a:endCxn id="49" idx="3"/>
              </p:cNvCxnSpPr>
              <p:nvPr/>
            </p:nvCxnSpPr>
            <p:spPr>
              <a:xfrm rot="5400000">
                <a:off x="8003880" y="2048040"/>
                <a:ext cx="299160" cy="76248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3" name=""/>
              <p:cNvCxnSpPr>
                <a:stCxn id="49" idx="1"/>
                <a:endCxn id="44" idx="4"/>
              </p:cNvCxnSpPr>
              <p:nvPr/>
            </p:nvCxnSpPr>
            <p:spPr>
              <a:xfrm rot="10800000">
                <a:off x="456840" y="2279520"/>
                <a:ext cx="5816880" cy="2991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4788000" y="1468440"/>
              <a:ext cx="3314520" cy="642600"/>
              <a:chOff x="4788000" y="1468440"/>
              <a:chExt cx="3314520" cy="642600"/>
            </a:xfrm>
          </p:grpSpPr>
          <p:sp>
            <p:nvSpPr>
              <p:cNvPr id="55" name=""/>
              <p:cNvSpPr/>
              <p:nvPr/>
            </p:nvSpPr>
            <p:spPr>
              <a:xfrm>
                <a:off x="7721640" y="18795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88000" y="1468440"/>
                <a:ext cx="774720" cy="64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600" spc="-1" strike="noStrike">
                    <a:solidFill>
                      <a:srgbClr val="ffff00"/>
                    </a:solidFill>
                    <a:latin typeface="Arial"/>
                  </a:rPr>
                  <a:t>...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0" y="3919680"/>
            <a:ext cx="7378200" cy="2506680"/>
            <a:chOff x="0" y="3919680"/>
            <a:chExt cx="7378200" cy="2506680"/>
          </a:xfrm>
        </p:grpSpPr>
        <p:sp>
          <p:nvSpPr>
            <p:cNvPr id="58" name=""/>
            <p:cNvSpPr/>
            <p:nvPr/>
          </p:nvSpPr>
          <p:spPr>
            <a:xfrm>
              <a:off x="0" y="3919680"/>
              <a:ext cx="6591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se i=0,1: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lipFlop  =  Switch((high,1),(low,0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05120" y="4902120"/>
              <a:ext cx="5473080" cy="1524240"/>
              <a:chOff x="1905120" y="4902120"/>
              <a:chExt cx="5473080" cy="1524240"/>
            </a:xfrm>
          </p:grpSpPr>
          <p:sp>
            <p:nvSpPr>
              <p:cNvPr id="60" name=""/>
              <p:cNvSpPr/>
              <p:nvPr/>
            </p:nvSpPr>
            <p:spPr>
              <a:xfrm>
                <a:off x="190512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98800" y="490212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6416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8800" y="607068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0" idx="0"/>
                <a:endCxn id="61" idx="1"/>
              </p:cNvCxnSpPr>
              <p:nvPr/>
            </p:nvCxnSpPr>
            <p:spPr>
              <a:xfrm flipH="1" flipV="1" rot="5400000">
                <a:off x="3057480" y="4384800"/>
                <a:ext cx="146520" cy="1536840"/>
              </a:xfrm>
              <a:prstGeom prst="bentConnector4">
                <a:avLst>
                  <a:gd name="adj1" fmla="val 155172"/>
                  <a:gd name="adj2" fmla="val 64854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5" name=""/>
              <p:cNvCxnSpPr>
                <a:stCxn id="61" idx="3"/>
                <a:endCxn id="62" idx="0"/>
              </p:cNvCxnSpPr>
              <p:nvPr/>
            </p:nvCxnSpPr>
            <p:spPr>
              <a:xfrm>
                <a:off x="5396760" y="5079960"/>
                <a:ext cx="1524960" cy="146520"/>
              </a:xfrm>
              <a:prstGeom prst="bentConnector4">
                <a:avLst>
                  <a:gd name="adj1" fmla="val 34994"/>
                  <a:gd name="adj2" fmla="val -55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6" name=""/>
              <p:cNvCxnSpPr>
                <a:stCxn id="62" idx="4"/>
                <a:endCxn id="63" idx="3"/>
              </p:cNvCxnSpPr>
              <p:nvPr/>
            </p:nvCxnSpPr>
            <p:spPr>
              <a:xfrm rot="5400000">
                <a:off x="6035040" y="5362560"/>
                <a:ext cx="248040" cy="15249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7" name=""/>
              <p:cNvCxnSpPr>
                <a:stCxn id="63" idx="1"/>
                <a:endCxn id="60" idx="4"/>
              </p:cNvCxnSpPr>
              <p:nvPr/>
            </p:nvCxnSpPr>
            <p:spPr>
              <a:xfrm rot="10800000">
                <a:off x="2362320" y="6000840"/>
                <a:ext cx="1536840" cy="24804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SWIT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7CC-847C-4B35-ABB0-C996E8CD26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8-07T16:38:18Z</dcterms:modified>
  <cp:revision>713</cp:revision>
  <dc:subject>The ASM Method</dc:subject>
  <dc:title>The ASM Method</dc:title>
</cp:coreProperties>
</file>