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782300" cy="7656513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3F57B619-FB90-40CA-822A-97A1B66BB8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69960" y="553680"/>
            <a:ext cx="54388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4430880"/>
            <a:ext cx="57578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77880" y="4707360"/>
            <a:ext cx="54226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DD4738BA-B6FB-4E27-B842-92600D74CA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5160" y="879480"/>
            <a:ext cx="4851360" cy="3444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37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976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144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976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2144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6919560"/>
            <a:ext cx="60498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5960" y="4456080"/>
            <a:ext cx="8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9200" y="798480"/>
            <a:ext cx="58165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27440" y="80316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5960" y="6988320"/>
            <a:ext cx="9682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93348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5320" y="686916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20040" y="7147080"/>
            <a:ext cx="1873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1000" spc="-1" strike="noStrike">
                <a:solidFill>
                  <a:srgbClr val="081d58"/>
                </a:solidFill>
                <a:latin typeface="UniversS 55 Roman"/>
              </a:rPr>
              <a:t>Courtesy of P. Päppinghaus, Siemens A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1687680"/>
            <a:ext cx="9410760" cy="158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port on a Practical Application of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SMs in Software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6080" y="5300280"/>
            <a:ext cx="7629480" cy="1336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on Bör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ter Päppingha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achim Sch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3478320"/>
            <a:ext cx="9410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 FALKO Project </a:t>
            </a:r>
            <a:br>
              <a:rPr sz="3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emens (Muni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ch 1998 - Ma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 of „FALKO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 purpose of FALK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ruct &amp; validate timetables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m/sub-/railway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tables constructed offline from raw data wh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input manually via a G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read in from files written in established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idation done by sim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main components + 1 hidden discrete event simulation kernel controlling th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Component modeling the railway process has been formally specified and designed using A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63de8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integrating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or numerical computations (computing train velocities, trip times etc.) designed and hand coded conven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ort for Component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6000"/>
          </a:bodyPr>
          <a:p>
            <a:pPr marL="27432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Effort for Railway Process Model: 66 pw (person wee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irement specification based on predecessor system, developed in meetings of the      design team, documented by minutes of the meetings (4 persons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of 1st draft of executable ASM model (1 person 8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testing and debugging using the ASM Workbench (developed by Giuseppe Del Castillo as part of his Doctoral Thesis at University of Paderborn)  (1 person 8 weeks + 1 person 11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of 2nd draft of ASM model by design team plus external reviewers (6 persons 1 we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improving, testing and debugging (2 persons 5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ment of ASM-SL to C++ Code Generator (developed by Joachim Schmid as part of his Doctoral Thesis at University of Ulm, 1 person 4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ecification and implementation of additional handwritten C++ code (1 person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of FALKO system including testing and debugging (3 persons 3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of railway process model component (as collection of HTML documents with literate programming features, linked to ASM Workbench) and final polish (1 person 6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: ca. 110% of estimated total effort for conventional software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ze of ASM Model and C++ Code for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7040" y="1216080"/>
            <a:ext cx="9231480" cy="5503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M Model (source of C++ code gen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3 000 lines of ASM Workbench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20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15 functions and relations (240 functions, 75 rel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1 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9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9 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6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++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9 000 lines of generated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2 900 additional lines of handwritten C++ Code, consisting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400 lines wrapper code for interfacing to other components of FAL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2 500 lines low-level librar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lway process model of prototypical predecessor system:                                                    ca. 20 000 lines of (handwritten)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 with Use of ASMs for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9000"/>
          </a:bodyPr>
          <a:p>
            <a:pPr marL="2829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ers and reviewers had no problems to understand the formal specification (ASM 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s with ASM model uncovered, at an early stage, bugs also in other components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herence of specification and implementation by seamless too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formance loss of generated code tolerable even for product qualit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installations at Subway Vienna Operator since March 1999, 1 in dail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 reported no bugs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bugs discovered in tests run by FALKO developers, temporary fixes for the 2 bugs (by handhacking the generated C++ code) later replaced by recompiling updated AS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uilt-up, supporting seamless flow from spec t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gon Börger, Peter Päppinghaus, Joachim Schm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 on a Practical Application of ASMs in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Y. Gurevich et al.( Eds.): Abstract State Machines. Theory and Applications. Springer LNCS 1912, 2002, 361-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useppe Del Castill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SM Workbench. A Tool Environment for Computer-Aided Analysis and Validation of Abstract State Machin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sertation, Heinz Nixdorf Institut, Univers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Paderborn, 2001, pp.iv + 212,   ISBN 3 - 9311 466 – 82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. Schmid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ing Abstract State Machines to C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Journal of Universal Computer Science 7 (11), 2001, 1069-10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12:20:14Z</dcterms:created>
  <dc:creator>Peter Paeppinghaus</dc:creator>
  <dc:description/>
  <dc:language>en-US</dc:language>
  <cp:lastModifiedBy>Egon Boerger</cp:lastModifiedBy>
  <cp:lastPrinted>2000-05-08T14:56:43Z</cp:lastPrinted>
  <dcterms:modified xsi:type="dcterms:W3CDTF">2002-04-03T11:54:17Z</dcterms:modified>
  <cp:revision>229</cp:revision>
  <dc:subject>Project Data on Use of ASMs in the Project</dc:subject>
  <dc:title>Falko Project at Siemens</dc:title>
</cp:coreProperties>
</file>