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3E93-8D18-48F4-97FD-8CA4E0A3C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0323-E57E-4F7B-8CEA-36340D82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A4D1-D474-4858-8002-B488997D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365F-EFBC-4C1D-A4F4-50F639C1F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C80C-8469-4CB3-A010-3207B2DA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E829-9334-42D4-AF23-6B604592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AEF4-6C1B-4B83-871A-D530092E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F8F0-CA89-4EC7-A115-37DE6677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0626-56F7-47E8-BE95-11461738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5B8B-E830-493C-8A6A-15FB4323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E1B3-0D68-4FC8-975F-8A7BC636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EDEA-E6A8-4F9B-BBAC-957DD011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8634-C488-4FD3-8D61-F7AC36900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9880" y="-36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Real-Time Process Control Systems </a:t>
            </a:r>
            <a:br>
              <a:rPr sz="3600"/>
            </a:b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(Real-Time Controller ASM for the</a:t>
            </a: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Railroad Crossing Case Study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oals of Real-Time Controller ASM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th Atomic Action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825120"/>
            <a:ext cx="8928000" cy="55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tomic 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troll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xecutes instantaneous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nviron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hanges take place instantaneous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ach real-time moment, there is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ell defined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ns which satisf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nvironment-controller separation principl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99"/>
                </a:solidFill>
                <a:latin typeface="Arial"/>
              </a:rPr>
              <a:t>In the definition below, we will allow that the controller is constituted by multiple agents, each of which executes a basic ASM. Atomicity of actions constitutes an idealization, to be refined by durative actions.</a:t>
            </a:r>
            <a:r>
              <a:rPr b="1" lang="en-US" sz="2800" spc="-1" strike="noStrike">
                <a:solidFill>
                  <a:srgbClr val="66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5366-0FD0-4000-8ECC-3357DF798E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calling Basic ASM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8928000" cy="55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Basic A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 finite set of rules, executed by a single agent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l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having the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di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n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Upd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Updat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finite set of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 (t</a:t>
            </a:r>
            <a:r>
              <a:rPr b="0" lang="en-US" sz="2000" spc="-1" strike="noStrike" baseline="-25000">
                <a:solidFill>
                  <a:srgbClr val="ff99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,…,t</a:t>
            </a:r>
            <a:r>
              <a:rPr b="0" lang="en-US" sz="2000" spc="-1" strike="noStrike" baseline="-25000">
                <a:solidFill>
                  <a:srgbClr val="ff99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):=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arbitrary functions,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d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Boolean valued expression (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rder formul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urrent st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structure) 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 all the fireable rules in 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.t. Cond is true in 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 all exprs 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t occuring in updates f(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…,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:=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cute simultaneously all these function upd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pdating yields th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next st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EAB6-47A6-4C2D-94AD-09E25DCBEE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uns of Real-Time Controller ASM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74772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un of a Real-Time Controller ASM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iven b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discre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sequence 0 =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... of reals – consisting of (all &amp; only) the computationally significant real-time “moments” of M - and associated states S(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where currtime =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is obtained from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= S(t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) minus currtime)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ither Case 1: a computation step (of some agents) of M, without any change of monitored fcts between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Case 2: a change of monitored fcts, without any M-comp step between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 extension to state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(t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t &l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7A02-D82F-4F91-80CA-AAF10923B3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andard Extension of Runs of Real-Time Controller ASM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25120"/>
            <a:ext cx="9144000" cy="56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u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S(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a real-time controller ASM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naturall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ded to state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(t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arbitrary real-time mome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t &l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s follow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time = t in S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t) =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in Case 1 (result of the instantaneous M-step executed at time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t) =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in Case 2 (unchanged M-state, since between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M-step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s place, &amp; the instantaneous change of monitored fcts becomes effective a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mma.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t &lt;t’&l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t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t’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B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99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ff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Arial"/>
              </a:rPr>
              <a:t> N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is discre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ff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nly finitely man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 t. This condition excludes so-called Zeno runs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73C1-5713-4ECA-A3CA-03E3CA88FE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622440"/>
            <a:ext cx="9067680" cy="481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Control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Real-Time Controller ASMs (</a:t>
            </a: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with atomic action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ailroad Crossing Controller A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Analysis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of the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Railroad Crossing Controller ASM (Safety &amp; Liveness Proo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Exercises and Refe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CAC6-228C-4AA3-B0A2-91C8F98533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1200" y="0"/>
            <a:ext cx="89028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blem Description of Railroad Crossing Case Study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698400"/>
            <a:ext cx="9144000" cy="589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ystem to be developed operates a gate at a railroad crossing. A set of trains travel on multiple tracks in both directions. Each track has four sensors, detecting when a train enters resp. exits the crossing: L1, L2 for trains coming from the left, R1, R2 for trains coming from the right. Based on these sensor signals, a controller should signal the gate to open/clo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e the following two properti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the syste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fe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When a train is in the crossing, the gate is clos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vene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The gate is open when no train is in the cros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D6DB-14A9-44F6-90A5-633BB2F219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rain Motion Assumptions of Railroad Crossi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53560" cy="57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ain Mo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For every track, there is a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rain motion sequ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... of reals with the following propert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itial St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t the initial momen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the observed track segment [L1,R1] is empt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rain Patter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If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ppears in the sequence, the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ppear in the sequence,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n incoming train is detected at either L1 or R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is train reaches the cro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is train is detected to have left the crossing at L2 resp. R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letenes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The sequenc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..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vers all the (and only) trains that appear on this tra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F538-CC57-4FFF-B840-CD5932520E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rain &amp; Gate Assumptions of Railroad Crossi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53560" cy="57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rain Approachi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the minimal/maximal time for a train to reach the crossing after having been detected at L1/R1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2 -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] for all i in a train motion sequ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ate Closure/Openi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no interval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t, t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resp. [t, t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is a signal to close/open in force without at some moment in this interval the gate being closed/open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ate versus Train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&lt;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B. Gate may react to closure/opening commands with some (bounded) delay, whereas wlog we will assume the controller to react immediately, i.e. at the instant when it is enabl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65B8-BCA6-482C-BCB3-33175EC7B1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Signatur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of Railroad Crossing AS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748800"/>
            <a:ext cx="89917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urrtime: REAL is the central monitored time 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TRACK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ffff"/>
                </a:solidFill>
                <a:latin typeface="Arial"/>
              </a:rPr>
              <a:t>: </a:t>
            </a:r>
            <a:r>
              <a:rPr b="0" lang="it-IT" sz="2800" spc="-1" strike="noStrike">
                <a:solidFill>
                  <a:srgbClr val="66ff99"/>
                </a:solidFill>
                <a:latin typeface="Arial"/>
              </a:rPr>
              <a:t>static domain with</a:t>
            </a:r>
            <a:r>
              <a:rPr b="0" lang="it-IT" sz="2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99"/>
                </a:solidFill>
                <a:latin typeface="Arial"/>
              </a:rPr>
              <a:t>monitored fct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TrackStatus :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TRACK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{empty, coming, inCrossing}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99"/>
                </a:solidFill>
                <a:latin typeface="Arial"/>
              </a:rPr>
              <a:t>controlled fct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Deadline :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TRACK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REAL </a:t>
            </a:r>
            <a:r>
              <a:rPr b="0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0" lang="it-IT" sz="2400" spc="-1" strike="noStrike">
                <a:solidFill>
                  <a:srgbClr val="ccecff"/>
                </a:solidFill>
                <a:latin typeface="Arial"/>
              </a:rPr>
              <a:t>          </a:t>
            </a:r>
            <a:r>
              <a:rPr b="0" lang="it-IT" sz="2400" spc="-1" strike="noStrike">
                <a:solidFill>
                  <a:srgbClr val="66ff99"/>
                </a:solidFill>
                <a:latin typeface="Arial"/>
              </a:rPr>
              <a:t>to measure the allowable WaitingTime bw the train appearance and the latest possible moment to start the gate closing (for the gate to be closed in ti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99"/>
                </a:solidFill>
                <a:latin typeface="Arial"/>
              </a:rPr>
              <a:t>two dynamic fcts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66ff99"/>
                </a:solidFill>
                <a:latin typeface="Arial"/>
              </a:rPr>
              <a:t>for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66ff99"/>
                </a:solidFill>
                <a:latin typeface="Arial"/>
              </a:rPr>
              <a:t>gate moving directions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66ff99"/>
                </a:solidFill>
                <a:latin typeface="Arial"/>
              </a:rPr>
              <a:t>and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66ff99"/>
                </a:solidFill>
                <a:latin typeface="Arial"/>
              </a:rPr>
              <a:t>final gate posi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Dir </a:t>
            </a:r>
            <a:r>
              <a:rPr b="0" lang="it-IT" sz="1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{open, close} </a:t>
            </a:r>
            <a:r>
              <a:rPr b="0" lang="it-IT" sz="2400" spc="-1" strike="noStrike">
                <a:solidFill>
                  <a:srgbClr val="66ff99"/>
                </a:solidFill>
                <a:latin typeface="Arial"/>
              </a:rPr>
              <a:t>controlled by the control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GateStatus </a:t>
            </a:r>
            <a:r>
              <a:rPr b="0" lang="it-IT" sz="1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{opened, closed}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ff99"/>
                </a:solidFill>
                <a:latin typeface="Arial"/>
              </a:rPr>
              <a:t>controlled by the g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9367-580B-417C-8DCF-3C9B1A6509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troller ASM for Railroad Crossing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622440"/>
            <a:ext cx="8991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Controller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forall x </a:t>
            </a:r>
            <a:r>
              <a:rPr b="0" lang="it-IT" sz="1800" spc="-1" strike="noStrike">
                <a:solidFill>
                  <a:srgbClr val="66ff99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TRAC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                       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SetDeadline(x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                       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SignalClose(x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                       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ClearDeadline(x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            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SignalOp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SetDeadline(x)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If TrackStatus (x) = coming &amp; Deadline (x) =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then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Deadline (x) := currtime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 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(WaitTi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SignalClose(x)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urrtime = Deadline (x)  then Dir := clo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learDeadline (x)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If TrackStatus (x) = empty &amp; Deadline (x) &lt;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   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then Deadline (x) :=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SignalOpen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If Dir = close &amp;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afeToOpen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then Dir:=op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where SafeToOpen </a:t>
            </a:r>
            <a:r>
              <a:rPr b="0" lang="it-IT" sz="2800" spc="-1" strike="noStrike">
                <a:solidFill>
                  <a:srgbClr val="ff99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RACK: TrackStatus (x) = empty 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99"/>
                </a:solidFill>
                <a:latin typeface="Arial"/>
              </a:rPr>
              <a:t>enough time to open before next closure   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urrtime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&lt; Deadline (x)</a:t>
            </a: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A6E0-D84D-43AC-8A8B-DE78FC90B7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854360"/>
            <a:ext cx="8801280" cy="45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 Börger, R. Stä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tract State Machin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thod for High-Level System Design and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pringer-Verlag 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For update info see AsmBook web pag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06440"/>
            <a:ext cx="886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details see Chapter 5 (Synchronous Multi-Agent ASMs)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2D99-11A5-40E9-9A41-2FAE266B70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ate ASM: an instance of a Flip Flop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622080"/>
            <a:ext cx="9144000" cy="62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Gate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OpenG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loseG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where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penGate</a:t>
            </a: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If Dir = open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then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GateStatus := open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loseGate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f Dir = close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then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GateStatus := clos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GateStatus = opened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Dir = o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for all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TR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TrackStatus (x) = empty             Deadline(x) =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B. Sharpening the guards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Gate rules by GateStatus = closed/open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ignalClose (x) by Dir = op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yields a machine where each step changes the state. We disregard this optimization, since the definition of  runs of a real-time controller ASM is not restricted to machine steps which change the 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18F5-DD59-4A8E-98D9-AC799BA217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The Agent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of the Railroad Crossing AS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240" y="584280"/>
            <a:ext cx="913140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The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ailroad Crossing Controller ASM has three agen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ontroller, Ga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Env, represented by the monitored fct TrackSta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 representation of Env as agent has to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nternalize the timing conditions of train motion sequence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e.g. by a timed automaton ASM, consisting of one machine for each track x,  each able to fire independently &amp; simultaneous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16600" y="3809880"/>
            <a:ext cx="412740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B. The notion of real-time controller ASM run has to be adapted to treating env as a special team of ag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82760" y="3765600"/>
            <a:ext cx="4076640" cy="3092400"/>
            <a:chOff x="482760" y="3765600"/>
            <a:chExt cx="4076640" cy="3092400"/>
          </a:xfrm>
        </p:grpSpPr>
        <p:sp>
          <p:nvSpPr>
            <p:cNvPr id="127" name=""/>
            <p:cNvSpPr/>
            <p:nvPr/>
          </p:nvSpPr>
          <p:spPr>
            <a:xfrm>
              <a:off x="482760" y="3765600"/>
              <a:ext cx="939600" cy="77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emp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67200" y="6058080"/>
              <a:ext cx="977760" cy="799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inCrossin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79800" y="3765600"/>
              <a:ext cx="952560" cy="77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om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76520" y="4000680"/>
              <a:ext cx="1143000" cy="520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lock(x)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:=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1" name=""/>
            <p:cNvCxnSpPr>
              <a:stCxn id="127" idx="6"/>
              <a:endCxn id="130" idx="1"/>
            </p:cNvCxnSpPr>
            <p:nvPr/>
          </p:nvCxnSpPr>
          <p:spPr>
            <a:xfrm>
              <a:off x="1422360" y="4152600"/>
              <a:ext cx="25488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32" name=""/>
            <p:cNvCxnSpPr>
              <a:stCxn id="130" idx="3"/>
              <a:endCxn id="129" idx="2"/>
            </p:cNvCxnSpPr>
            <p:nvPr/>
          </p:nvCxnSpPr>
          <p:spPr>
            <a:xfrm>
              <a:off x="2819160" y="4152600"/>
              <a:ext cx="26100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8" idx="2"/>
              <a:endCxn id="127" idx="4"/>
            </p:cNvCxnSpPr>
            <p:nvPr/>
          </p:nvCxnSpPr>
          <p:spPr>
            <a:xfrm flipH="1" flipV="1">
              <a:off x="952200" y="4539600"/>
              <a:ext cx="2115360" cy="19184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34" name=""/>
            <p:cNvSpPr/>
            <p:nvPr/>
          </p:nvSpPr>
          <p:spPr>
            <a:xfrm>
              <a:off x="2552760" y="4889520"/>
              <a:ext cx="2006640" cy="876240"/>
            </a:xfrm>
            <a:prstGeom prst="hexagon">
              <a:avLst>
                <a:gd name="adj" fmla="val 57251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min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clock(x)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m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29" idx="4"/>
              <a:endCxn id="134" idx="0"/>
            </p:cNvCxnSpPr>
            <p:nvPr/>
          </p:nvCxnSpPr>
          <p:spPr>
            <a:xfrm>
              <a:off x="3555720" y="4540320"/>
              <a:ext cx="1080" cy="3499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36" name=""/>
            <p:cNvCxnSpPr>
              <a:stCxn id="134" idx="2"/>
              <a:endCxn id="128" idx="0"/>
            </p:cNvCxnSpPr>
            <p:nvPr/>
          </p:nvCxnSpPr>
          <p:spPr>
            <a:xfrm>
              <a:off x="3555720" y="5765760"/>
              <a:ext cx="1080" cy="2930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2E10-CB52-4401-B7AA-439E0F88CF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Run of the Railroad Crossing ASM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s …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607680"/>
            <a:ext cx="9144000" cy="58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eal-time controller ASM run. These runs reflect the train motion condition through the moments of change of the monitored function TrackStatu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ong the computationally significant moments of the run, 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track x has a subsequence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=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…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gnificant moments of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uch tha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rackStatus(x) =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66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emp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ver every interval [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51"/>
              </a:spcBef>
              <a:buClr>
                <a:srgbClr val="66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com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ver ... [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 &amp;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i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i+2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66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inCross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ver ... [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3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ty over [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if 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final significant moment of track x, in which case 3|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B. In those runs, the Controller is assumed to react immediately, the reaction time of Gate to be bounded in the sense of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ate Closure/Opening Tim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er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D528-8AD8-47F7-BFDA-71C7282812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622440"/>
            <a:ext cx="9067680" cy="481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Control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Real-Time Controller ASMs (</a:t>
            </a: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with atomic action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Railcroad Crossing Controller A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alysi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f th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ilroad Crossing Controller ASM (Safety &amp; Liveness Proof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Exercises and Referen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0081-9327-483C-B090-5C1D80FD2E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afety &amp; Liveness for Railroad Crossing AS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607680"/>
            <a:ext cx="9144000" cy="58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arbitrary runs of the Railroad Crossing ASM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llowing two properties hold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fety Theor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At any moment when a train is in the crossing (Gate Status (x) = inCrossing for some track x), the gate is closed (GateStatus = closed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veness Theor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ever the crossing is empty (i.e.TrackStatus(x)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Crossing for every x) in an open real-time interval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with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&lt;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the gate is open in the closed interval [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where                   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ff9900"/>
                </a:solidFill>
                <a:latin typeface="Arial"/>
              </a:rPr>
              <a:t>cl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WaitTime =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l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(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ax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NB. It can be shown that the Liveness Thm fails if d</a:t>
            </a:r>
            <a:r>
              <a:rPr b="0" lang="en-US" sz="2400" spc="-1" strike="noStrike" baseline="-25000">
                <a:solidFill>
                  <a:srgbClr val="ff7c80"/>
                </a:solidFill>
                <a:latin typeface="Arial"/>
              </a:rPr>
              <a:t>open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 or D</a:t>
            </a:r>
            <a:r>
              <a:rPr b="0" lang="en-US" sz="2400" spc="-1" strike="noStrike" baseline="-25000">
                <a:solidFill>
                  <a:srgbClr val="ff7c8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 are replaced with smaller valu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NB.One can also prove that the closing of the gate is never interrupted; under appropriate assumptions the same holds for open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9CF6-3151-4063-92E8-4907CEEEA9D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65240"/>
            <a:ext cx="91440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ving Safety for the Railroad Crossing AS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735120"/>
            <a:ext cx="914400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some track x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kStatus(x) = inCrossing over a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i+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We show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GateStatus = closed over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[t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Arial"/>
              </a:rPr>
              <a:t>3i+1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+ d</a:t>
            </a:r>
            <a:r>
              <a:rPr b="0" lang="en-US" sz="3200" spc="-1" strike="noStrike" baseline="-25000">
                <a:solidFill>
                  <a:srgbClr val="ccecff"/>
                </a:solidFill>
                <a:latin typeface="Arial"/>
              </a:rPr>
              <a:t>min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,t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Arial"/>
              </a:rPr>
              <a:t>3i+3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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[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i+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Proo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Deadline (x) fires a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Controller is immediate) setting Deadline(x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3i+1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Wait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kStatus(x)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p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ver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 = (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3i+3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nce 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over 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x makes SafeToOpen false, hence 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SignalOpen disabl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also 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OpenG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disabl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ver 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cause SignalClose(x) fires at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o that immediately after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Dir=close holds (&amp; remains unchanged over I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Dir=close immediately after</a:t>
            </a:r>
            <a:r>
              <a:rPr b="0" lang="en-US" sz="2400" spc="-1" strike="noStrike">
                <a:solidFill>
                  <a:srgbClr val="66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ff99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mplies tha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ateStatus = clos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r some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lt;t&lt;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i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amp; remains so 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as long as SignalOpen is disabl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i.e. over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and therefore over [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ce only OpenGate, fireable only after SignalOpen, can change it to open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D504-AA34-4E17-907F-3E3ECBBAD54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ving Liveness for the Railroad Crossing AS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798480"/>
            <a:ext cx="9144000" cy="585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the Deadline Lemma (see below), for every track x hol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dline(x)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ope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ver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fore SafeToOpen holds at currtime =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us 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Dir=open holds immediately after 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possibly through firing of SignalOpen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dline(x)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time  over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nce 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over </a:t>
            </a:r>
            <a:r>
              <a:rPr b="1" lang="en-US" sz="1800" spc="-1" strike="noStrike">
                <a:solidFill>
                  <a:srgbClr val="66ff99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66ff99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66ff99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66ff99"/>
                </a:solidFill>
                <a:latin typeface="Arial"/>
              </a:rPr>
              <a:t>close</a:t>
            </a:r>
            <a:r>
              <a:rPr b="1" lang="en-US" sz="1800" spc="-1" strike="noStrike">
                <a:solidFill>
                  <a:srgbClr val="66ff99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very SignalClose(x) is disabled, so that 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Dir remains op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CloseGate is disab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 = open ov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ime assumption imply tha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GateStatus = opened for some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 &lt; t &lt; 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66ff99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amp; remains so 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as long as CloseGate is disabl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namely over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fo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ateStatus = opened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ver [</a:t>
            </a:r>
            <a:r>
              <a:rPr b="1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d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ope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clos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ce only CloseGate, fireable only after some SignalClose(x), can change it to clo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821E-292A-4429-8996-A8940749B6B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adline Lemma for Railroad Crossing AS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759960"/>
            <a:ext cx="9144000" cy="58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adline Lem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run of the Railroad Crossing ASM, let x be a track with significant moments 0 =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…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dline(x) =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er (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WaitTim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ver (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i+3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TrackStatus(x) </a:t>
            </a:r>
            <a:r>
              <a:rPr b="1" lang="en-US" sz="2000" spc="-1" strike="noStrike">
                <a:solidFill>
                  <a:srgbClr val="ccecff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 inCrossing over an interval (</a:t>
            </a:r>
            <a:r>
              <a:rPr b="1" lang="en-US" sz="2000" spc="-1" strike="noStrike">
                <a:solidFill>
                  <a:srgbClr val="ccec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ccec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)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 over this interval Deadline(x)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her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= 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WaitTim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e (a)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u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(b) 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assume Deadline(x)&lt;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WaitTime - 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66ff99"/>
                </a:solidFill>
                <a:latin typeface="Arial"/>
              </a:rPr>
              <a:t>max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  at some t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)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adline(x) =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WaitTim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at t for some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t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3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t&lt;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2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it-IT" sz="2400" spc="-1" strike="noStrike">
                <a:solidFill>
                  <a:srgbClr val="ccecff"/>
                </a:solidFill>
                <a:latin typeface="Arial"/>
              </a:rPr>
              <a:t>by hypothesis, 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ccec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ccec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)</a:t>
            </a:r>
            <a:r>
              <a:rPr b="0" lang="it-IT" sz="2400" spc="-1" strike="noStrike">
                <a:solidFill>
                  <a:srgbClr val="ccecff"/>
                </a:solidFill>
                <a:latin typeface="Arial"/>
              </a:rPr>
              <a:t> and the inCrossing interval 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[t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Arial"/>
              </a:rPr>
              <a:t>3i+2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,t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Arial"/>
              </a:rPr>
              <a:t>3i+3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) are disjoi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refore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2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max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d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 tha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- D</a:t>
            </a:r>
            <a:r>
              <a:rPr b="1" lang="en-US" sz="2400" spc="-1" strike="noStrike" baseline="-25000">
                <a:solidFill>
                  <a:srgbClr val="ff9900"/>
                </a:solidFill>
                <a:latin typeface="Arial"/>
              </a:rPr>
              <a:t>clos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 d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+WaitTime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WaitTime = Deadline(x) (at t)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&lt; </a:t>
            </a:r>
            <a:r>
              <a:rPr b="1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- D</a:t>
            </a:r>
            <a:r>
              <a:rPr b="1" lang="en-US" sz="2400" spc="-1" strike="noStrike" baseline="-25000">
                <a:solidFill>
                  <a:srgbClr val="ff9900"/>
                </a:solidFill>
                <a:latin typeface="Arial"/>
              </a:rPr>
              <a:t>clos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ff99"/>
                </a:solidFill>
                <a:latin typeface="Arial"/>
              </a:rPr>
              <a:t>(by assumption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contradi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2B6C-01B6-45B7-ADDE-DE20A0474DD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622440"/>
            <a:ext cx="9067680" cy="481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Control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Real-Time Controller ASMs (</a:t>
            </a: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with atomic action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Railcroad Crossing Controller A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Analysis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of the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Railroad Crossing Controller ASM (Safety &amp; Liveness Proof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xercises and Referen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7352-C7A2-49DA-B8FE-593C9C7B5B6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ilroad Crossing Case Study : Refinement Exercis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546120"/>
            <a:ext cx="8978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e the Railroad Crossing ASM by introducing gate positions between  Closed = 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Opened = 9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Clarify the real-world timing assumptions which allow that Dir=close/open only when GateStatus=opened/close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nt. Consider the following timed automaton ASM, with additional GateStatus values closing, opening, and refined rules OpenGate, CloseG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8160" y="3530520"/>
            <a:ext cx="9067680" cy="3177360"/>
            <a:chOff x="38160" y="3530520"/>
            <a:chExt cx="9067680" cy="3177360"/>
          </a:xfrm>
        </p:grpSpPr>
        <p:sp>
          <p:nvSpPr>
            <p:cNvPr id="154" name=""/>
            <p:cNvSpPr/>
            <p:nvPr/>
          </p:nvSpPr>
          <p:spPr>
            <a:xfrm>
              <a:off x="7664400" y="3765600"/>
              <a:ext cx="952560" cy="77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los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13280" y="3898800"/>
              <a:ext cx="114300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lock :=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7040" y="5746680"/>
              <a:ext cx="952560" cy="77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open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35440" y="3530520"/>
              <a:ext cx="1498680" cy="355680"/>
            </a:xfrm>
            <a:prstGeom prst="hexagon">
              <a:avLst>
                <a:gd name="adj" fmla="val 105339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r=clo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75520" y="4851360"/>
              <a:ext cx="1930320" cy="482760"/>
            </a:xfrm>
            <a:prstGeom prst="hexagon">
              <a:avLst>
                <a:gd name="adj" fmla="val 99963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ck &lt;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13280" y="6400800"/>
              <a:ext cx="114300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lock :=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35440" y="6019920"/>
              <a:ext cx="1498680" cy="355320"/>
            </a:xfrm>
            <a:prstGeom prst="hexagon">
              <a:avLst>
                <a:gd name="adj" fmla="val 105446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r=op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160" y="4876920"/>
              <a:ext cx="1930320" cy="482400"/>
            </a:xfrm>
            <a:prstGeom prst="hexagon">
              <a:avLst>
                <a:gd name="adj" fmla="val 100037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ck &lt;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op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62" name=""/>
            <p:cNvCxnSpPr>
              <a:stCxn id="163" idx="7"/>
              <a:endCxn id="154" idx="1"/>
            </p:cNvCxnSpPr>
            <p:nvPr/>
          </p:nvCxnSpPr>
          <p:spPr>
            <a:xfrm>
              <a:off x="1334880" y="3877920"/>
              <a:ext cx="646956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/>
            <p:nvPr/>
          </p:nvCxnSpPr>
          <p:spPr>
            <a:xfrm flipH="1" flipV="1">
              <a:off x="1356840" y="6395760"/>
              <a:ext cx="6455520" cy="86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65" name=""/>
            <p:cNvCxnSpPr>
              <a:stCxn id="156" idx="0"/>
              <a:endCxn id="161" idx="2"/>
            </p:cNvCxnSpPr>
            <p:nvPr/>
          </p:nvCxnSpPr>
          <p:spPr>
            <a:xfrm flipV="1">
              <a:off x="1002960" y="5358960"/>
              <a:ext cx="1080" cy="388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66" name=""/>
            <p:cNvCxnSpPr>
              <a:stCxn id="161" idx="0"/>
              <a:endCxn id="163" idx="4"/>
            </p:cNvCxnSpPr>
            <p:nvPr/>
          </p:nvCxnSpPr>
          <p:spPr>
            <a:xfrm flipV="1">
              <a:off x="1002960" y="4539600"/>
              <a:ext cx="1080" cy="3373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4" idx="4"/>
              <a:endCxn id="158" idx="0"/>
            </p:cNvCxnSpPr>
            <p:nvPr/>
          </p:nvCxnSpPr>
          <p:spPr>
            <a:xfrm>
              <a:off x="8140320" y="4540320"/>
              <a:ext cx="1080" cy="3117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68" name=""/>
            <p:cNvCxnSpPr>
              <a:stCxn id="158" idx="2"/>
              <a:endCxn id="169" idx="0"/>
            </p:cNvCxnSpPr>
            <p:nvPr/>
          </p:nvCxnSpPr>
          <p:spPr>
            <a:xfrm>
              <a:off x="8140320" y="5333760"/>
              <a:ext cx="1080" cy="4006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70" name=""/>
          <p:cNvGrpSpPr/>
          <p:nvPr/>
        </p:nvGrpSpPr>
        <p:grpSpPr>
          <a:xfrm>
            <a:off x="533520" y="3765600"/>
            <a:ext cx="8096040" cy="2768400"/>
            <a:chOff x="533520" y="3765600"/>
            <a:chExt cx="8096040" cy="2768400"/>
          </a:xfrm>
        </p:grpSpPr>
        <p:sp>
          <p:nvSpPr>
            <p:cNvPr id="163" name=""/>
            <p:cNvSpPr/>
            <p:nvPr/>
          </p:nvSpPr>
          <p:spPr>
            <a:xfrm>
              <a:off x="533520" y="3765600"/>
              <a:ext cx="939600" cy="77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ope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51800" y="5734080"/>
              <a:ext cx="977760" cy="799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los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1" name=""/>
            <p:cNvCxnSpPr>
              <a:stCxn id="163" idx="6"/>
              <a:endCxn id="169" idx="1"/>
            </p:cNvCxnSpPr>
            <p:nvPr/>
          </p:nvCxnSpPr>
          <p:spPr>
            <a:xfrm>
              <a:off x="1473120" y="4152960"/>
              <a:ext cx="6322320" cy="1699200"/>
            </a:xfrm>
            <a:prstGeom prst="straightConnector1">
              <a:avLst/>
            </a:prstGeom>
            <a:ln w="9360">
              <a:solidFill>
                <a:srgbClr val="ccecff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9" idx="2"/>
              <a:endCxn id="163" idx="5"/>
            </p:cNvCxnSpPr>
            <p:nvPr/>
          </p:nvCxnSpPr>
          <p:spPr>
            <a:xfrm flipH="1" flipV="1">
              <a:off x="1334880" y="4427280"/>
              <a:ext cx="6317280" cy="1707120"/>
            </a:xfrm>
            <a:prstGeom prst="straightConnector1">
              <a:avLst/>
            </a:prstGeom>
            <a:ln w="9360">
              <a:solidFill>
                <a:srgbClr val="ccecff"/>
              </a:solidFill>
              <a:miter/>
              <a:tailEnd len="med" type="triangle" w="med"/>
            </a:ln>
          </p:spPr>
        </p:cxnSp>
        <p:sp>
          <p:nvSpPr>
            <p:cNvPr id="173" name=""/>
            <p:cNvSpPr/>
            <p:nvPr/>
          </p:nvSpPr>
          <p:spPr>
            <a:xfrm>
              <a:off x="3441600" y="5092560"/>
              <a:ext cx="114300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OpenGa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84600" y="4788000"/>
              <a:ext cx="114300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loseGa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2D27-FF3F-4F8F-A1F0-AEBB259428D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22440"/>
            <a:ext cx="9067680" cy="481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cess Control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Real-Time Controller ASMs (</a:t>
            </a: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with atomic action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Railroad Crossing Controller A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Analysis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of the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Railroad Crossing Controller ASM (Safety &amp; Liveness Proof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Exercises and Referen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6113-5BF4-4068-8B16-8B6A1A8295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ercises for the Railroad Crossing AS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455760"/>
            <a:ext cx="9144000" cy="64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w the following properties for runs of the Railroad Crossing AS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with significant mo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 =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… for a track x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tDeadline(x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res exactly a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when TrackStatus(x) has become com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gnalClose(x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es exactly a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Wait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earDeadline (x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res exactly a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&gt;0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when TrackStatus(x) has become empt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(x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 the local SafeToOpen(x) condition, namely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rackStatus(x)=empty or currtime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open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&lt; Deadline (x).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how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f WaitTime &gt;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then s(x) holds over intervals [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WaitTime – 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) and fails over intervals [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WaitTime – 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f WaitTime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then s(x) holds over intervals [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] and fails over intervals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(x) changes from false to true at moment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 i&gt;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TrackStatus(x) has become empt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gnalOp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res exactly when SafeToOpen becomes true. If SafeToOpen becomes true at t, then some TrackStatus(x) has become empty at t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6269-C7EF-418F-B9C0-7AD2C914E9C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ilroad Crossing ASM : Exercises (Cont’d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53560" cy="57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 that the Liveness Theorem fails if 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replaced with smaller valu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ve that the closing of the gate is never interrupted, i.e. if Dir is set to close at some moment t, then Dir = close holds over the interval   (t , t+d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clos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e that if WaitTim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then the opening of the gate is never interrupted, i.e. if Dir is set to open at some moment t, then Dir = open holds over the interval (t, t+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ow that the Railroad Crossing ASM, viewed as consisting of three agents for Controller, Gate, and the Environment (representing a team that updates the monitored functions), in a natural way satisfies the axioms for an async AS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pt the definition of real-time controller ASMs to the case where the changes of monitored functions are treated as resulting from updates of a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am en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ag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2CBA-4E4D-4F56-9BD3-8CA24B31EDF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9880" y="-360"/>
            <a:ext cx="769644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647280"/>
            <a:ext cx="93600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Heitmeyer and D. Mandrioli (Eds.) : Formal Methods for Real-Time Computin.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Wiley &amp; Sons, Chichester 199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. Gurevich and J. K. Huggins: The Railroad Crossing Problem: An Experiment with Instantaneous Actions and Immediate Re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: Computer Science Logic. Selected Papers from CSL’95 (Ed. H. Kleine Büning). Springer LNCS 1092, 1996, 266-2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Beauquier, T. Colard, A. Slissenko: A Predicate Logic Framework for Mechanical Verification of Real-Time Gurevich Abstract State Machines: A Case Study with PV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 00-25, University Paris 12, CS Dept, 2000. See http://www.univ-paris12.fr/lacl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753A-25B0-4108-A73F-8F3507F2D62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9880" y="-360"/>
            <a:ext cx="769644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647280"/>
            <a:ext cx="93600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 Börger, R. Stärk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bstract State Machines.  A Method for High-Level System Design and Analys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 2003, see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L. Parnas and J. Madey: Functional Documentation for Computer Systems Engineering (Vol.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c Master University TR CRL 237, Hamilton, Ontario, Sept.199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L. Parnas and J. Madey: Functional documents for computer systems. In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ce of Computer Programming 25 (1995), 41-6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817F-F4D3-41D2-AAA9-1A715CCBF0E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-Variable Model for Process Control Syste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463536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ransforms continuous physical quantities, measured by e.g. </a:t>
            </a:r>
            <a:r>
              <a:rPr b="0" lang="en-US" sz="2400" spc="-1" strike="noStrike">
                <a:solidFill>
                  <a:srgbClr val="66ff99"/>
                </a:solidFill>
                <a:latin typeface="Arial"/>
              </a:rPr>
              <a:t>sens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into discrete software IN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 transforms discrete sw OUTPUT into values for </a:t>
            </a:r>
            <a:r>
              <a:rPr b="0" lang="en-US" sz="2400" spc="-1" strike="noStrike">
                <a:solidFill>
                  <a:srgbClr val="66ff99"/>
                </a:solidFill>
                <a:latin typeface="Arial"/>
              </a:rPr>
              <a:t>actua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manipulate the continuous physical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79360" y="1558440"/>
            <a:ext cx="8623440" cy="1946160"/>
            <a:chOff x="279360" y="1558440"/>
            <a:chExt cx="8623440" cy="1946160"/>
          </a:xfrm>
        </p:grpSpPr>
        <p:sp>
          <p:nvSpPr>
            <p:cNvPr id="51" name=""/>
            <p:cNvSpPr/>
            <p:nvPr/>
          </p:nvSpPr>
          <p:spPr>
            <a:xfrm>
              <a:off x="279360" y="2045880"/>
              <a:ext cx="1854360" cy="88632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048440" y="2058840"/>
              <a:ext cx="1854360" cy="88632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3" name=""/>
            <p:cNvCxnSpPr>
              <a:stCxn id="54" idx="2"/>
              <a:endCxn id="51" idx="0"/>
            </p:cNvCxnSpPr>
            <p:nvPr/>
          </p:nvCxnSpPr>
          <p:spPr>
            <a:xfrm>
              <a:off x="1206000" y="1558440"/>
              <a:ext cx="1080" cy="487800"/>
            </a:xfrm>
            <a:prstGeom prst="straightConnector1">
              <a:avLst/>
            </a:prstGeom>
            <a:ln w="9360">
              <a:solidFill>
                <a:srgbClr val="ff7c80"/>
              </a:solidFill>
              <a:miter/>
            </a:ln>
          </p:spPr>
        </p:cxnSp>
        <p:cxnSp>
          <p:nvCxnSpPr>
            <p:cNvPr id="55" name=""/>
            <p:cNvCxnSpPr>
              <a:stCxn id="51" idx="2"/>
              <a:endCxn id="56" idx="0"/>
            </p:cNvCxnSpPr>
            <p:nvPr/>
          </p:nvCxnSpPr>
          <p:spPr>
            <a:xfrm>
              <a:off x="1206000" y="2930040"/>
              <a:ext cx="1080" cy="546480"/>
            </a:xfrm>
            <a:prstGeom prst="straightConnector1">
              <a:avLst/>
            </a:prstGeom>
            <a:ln w="9360">
              <a:solidFill>
                <a:srgbClr val="ff7c80"/>
              </a:solidFill>
              <a:miter/>
              <a:tailEnd len="med" type="triangle" w="med"/>
            </a:ln>
          </p:spPr>
        </p:cxnSp>
        <p:cxnSp>
          <p:nvCxnSpPr>
            <p:cNvPr id="57" name=""/>
            <p:cNvCxnSpPr>
              <a:stCxn id="58" idx="0"/>
              <a:endCxn id="52" idx="2"/>
            </p:cNvCxnSpPr>
            <p:nvPr/>
          </p:nvCxnSpPr>
          <p:spPr>
            <a:xfrm flipV="1">
              <a:off x="7975080" y="2942280"/>
              <a:ext cx="1080" cy="562680"/>
            </a:xfrm>
            <a:prstGeom prst="straightConnector1">
              <a:avLst/>
            </a:prstGeom>
            <a:ln w="9360">
              <a:solidFill>
                <a:srgbClr val="ff7c80"/>
              </a:solidFill>
              <a:miter/>
            </a:ln>
          </p:spPr>
        </p:cxnSp>
        <p:cxnSp>
          <p:nvCxnSpPr>
            <p:cNvPr id="59" name=""/>
            <p:cNvCxnSpPr>
              <a:stCxn id="52" idx="0"/>
              <a:endCxn id="60" idx="2"/>
            </p:cNvCxnSpPr>
            <p:nvPr/>
          </p:nvCxnSpPr>
          <p:spPr>
            <a:xfrm flipV="1">
              <a:off x="7975080" y="1567440"/>
              <a:ext cx="1080" cy="491400"/>
            </a:xfrm>
            <a:prstGeom prst="straightConnector1">
              <a:avLst/>
            </a:prstGeom>
            <a:ln w="9360">
              <a:solidFill>
                <a:srgbClr val="ff7c80"/>
              </a:solidFill>
              <a:miter/>
              <a:tailEnd len="med" type="triangle" w="med"/>
            </a:ln>
          </p:spPr>
        </p:cxnSp>
      </p:grpSp>
      <p:grpSp>
        <p:nvGrpSpPr>
          <p:cNvPr id="61" name=""/>
          <p:cNvGrpSpPr/>
          <p:nvPr/>
        </p:nvGrpSpPr>
        <p:grpSpPr>
          <a:xfrm>
            <a:off x="279360" y="3489480"/>
            <a:ext cx="8655120" cy="947160"/>
            <a:chOff x="279360" y="3489480"/>
            <a:chExt cx="8655120" cy="947160"/>
          </a:xfrm>
        </p:grpSpPr>
        <p:sp>
          <p:nvSpPr>
            <p:cNvPr id="56" name=""/>
            <p:cNvSpPr/>
            <p:nvPr/>
          </p:nvSpPr>
          <p:spPr>
            <a:xfrm>
              <a:off x="279360" y="3489480"/>
              <a:ext cx="1854360" cy="94716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screteSw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016760" y="3517920"/>
              <a:ext cx="1917720" cy="88632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screteS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49600" y="3519360"/>
              <a:ext cx="1968480" cy="88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F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3" name=""/>
            <p:cNvCxnSpPr/>
            <p:nvPr/>
          </p:nvCxnSpPr>
          <p:spPr>
            <a:xfrm>
              <a:off x="2133360" y="3962160"/>
              <a:ext cx="141660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64" name=""/>
            <p:cNvCxnSpPr>
              <a:stCxn id="62" idx="3"/>
              <a:endCxn id="58" idx="1"/>
            </p:cNvCxnSpPr>
            <p:nvPr/>
          </p:nvCxnSpPr>
          <p:spPr>
            <a:xfrm flipV="1">
              <a:off x="5517720" y="3960000"/>
              <a:ext cx="1499400" cy="25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222120" y="687240"/>
            <a:ext cx="8737560" cy="886320"/>
            <a:chOff x="222120" y="687240"/>
            <a:chExt cx="8737560" cy="886320"/>
          </a:xfrm>
        </p:grpSpPr>
        <p:sp>
          <p:nvSpPr>
            <p:cNvPr id="54" name=""/>
            <p:cNvSpPr/>
            <p:nvPr/>
          </p:nvSpPr>
          <p:spPr>
            <a:xfrm>
              <a:off x="222120" y="687240"/>
              <a:ext cx="1968480" cy="886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O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tor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hysVa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991200" y="687240"/>
              <a:ext cx="1968480" cy="88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roll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hysVa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870120"/>
              <a:ext cx="2666880" cy="459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hysProces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4" idx="3"/>
              <a:endCxn id="66" idx="1"/>
            </p:cNvCxnSpPr>
            <p:nvPr/>
          </p:nvCxnSpPr>
          <p:spPr>
            <a:xfrm>
              <a:off x="2190240" y="1130040"/>
              <a:ext cx="101052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68" name=""/>
            <p:cNvCxnSpPr>
              <a:stCxn id="66" idx="3"/>
              <a:endCxn id="60" idx="1"/>
            </p:cNvCxnSpPr>
            <p:nvPr/>
          </p:nvCxnSpPr>
          <p:spPr>
            <a:xfrm>
              <a:off x="5867280" y="1130040"/>
              <a:ext cx="1124640" cy="54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69" name=""/>
          <p:cNvSpPr/>
          <p:nvPr/>
        </p:nvSpPr>
        <p:spPr>
          <a:xfrm>
            <a:off x="2813040" y="1676520"/>
            <a:ext cx="3543480" cy="1574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al: define SOFT 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ectly impl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CEB2-788D-490B-8AA3-05C1E097E9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mpling &amp; Synchronization Problem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 Contro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825120"/>
            <a:ext cx="8928000" cy="55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ampling Proble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ximate continuous flow of physical process data by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a finite number of) discrete samples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 taken at real-time moments that form an increasing discrete sequ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ynchronization Proble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ynchronize the SOFT controller with the IN/OUT devices to guarantee a 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correct reactive behavi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entire software system 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wrt the en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ith stable states f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ing IN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l controller ste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ing OUTPU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71E3-5C29-4712-B6B3-3C076420CA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v-Controller Separation Principl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 Control System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825120"/>
            <a:ext cx="9144000" cy="56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nvironment-Controller Separation Principl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 each moment, the software controll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ither through its input device takes INPUT from the environment, without involving any further internal computation ste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makes an internal computation step (including the preparation of OUTPUT to be sent to the output device), without involving any further INPUT re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his principle is applied by many process control systems. Its appropriateness for a physical system to be controlled depends 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orrectness of sampling mechani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ufficient hw speed (for the internal controller steps) wrt samp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6D02-E93D-4215-8E89-F16A8BC9C0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v-Controller Separation Principle in Neural Net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60" y="825480"/>
            <a:ext cx="883908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eural Ne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usually seen as a black-box yielding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tp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env, as result of a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ernal comput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hich is triggered by a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pu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n from the env. The internal computation consists of a finite sequence of atomic actions performed by the basic computing elements (nodes of a directed data-flow grap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forward propagation mode, the network input is transmitted by the 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input uni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o the 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internal uni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hich propagate their results through the graph until the 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output uni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reached</a:t>
            </a:r>
            <a:r>
              <a:rPr b="1" lang="en-US" sz="2000" spc="-1" strike="noStrike">
                <a:solidFill>
                  <a:srgbClr val="ff9900"/>
                </a:solidFill>
                <a:latin typeface="Lucida Console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15080" y="4102200"/>
            <a:ext cx="6361920" cy="2361600"/>
            <a:chOff x="415080" y="4102200"/>
            <a:chExt cx="6361920" cy="2361600"/>
          </a:xfrm>
        </p:grpSpPr>
        <p:sp>
          <p:nvSpPr>
            <p:cNvPr id="77" name=""/>
            <p:cNvSpPr/>
            <p:nvPr/>
          </p:nvSpPr>
          <p:spPr>
            <a:xfrm>
              <a:off x="834840" y="4201920"/>
              <a:ext cx="641520" cy="43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25560" y="4102200"/>
              <a:ext cx="1746360" cy="636480"/>
            </a:xfrm>
            <a:prstGeom prst="hexagon">
              <a:avLst>
                <a:gd name="adj" fmla="val 68594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w input to be consume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922560" y="4162320"/>
              <a:ext cx="1112760" cy="5173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tiva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ural Kerne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386320" y="4201920"/>
              <a:ext cx="942840" cy="43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pu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51240" y="5035320"/>
              <a:ext cx="1413000" cy="649080"/>
            </a:xfrm>
            <a:prstGeom prst="hexagon">
              <a:avLst>
                <a:gd name="adj" fmla="val 54423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re units to be compute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83080" y="6099120"/>
              <a:ext cx="950760" cy="36468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K ste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65680" y="5086080"/>
              <a:ext cx="514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95680" y="5686200"/>
              <a:ext cx="5461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5080" y="4421160"/>
              <a:ext cx="4064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79560" y="5178960"/>
              <a:ext cx="1112760" cy="36216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720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earSta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7" name=""/>
            <p:cNvCxnSpPr>
              <a:stCxn id="81" idx="1"/>
              <a:endCxn id="86" idx="3"/>
            </p:cNvCxnSpPr>
            <p:nvPr/>
          </p:nvCxnSpPr>
          <p:spPr>
            <a:xfrm flipH="1">
              <a:off x="3891600" y="5360400"/>
              <a:ext cx="125964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6" idx="1"/>
              <a:endCxn id="77" idx="4"/>
            </p:cNvCxnSpPr>
            <p:nvPr/>
          </p:nvCxnSpPr>
          <p:spPr>
            <a:xfrm rot="10800000">
              <a:off x="1154880" y="4637880"/>
              <a:ext cx="1624680" cy="72252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77" idx="6"/>
              <a:endCxn id="78" idx="1"/>
            </p:cNvCxnSpPr>
            <p:nvPr/>
          </p:nvCxnSpPr>
          <p:spPr>
            <a:xfrm>
              <a:off x="1476360" y="4420800"/>
              <a:ext cx="34992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78" idx="3"/>
              <a:endCxn id="79" idx="1"/>
            </p:cNvCxnSpPr>
            <p:nvPr/>
          </p:nvCxnSpPr>
          <p:spPr>
            <a:xfrm>
              <a:off x="3571920" y="4420800"/>
              <a:ext cx="35136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79" idx="3"/>
              <a:endCxn id="80" idx="2"/>
            </p:cNvCxnSpPr>
            <p:nvPr/>
          </p:nvCxnSpPr>
          <p:spPr>
            <a:xfrm>
              <a:off x="5034960" y="4420800"/>
              <a:ext cx="35136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92" name=""/>
            <p:cNvCxnSpPr>
              <a:stCxn id="80" idx="4"/>
              <a:endCxn id="81" idx="0"/>
            </p:cNvCxnSpPr>
            <p:nvPr/>
          </p:nvCxnSpPr>
          <p:spPr>
            <a:xfrm>
              <a:off x="5857560" y="4638240"/>
              <a:ext cx="1080" cy="397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93" name=""/>
            <p:cNvCxnSpPr>
              <a:stCxn id="81" idx="2"/>
              <a:endCxn id="82" idx="0"/>
            </p:cNvCxnSpPr>
            <p:nvPr/>
          </p:nvCxnSpPr>
          <p:spPr>
            <a:xfrm>
              <a:off x="5857920" y="5684760"/>
              <a:ext cx="2160" cy="4147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stCxn id="82" idx="3"/>
              <a:endCxn id="80" idx="6"/>
            </p:cNvCxnSpPr>
            <p:nvPr/>
          </p:nvCxnSpPr>
          <p:spPr>
            <a:xfrm flipH="1" flipV="1">
              <a:off x="6328440" y="4420440"/>
              <a:ext cx="5400" cy="1860840"/>
            </a:xfrm>
            <a:prstGeom prst="bentConnector3">
              <a:avLst>
                <a:gd name="adj1" fmla="val -8800000"/>
              </a:avLst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sp>
        <p:nvSpPr>
          <p:cNvPr id="95" name=""/>
          <p:cNvSpPr/>
          <p:nvPr/>
        </p:nvSpPr>
        <p:spPr>
          <a:xfrm>
            <a:off x="0" y="6058080"/>
            <a:ext cx="4508640" cy="799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zes whether NK h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d its internal compu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13680" y="4191120"/>
            <a:ext cx="1930320" cy="20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ce of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in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sum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6264-D42E-4797-845D-02BE981515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v-Controller Separation Principle in Circuit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825480"/>
            <a:ext cx="89917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rcuit Synchroniz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a clock which alternates between low and high pul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rcuit viewed 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ack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bo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inpu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es (representing the environ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outpu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clock pulse is 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x and output idle, input may 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clock pulse is hi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x and output may change, input is id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83E7-CFEB-4A96-BAC5-855A27E53F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622440"/>
            <a:ext cx="9067680" cy="481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Control Syste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al-Time Controller ASMs (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ith atomic action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Railroad Crossing Controller AS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Analysis</a:t>
            </a: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of the</a:t>
            </a: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Railroad Crossing Controller ASM (Safety &amp; Liveness Proof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Exercises and Refer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AB38-77CD-467B-82F5-EAB4999D2E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3:53:05Z</dcterms:modified>
  <cp:revision>511</cp:revision>
  <dc:subject>Railcrossing Gate Controller</dc:subject>
  <dc:title>Railcrossing Gate Controller</dc:title>
</cp:coreProperties>
</file>