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DC57-70D4-4255-A027-6F3A23BE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818-209D-4AD8-93C4-5ABD8517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C9D-E1FB-4F18-8B14-CEF3E762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A9D7-D6FA-4E9D-A0AF-9122309D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EF85-DDFD-49F7-A514-C04AA9FA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A80C-77E2-4D59-B95D-A448F7D0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34B-1277-43C0-AEAF-D4ECC3E9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E19D-ABF8-4B4E-BE5A-C5024BD3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1B8-774F-4AC6-AD09-A6288053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A43-8F5E-4972-8E3B-9621E7E8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0BA-8F9B-440D-B5EA-C3429E96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87C-F650-47DF-8FEE-4BD6F441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A799-D9F8-4BED-9C5F-1B99CA2AF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Consensus in Network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sensus in Networks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966160" cy="61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 Design a distributed algorithm  for reaching consensus among homogeneous agents of finite connected networks (using only communication between neighbors, without broker or mediator, with abstract requests and answer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orithmic Idea: every agent (node) m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launch a reque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is neighbors and wait for the rep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agre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the replies received from his neighbors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reply to reque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eived from his neighb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il all agents agree (maybe nev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E11-3A2B-442B-9F60-EE19D6AD09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sensus ASM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finite connected set (of node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ch agent equipped with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external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es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{RequestFrom(n)|n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eighb 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(controlled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pl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{ReplyFrom(n)|n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neighb 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(controlled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ending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greed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tl_state=pending, Request = empty, Reply = f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6533-136D-40DA-B2DB-B511F2168C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02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ensus Control State ASM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90720" y="927000"/>
            <a:ext cx="3397320" cy="3301920"/>
            <a:chOff x="2790720" y="927000"/>
            <a:chExt cx="3397320" cy="3301920"/>
          </a:xfrm>
        </p:grpSpPr>
        <p:sp>
          <p:nvSpPr>
            <p:cNvPr id="50" name=""/>
            <p:cNvSpPr/>
            <p:nvPr/>
          </p:nvSpPr>
          <p:spPr>
            <a:xfrm>
              <a:off x="2790720" y="927000"/>
              <a:ext cx="1168560" cy="812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e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35480" y="3517920"/>
              <a:ext cx="952560" cy="711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agre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1333080"/>
            <a:ext cx="9144000" cy="2905560"/>
            <a:chOff x="0" y="1333080"/>
            <a:chExt cx="9144000" cy="2905560"/>
          </a:xfrm>
        </p:grpSpPr>
        <p:sp>
          <p:nvSpPr>
            <p:cNvPr id="53" name=""/>
            <p:cNvSpPr/>
            <p:nvPr/>
          </p:nvSpPr>
          <p:spPr>
            <a:xfrm>
              <a:off x="6235560" y="2344680"/>
              <a:ext cx="290844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ctedRepliesComple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ply = f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333080"/>
              <a:ext cx="5235840" cy="2905560"/>
              <a:chOff x="0" y="1333080"/>
              <a:chExt cx="5235840" cy="2905560"/>
            </a:xfrm>
          </p:grpSpPr>
          <p:sp>
            <p:nvSpPr>
              <p:cNvPr id="55" name=""/>
              <p:cNvSpPr/>
              <p:nvPr/>
            </p:nvSpPr>
            <p:spPr>
              <a:xfrm>
                <a:off x="2354400" y="2263680"/>
                <a:ext cx="2041560" cy="819360"/>
              </a:xfrm>
              <a:prstGeom prst="hexagon">
                <a:avLst>
                  <a:gd name="adj" fmla="val 62291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xpec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plie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mplet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67240" y="3873600"/>
                <a:ext cx="44460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395440"/>
                <a:ext cx="1479600" cy="5202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LaunchNe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406520" y="3860640"/>
                <a:ext cx="48276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yes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05160" y="3508200"/>
                <a:ext cx="1939680" cy="730440"/>
              </a:xfrm>
              <a:prstGeom prst="hexagon">
                <a:avLst>
                  <a:gd name="adj" fmla="val 66387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hosenRu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= LaunchNe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0" name=""/>
              <p:cNvCxnSpPr>
                <a:stCxn id="50" idx="4"/>
                <a:endCxn id="55" idx="0"/>
              </p:cNvCxnSpPr>
              <p:nvPr/>
            </p:nvCxnSpPr>
            <p:spPr>
              <a:xfrm>
                <a:off x="3374640" y="1739520"/>
                <a:ext cx="1080" cy="52416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5" idx="2"/>
                <a:endCxn id="59" idx="0"/>
              </p:cNvCxnSpPr>
              <p:nvPr/>
            </p:nvCxnSpPr>
            <p:spPr>
              <a:xfrm>
                <a:off x="3374640" y="3082680"/>
                <a:ext cx="1080" cy="4258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stCxn id="59" idx="3"/>
                <a:endCxn id="51" idx="2"/>
              </p:cNvCxnSpPr>
              <p:nvPr/>
            </p:nvCxnSpPr>
            <p:spPr>
              <a:xfrm>
                <a:off x="4344840" y="3873240"/>
                <a:ext cx="89136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3" name=""/>
              <p:cNvCxnSpPr>
                <a:stCxn id="59" idx="1"/>
                <a:endCxn id="57" idx="2"/>
              </p:cNvCxnSpPr>
              <p:nvPr/>
            </p:nvCxnSpPr>
            <p:spPr>
              <a:xfrm rot="10800000">
                <a:off x="739080" y="2912400"/>
                <a:ext cx="1666080" cy="961200"/>
              </a:xfrm>
              <a:prstGeom prst="bentConnector2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4" name=""/>
              <p:cNvCxnSpPr>
                <a:stCxn id="57" idx="0"/>
                <a:endCxn id="50" idx="2"/>
              </p:cNvCxnSpPr>
              <p:nvPr/>
            </p:nvCxnSpPr>
            <p:spPr>
              <a:xfrm flipH="1" flipV="1" rot="5400000">
                <a:off x="1233720" y="838440"/>
                <a:ext cx="1062720" cy="2051640"/>
              </a:xfrm>
              <a:prstGeom prst="bentConnector2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65" name=""/>
          <p:cNvGrpSpPr/>
          <p:nvPr/>
        </p:nvGrpSpPr>
        <p:grpSpPr>
          <a:xfrm>
            <a:off x="3374280" y="697680"/>
            <a:ext cx="4750560" cy="2820240"/>
            <a:chOff x="3374280" y="697680"/>
            <a:chExt cx="4750560" cy="2820240"/>
          </a:xfrm>
        </p:grpSpPr>
        <p:sp>
          <p:nvSpPr>
            <p:cNvPr id="66" name=""/>
            <p:cNvSpPr/>
            <p:nvPr/>
          </p:nvSpPr>
          <p:spPr>
            <a:xfrm>
              <a:off x="4843440" y="1038240"/>
              <a:ext cx="1736640" cy="590400"/>
            </a:xfrm>
            <a:prstGeom prst="hexagon">
              <a:avLst>
                <a:gd name="adj" fmla="val 73537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re ar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ques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76880" y="1180800"/>
              <a:ext cx="104796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>
              <a:stCxn id="51" idx="0"/>
              <a:endCxn id="66" idx="2"/>
            </p:cNvCxnSpPr>
            <p:nvPr/>
          </p:nvCxnSpPr>
          <p:spPr>
            <a:xfrm flipV="1">
              <a:off x="5711400" y="1628280"/>
              <a:ext cx="1080" cy="189000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66" idx="3"/>
              <a:endCxn id="67" idx="1"/>
            </p:cNvCxnSpPr>
            <p:nvPr/>
          </p:nvCxnSpPr>
          <p:spPr>
            <a:xfrm>
              <a:off x="6580080" y="1333080"/>
              <a:ext cx="49752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50" idx="6"/>
              <a:endCxn id="66" idx="1"/>
            </p:cNvCxnSpPr>
            <p:nvPr/>
          </p:nvCxnSpPr>
          <p:spPr>
            <a:xfrm>
              <a:off x="3959280" y="1333080"/>
              <a:ext cx="88488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7" idx="0"/>
              <a:endCxn id="50" idx="0"/>
            </p:cNvCxnSpPr>
            <p:nvPr/>
          </p:nvCxnSpPr>
          <p:spPr>
            <a:xfrm flipV="1" rot="16200000">
              <a:off x="5360400" y="-1059840"/>
              <a:ext cx="254520" cy="4226760"/>
            </a:xfrm>
            <a:prstGeom prst="bentConnector3">
              <a:avLst>
                <a:gd name="adj1" fmla="val 189943"/>
              </a:avLst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</p:grpSp>
      <p:grpSp>
        <p:nvGrpSpPr>
          <p:cNvPr id="72" name=""/>
          <p:cNvGrpSpPr/>
          <p:nvPr/>
        </p:nvGrpSpPr>
        <p:grpSpPr>
          <a:xfrm>
            <a:off x="0" y="5175360"/>
            <a:ext cx="5003640" cy="1684800"/>
            <a:chOff x="0" y="5175360"/>
            <a:chExt cx="5003640" cy="1684800"/>
          </a:xfrm>
        </p:grpSpPr>
        <p:sp>
          <p:nvSpPr>
            <p:cNvPr id="73" name=""/>
            <p:cNvSpPr/>
            <p:nvPr/>
          </p:nvSpPr>
          <p:spPr>
            <a:xfrm>
              <a:off x="0" y="5175360"/>
              <a:ext cx="2882880" cy="122184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unchNewReques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ply := empty BroadcastReques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126120"/>
              <a:ext cx="5003640" cy="73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roadcastRequest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 forall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neigh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insert RequestFrom(self) into Request(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067360" y="4108320"/>
            <a:ext cx="4076640" cy="1984680"/>
            <a:chOff x="5067360" y="4108320"/>
            <a:chExt cx="4076640" cy="1984680"/>
          </a:xfrm>
        </p:grpSpPr>
        <p:sp>
          <p:nvSpPr>
            <p:cNvPr id="76" name=""/>
            <p:cNvSpPr/>
            <p:nvPr/>
          </p:nvSpPr>
          <p:spPr>
            <a:xfrm>
              <a:off x="5067360" y="5419800"/>
              <a:ext cx="407664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d answe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From(n)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ert ReplyFrom(self) into Reply(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61120" y="4108320"/>
              <a:ext cx="2882880" cy="131328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forall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Request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elete r from Requ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end answer for r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EEB-AEEB-4D73-9D6F-26F3E07C8E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ensus ASM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: Stability proper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consensus ASM, if the run terminates, then for every agent hol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tl_state = agr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y = fu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 = 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follows from the definition of LaunchNewRequest,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en Reply=full at agent, then there is no RequestFrom(agent) in Request(n) for any n </a:t>
            </a:r>
            <a:r>
              <a:rPr b="0" lang="en-US" sz="32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 neighb(agen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BD1-486D-41A0-8355-81E78A91BF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5 (in particular Fig. 35.1) and Section 80 for a correctness proo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A47-1628-40D8-B8D9-11480E8D82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2:39Z</dcterms:modified>
  <cp:revision>745</cp:revision>
  <dc:subject>The ASM Method</dc:subject>
  <dc:title>The ASM Method</dc:title>
</cp:coreProperties>
</file>