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16D-D5E4-4A43-98C4-BFFA28B9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3A3-D57E-401F-A1FB-DD357E2A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B12-5029-443A-AB69-1ED40DC8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370-C5E0-4B71-8F9F-4D3E7B25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939-96B1-4B8B-8FD4-006C140F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ABB-BF41-4136-A7DA-F94E4C2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1C7-0D7B-4E0F-A7FE-CE32C997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911-D76A-4CB9-9D12-6F5E29D7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B6B-D51B-436F-9D60-6510259F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9DC-4934-4313-B073-0396688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412-A729-407F-AA25-363F2D7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8A3-AF0D-4938-A050-FAC3E71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E05D-2041-4621-9F1C-127471E95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Network Leader El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2 (in particular Fig. 32.1 and 32.2) and Section 76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765-963E-4D5F-8142-C77E5559D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the election of a leader in finite connected networks of homogeneous agents, using only communication (message passing) between neighbor no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nod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re connected &amp;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inearly or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rt the linear or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network n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poses to his neighb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urrent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detecting a proposal which improves his leader candidate he improves his candidate  for his next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cand=max(Agent) holds for all ag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6F7-482A-4283-ABCF-C617F850A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inite linearly ordered connected 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order of Agent 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ge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t the linear or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poseToNeighb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Proposal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=proposeToNeighbors, cand=self, proposals = emp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338-DC44-4411-9CBF-498D6E5ED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 Control State ASM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162080"/>
            <a:ext cx="7315200" cy="1028520"/>
            <a:chOff x="914400" y="1162080"/>
            <a:chExt cx="7315200" cy="1028520"/>
          </a:xfrm>
        </p:grpSpPr>
        <p:sp>
          <p:nvSpPr>
            <p:cNvPr id="50" name=""/>
            <p:cNvSpPr/>
            <p:nvPr/>
          </p:nvSpPr>
          <p:spPr>
            <a:xfrm>
              <a:off x="914400" y="1162080"/>
              <a:ext cx="1359000" cy="1028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08760" y="1181160"/>
              <a:ext cx="1320840" cy="9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73400" y="1523880"/>
            <a:ext cx="4635720" cy="307080"/>
            <a:chOff x="2273400" y="1523880"/>
            <a:chExt cx="4635720" cy="307080"/>
          </a:xfrm>
        </p:grpSpPr>
        <p:sp>
          <p:nvSpPr>
            <p:cNvPr id="53" name=""/>
            <p:cNvSpPr/>
            <p:nvPr/>
          </p:nvSpPr>
          <p:spPr>
            <a:xfrm>
              <a:off x="3692520" y="1523880"/>
              <a:ext cx="17589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6"/>
              <a:endCxn id="53" idx="1"/>
            </p:cNvCxnSpPr>
            <p:nvPr/>
          </p:nvCxnSpPr>
          <p:spPr>
            <a:xfrm>
              <a:off x="2273400" y="1676160"/>
              <a:ext cx="14198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3"/>
              <a:endCxn id="51" idx="2"/>
            </p:cNvCxnSpPr>
            <p:nvPr/>
          </p:nvCxnSpPr>
          <p:spPr>
            <a:xfrm>
              <a:off x="5451480" y="1676160"/>
              <a:ext cx="145800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417840" y="1676160"/>
            <a:ext cx="5563800" cy="2512440"/>
            <a:chOff x="3417840" y="1676160"/>
            <a:chExt cx="5563800" cy="2512440"/>
          </a:xfrm>
        </p:grpSpPr>
        <p:sp>
          <p:nvSpPr>
            <p:cNvPr id="57" name=""/>
            <p:cNvSpPr/>
            <p:nvPr/>
          </p:nvSpPr>
          <p:spPr>
            <a:xfrm>
              <a:off x="3417840" y="2556000"/>
              <a:ext cx="2308320" cy="882360"/>
            </a:xfrm>
            <a:prstGeom prst="hexagon">
              <a:avLst>
                <a:gd name="adj" fmla="val 65402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5040" y="2695680"/>
              <a:ext cx="2168280" cy="615960"/>
            </a:xfrm>
            <a:prstGeom prst="hexagon">
              <a:avLst>
                <a:gd name="adj" fmla="val 88004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440" y="3881520"/>
              <a:ext cx="1758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1" idx="4"/>
              <a:endCxn id="58" idx="0"/>
            </p:cNvCxnSpPr>
            <p:nvPr/>
          </p:nvCxnSpPr>
          <p:spPr>
            <a:xfrm>
              <a:off x="7569000" y="2171520"/>
              <a:ext cx="1080" cy="52416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8" idx="1"/>
              <a:endCxn id="57" idx="3"/>
            </p:cNvCxnSpPr>
            <p:nvPr/>
          </p:nvCxnSpPr>
          <p:spPr>
            <a:xfrm flipH="1" flipV="1">
              <a:off x="5725800" y="2996640"/>
              <a:ext cx="759600" cy="68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7" idx="2"/>
              <a:endCxn id="59" idx="1"/>
            </p:cNvCxnSpPr>
            <p:nvPr/>
          </p:nvCxnSpPr>
          <p:spPr>
            <a:xfrm flipH="1" rot="16200000">
              <a:off x="5484600" y="2524680"/>
              <a:ext cx="596160" cy="2423160"/>
            </a:xfrm>
            <a:prstGeom prst="bentConnector2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51" idx="6"/>
            </p:cNvCxnSpPr>
            <p:nvPr/>
          </p:nvCxnSpPr>
          <p:spPr>
            <a:xfrm flipH="1" flipV="1">
              <a:off x="8229240" y="1676160"/>
              <a:ext cx="524160" cy="2358000"/>
            </a:xfrm>
            <a:prstGeom prst="bentConnector3">
              <a:avLst>
                <a:gd name="adj1" fmla="val -43642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4114800" y="3576600"/>
              <a:ext cx="444600" cy="307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0000" y="2190240"/>
            <a:ext cx="3209760" cy="1198080"/>
            <a:chOff x="270000" y="2190240"/>
            <a:chExt cx="3209760" cy="1198080"/>
          </a:xfrm>
        </p:grpSpPr>
        <p:sp>
          <p:nvSpPr>
            <p:cNvPr id="66" name=""/>
            <p:cNvSpPr/>
            <p:nvPr/>
          </p:nvSpPr>
          <p:spPr>
            <a:xfrm>
              <a:off x="270000" y="2738520"/>
              <a:ext cx="2635200" cy="520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mprove b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7" idx="1"/>
              <a:endCxn id="66" idx="3"/>
            </p:cNvCxnSpPr>
            <p:nvPr/>
          </p:nvCxnSpPr>
          <p:spPr>
            <a:xfrm flipH="1">
              <a:off x="2904840" y="2997000"/>
              <a:ext cx="51336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50" idx="4"/>
            </p:cNvCxnSpPr>
            <p:nvPr/>
          </p:nvCxnSpPr>
          <p:spPr>
            <a:xfrm flipV="1">
              <a:off x="1587240" y="2190240"/>
              <a:ext cx="6840" cy="5486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2997360" y="3081240"/>
              <a:ext cx="48240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y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4643280"/>
            <a:ext cx="8966160" cy="1757880"/>
            <a:chOff x="0" y="4643280"/>
            <a:chExt cx="8966160" cy="1757880"/>
          </a:xfrm>
        </p:grpSpPr>
        <p:sp>
          <p:nvSpPr>
            <p:cNvPr id="71" name=""/>
            <p:cNvSpPr/>
            <p:nvPr/>
          </p:nvSpPr>
          <p:spPr>
            <a:xfrm>
              <a:off x="0" y="4643280"/>
              <a:ext cx="6477120" cy="794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orall 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      insert cand to proposals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5405400"/>
              <a:ext cx="523260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&gt; c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4400" y="6002280"/>
              <a:ext cx="598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nd := max (proposa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035-47F4-44DE-9C71-E97F497BB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Correctness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leader election ASM, eventually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=max(Ag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32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Agent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asuring “distances” of candidates fro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DC0-847A-4902-A6FC-47700E753C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Leader Election: compute minimal path to lea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990360"/>
            <a:ext cx="86994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efine the leader election algorithm to compute for each agent also a shortest path to the leader, prov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ighbor (except for leader) which is closest to the lea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al distance to the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: enr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posals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or with minimal distance to 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Neighb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a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   (e.g. = Na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werSet(Agent x Agent x Distanc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arNeighbor = self         distance =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CAD-973F-460E-8C9E-EA8901B845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M Computing Minimal Path To Lea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19240" y="577800"/>
            <a:ext cx="8711640" cy="3039120"/>
            <a:chOff x="219240" y="577800"/>
            <a:chExt cx="8711640" cy="3039120"/>
          </a:xfrm>
        </p:grpSpPr>
        <p:grpSp>
          <p:nvGrpSpPr>
            <p:cNvPr id="80" name=""/>
            <p:cNvGrpSpPr/>
            <p:nvPr/>
          </p:nvGrpSpPr>
          <p:grpSpPr>
            <a:xfrm>
              <a:off x="863640" y="577800"/>
              <a:ext cx="7315200" cy="1028520"/>
              <a:chOff x="863640" y="577800"/>
              <a:chExt cx="7315200" cy="1028520"/>
            </a:xfrm>
          </p:grpSpPr>
          <p:sp>
            <p:nvSpPr>
              <p:cNvPr id="81" name=""/>
              <p:cNvSpPr/>
              <p:nvPr/>
            </p:nvSpPr>
            <p:spPr>
              <a:xfrm>
                <a:off x="863640" y="577800"/>
                <a:ext cx="1359000" cy="1028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Neighbor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8000" y="596880"/>
                <a:ext cx="1320840" cy="990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22640" y="952200"/>
              <a:ext cx="4635720" cy="307080"/>
              <a:chOff x="2222640" y="952200"/>
              <a:chExt cx="463572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641760" y="952200"/>
                <a:ext cx="17589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po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1" idx="6"/>
                <a:endCxn id="84" idx="1"/>
              </p:cNvCxnSpPr>
              <p:nvPr/>
            </p:nvCxnSpPr>
            <p:spPr>
              <a:xfrm>
                <a:off x="2222640" y="1104480"/>
                <a:ext cx="141984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84" idx="3"/>
                <a:endCxn id="82" idx="2"/>
              </p:cNvCxnSpPr>
              <p:nvPr/>
            </p:nvCxnSpPr>
            <p:spPr>
              <a:xfrm>
                <a:off x="5400720" y="1104480"/>
                <a:ext cx="145800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367080" y="1104480"/>
              <a:ext cx="5563800" cy="2512440"/>
              <a:chOff x="3367080" y="1104480"/>
              <a:chExt cx="5563800" cy="2512440"/>
            </a:xfrm>
          </p:grpSpPr>
          <p:sp>
            <p:nvSpPr>
              <p:cNvPr id="88" name=""/>
              <p:cNvSpPr/>
              <p:nvPr/>
            </p:nvSpPr>
            <p:spPr>
              <a:xfrm>
                <a:off x="3367080" y="1984320"/>
                <a:ext cx="2308320" cy="882360"/>
              </a:xfrm>
              <a:prstGeom prst="hexagon">
                <a:avLst>
                  <a:gd name="adj" fmla="val 6540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mpr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4280" y="2124000"/>
                <a:ext cx="2168280" cy="615960"/>
              </a:xfrm>
              <a:prstGeom prst="hexagon">
                <a:avLst>
                  <a:gd name="adj" fmla="val 88004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re ar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3680" y="3309840"/>
                <a:ext cx="17589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2" idx="4"/>
                <a:endCxn id="89" idx="0"/>
              </p:cNvCxnSpPr>
              <p:nvPr/>
            </p:nvCxnSpPr>
            <p:spPr>
              <a:xfrm>
                <a:off x="7518240" y="159984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89" idx="1"/>
                <a:endCxn id="88" idx="3"/>
              </p:cNvCxnSpPr>
              <p:nvPr/>
            </p:nvCxnSpPr>
            <p:spPr>
              <a:xfrm flipH="1" flipV="1">
                <a:off x="5675040" y="2424960"/>
                <a:ext cx="759600" cy="68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88" idx="2"/>
                <a:endCxn id="90" idx="1"/>
              </p:cNvCxnSpPr>
              <p:nvPr/>
            </p:nvCxnSpPr>
            <p:spPr>
              <a:xfrm flipH="1" rot="16200000">
                <a:off x="5433840" y="1953000"/>
                <a:ext cx="596160" cy="242316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0" idx="3"/>
                <a:endCxn id="82" idx="6"/>
              </p:cNvCxnSpPr>
              <p:nvPr/>
            </p:nvCxnSpPr>
            <p:spPr>
              <a:xfrm flipH="1" flipV="1">
                <a:off x="8178480" y="1104480"/>
                <a:ext cx="524160" cy="2358000"/>
              </a:xfrm>
              <a:prstGeom prst="bentConnector3">
                <a:avLst>
                  <a:gd name="adj1" fmla="val -43642"/>
                </a:avLst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4064040" y="300492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19240" y="1618560"/>
              <a:ext cx="3209760" cy="1198080"/>
              <a:chOff x="219240" y="1618560"/>
              <a:chExt cx="3209760" cy="1198080"/>
            </a:xfrm>
          </p:grpSpPr>
          <p:sp>
            <p:nvSpPr>
              <p:cNvPr id="97" name=""/>
              <p:cNvSpPr/>
              <p:nvPr/>
            </p:nvSpPr>
            <p:spPr>
              <a:xfrm>
                <a:off x="219240" y="2166840"/>
                <a:ext cx="26352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improve b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88" idx="1"/>
                <a:endCxn id="97" idx="3"/>
              </p:cNvCxnSpPr>
              <p:nvPr/>
            </p:nvCxnSpPr>
            <p:spPr>
              <a:xfrm flipH="1">
                <a:off x="2854080" y="2425320"/>
                <a:ext cx="513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97" idx="0"/>
                <a:endCxn id="81" idx="4"/>
              </p:cNvCxnSpPr>
              <p:nvPr/>
            </p:nvCxnSpPr>
            <p:spPr>
              <a:xfrm flipV="1">
                <a:off x="1536480" y="1618560"/>
                <a:ext cx="6840" cy="5486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100" name=""/>
              <p:cNvSpPr/>
              <p:nvPr/>
            </p:nvSpPr>
            <p:spPr>
              <a:xfrm>
                <a:off x="2946600" y="250956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889520" y="5607000"/>
            <a:ext cx="383544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d :=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672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ghb      insert (cand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arNeighb, distan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to proposals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4579920"/>
            <a:ext cx="8991720" cy="673200"/>
            <a:chOff x="0" y="4579920"/>
            <a:chExt cx="8991720" cy="673200"/>
          </a:xfrm>
        </p:grpSpPr>
        <p:sp>
          <p:nvSpPr>
            <p:cNvPr id="104" name=""/>
            <p:cNvSpPr/>
            <p:nvPr/>
          </p:nvSpPr>
          <p:spPr>
            <a:xfrm>
              <a:off x="0" y="4579920"/>
              <a:ext cx="673092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&gt; ca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(m=can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Distance(proposalsFor m)+1 &lt; distanc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4605480"/>
              <a:ext cx="228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tak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ver a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5392800"/>
            <a:ext cx="4863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,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,n,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minDistance(proposalsFor m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Neighb :=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:= d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6D9-9AAF-490B-8B46-DF87BCED0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al Path Computation: Correct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ASM computing a minimal path to the leader, eventually for every agent ho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=max(Agent)=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=minimal distance of a path from agent to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Neighbor = a neighbor of agent on a minimal path to the leader (except for leader where nearNeighbor=le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gent} with side induction on the minimal distances in proposalsFor Max(propos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255-7D04-4788-A213-C4A4C75E6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63280"/>
            <a:ext cx="86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the CHECK submachine of the leader election ASM by a machine which checks proposals elementwise. Prove that the refinement is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he ASM for the election of a maximal leader and for computing a minimal path wrt a partial orde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a total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the leader election ASM to define an algorithm which, given the leader, computes for each agent the distance (length of a shortest path) to the leader and a neighbor where to start a shortest path to the lea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561-CAF4-4D0B-A535-3D4E09ADC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44Z</dcterms:modified>
  <cp:revision>734</cp:revision>
  <dc:subject>The ASM Method</dc:subject>
  <dc:title>The ASM Method</dc:title>
</cp:coreProperties>
</file>