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7119-56CB-4C13-8ACA-E74580E0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0022-8E88-42F5-AE40-D3EBE8AB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2C82-C7D0-4CEA-929B-FDC839AC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BDDA-5433-4B9F-B24F-E1FE9DF1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C768-C7D9-4C93-A0CF-36DCBEA9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A297-21C1-426B-9A61-A299CE82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078-B642-4C72-9A85-0C01701D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4CEF-CF76-4D23-9B67-53C4EB2A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5DBF-0027-48D3-8737-4253EE97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BE01-D2DD-4536-8267-099FC3D3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E11C-97DB-49A3-B3D9-CD61D0D3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F9EB-B8DB-4E81-84BD-2EF555BB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0946-09E4-4ABB-968D-DA0A665FB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Desired Operations</a:t>
            </a:r>
            <a:r>
              <a:rPr b="0" lang="it-IT" sz="28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Define an ASM which offers the following operations, predicates and functions on double linked lists, whose elements have values in a given set  VALU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reateList (VALUE)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reate a new double linked list with elements taking values in 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end (L, Val) 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pend at the end a new element with given value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nsert (L, Val, Elem)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nsert after Elem in L a new element with 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ete (L, Elem)  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ete Elem from 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ccessByValue (L, Val)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return the first element in L with 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ccessByIndex (L, i) 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turn the i-th element in 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mpty (L), length (L), occurs (L, Elem), position (L, Ele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pdate (L, Elem, Val) 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pdate the the value of Elem in L to 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at (L1,L2)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oncatenate two given lists in the given or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plit (L, Elem, L1, L2) 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plit L into L1, containing L up to including Elem, and L2 containing the rest list of 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21E-5B8A-48F7-8EDF-5F806B9630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roving the Properties (2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or L</a:t>
            </a:r>
            <a:r>
              <a:rPr b="0" lang="it-IT" sz="32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[ ]: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ppend (Delete (L,E),E) = Delete (Append (L,E),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66"/>
                </a:solidFill>
                <a:latin typeface="Arial"/>
              </a:rPr>
              <a:t>Follow from the defn of initialize (L), length (L), Append, Delete &amp; the fact that Append/Insert yield a non null co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The set ELEM (L) of elements occurring in a list is the set of all E which can be reached, starting from the list head, by applying next-links until the list tail is encount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66"/>
                </a:solidFill>
                <a:latin typeface="Arial"/>
              </a:rPr>
              <a:t>Follows from the defn of ELEM(L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1E93-428B-476C-AA10-6BF81436B3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Desired Propertie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rove that the Linked List ASM has the following properti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f the next-link of a list element Elem points to Elem’, then the previous-link of Elem’ points to El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 is empty iff the next-link of its head points to its tail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he set ELEM (L) of elements occurring in a list is the set of all E which can be reached, starting from the list head, by applying next-links until the list tail is encounte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fter applying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end (L, Val), the list is not emp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 newly created linked list is empty and its length is 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y Append/Delete  the list length in/de-creases by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For non empty L and arbitrary elements E the following hol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 (Delete (L,E),E) = Delete (Append (L,E),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4EB4-4582-462D-9A88-147EB6AD93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Problem S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exercise in Chapte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2BBD-384E-4F5D-8ADF-6F0749FAE3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Signatu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LINKED-LIST (VALUE) : dynamic set, with fcts “pointing” to structures of the following form 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(often VALUE suppressed)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ynamic set ELEM (L) of “objects” currly listed in 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stinguished elems Head (L), Tail (L) </a:t>
            </a: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ELEM (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evious (L), next (L): ELEM (L)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ELEM (L)   dyn link fc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t (L) : ELEM (L)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VALUE  yields curr value of list e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nitialize(L)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for L </a:t>
            </a:r>
            <a:r>
              <a:rPr b="1" lang="it-IT" sz="2400" spc="-1" strike="noStrike">
                <a:solidFill>
                  <a:srgbClr val="ff9966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LINKED-LIST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(as usual, L is suppressed)</a:t>
            </a:r>
            <a:r>
              <a:rPr b="1" lang="it-IT" sz="2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s empty linked list</a:t>
            </a:r>
            <a:r>
              <a:rPr b="1" lang="it-IT" sz="2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with values in VALUE,</a:t>
            </a:r>
            <a:r>
              <a:rPr b="1" lang="it-IT" sz="2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defined as follows</a:t>
            </a:r>
            <a:r>
              <a:rPr b="1" lang="it-IT" sz="2000" spc="-1" strike="noStrike">
                <a:solidFill>
                  <a:srgbClr val="ff99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Arial"/>
              </a:rPr>
              <a:t>ELEM := { Head, Tail }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next (Head) := Tail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previous (Tail) := H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cab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2cab8"/>
                </a:solidFill>
                <a:latin typeface="Arial"/>
              </a:rPr>
              <a:t>previous (Head) := next (Tail) := null (ELEM)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Head/Tail start/end the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ont (Head) := cont (Tail) := null (VALUE)    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Head/Tail have no cont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914400" y="5397480"/>
            <a:ext cx="7467120" cy="1257120"/>
            <a:chOff x="914400" y="5397480"/>
            <a:chExt cx="7467120" cy="1257120"/>
          </a:xfrm>
        </p:grpSpPr>
        <p:sp>
          <p:nvSpPr>
            <p:cNvPr id="50" name=""/>
            <p:cNvSpPr/>
            <p:nvPr/>
          </p:nvSpPr>
          <p:spPr>
            <a:xfrm>
              <a:off x="2133360" y="5397480"/>
              <a:ext cx="761760" cy="3070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95480" y="5397480"/>
              <a:ext cx="76140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57240" y="5397480"/>
              <a:ext cx="761760" cy="3045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0440" y="5397480"/>
              <a:ext cx="761760" cy="30708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38680" y="5397480"/>
              <a:ext cx="76140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76560" y="5397480"/>
              <a:ext cx="761760" cy="304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38480" y="5626080"/>
              <a:ext cx="11426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038480" y="5473440"/>
              <a:ext cx="1142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14400" y="5397480"/>
              <a:ext cx="76176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Arial"/>
                </a:rPr>
                <a:t>He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619760" y="5397480"/>
              <a:ext cx="76176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Tai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71440" y="6121440"/>
              <a:ext cx="761760" cy="533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o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33360" y="6121440"/>
              <a:ext cx="837720" cy="49500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previou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33560" y="6121440"/>
              <a:ext cx="761760" cy="533160"/>
            </a:xfrm>
            <a:prstGeom prst="ellipse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ex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98EC-D7EE-4A37-9B4E-DA43372194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Definition of Operations</a:t>
            </a:r>
            <a:r>
              <a:rPr b="0" lang="it-IT" sz="2800" spc="-1" strike="noStrike">
                <a:solidFill>
                  <a:srgbClr val="ff9966"/>
                </a:solidFill>
                <a:latin typeface="Times New Roman"/>
              </a:rPr>
              <a:t> (1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reateList (VALUE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et L = new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LINKED-LIST ( VALUE ))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in   initialize (L)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114800" y="3124080"/>
            <a:ext cx="5029200" cy="1295280"/>
            <a:chOff x="4114800" y="3124080"/>
            <a:chExt cx="5029200" cy="1295280"/>
          </a:xfrm>
        </p:grpSpPr>
        <p:grpSp>
          <p:nvGrpSpPr>
            <p:cNvPr id="66" name=""/>
            <p:cNvGrpSpPr/>
            <p:nvPr/>
          </p:nvGrpSpPr>
          <p:grpSpPr>
            <a:xfrm>
              <a:off x="4114800" y="3124080"/>
              <a:ext cx="5029200" cy="307080"/>
              <a:chOff x="4114800" y="3124080"/>
              <a:chExt cx="5029200" cy="307080"/>
            </a:xfrm>
          </p:grpSpPr>
          <p:sp>
            <p:nvSpPr>
              <p:cNvPr id="67" name=""/>
              <p:cNvSpPr/>
              <p:nvPr/>
            </p:nvSpPr>
            <p:spPr>
              <a:xfrm>
                <a:off x="4114800" y="3124080"/>
                <a:ext cx="761760" cy="30492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876560" y="3124080"/>
                <a:ext cx="762120" cy="3049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638680" y="3124080"/>
                <a:ext cx="762120" cy="304920"/>
              </a:xfrm>
              <a:prstGeom prst="rect">
                <a:avLst/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381880" y="3124080"/>
                <a:ext cx="762120" cy="304920"/>
              </a:xfrm>
              <a:prstGeom prst="rect">
                <a:avLst/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19760" y="3124080"/>
                <a:ext cx="76212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58000" y="3124080"/>
                <a:ext cx="761760" cy="30492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019560" y="3352680"/>
                <a:ext cx="1143000" cy="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6019200" y="3200400"/>
                <a:ext cx="1143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8381880" y="4114800"/>
              <a:ext cx="762120" cy="3045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20120" y="4114800"/>
              <a:ext cx="761760" cy="30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0" y="4114800"/>
              <a:ext cx="762120" cy="304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7009920" y="3352680"/>
              <a:ext cx="1600200" cy="8380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7467480" y="3352680"/>
              <a:ext cx="1447920" cy="838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0" y="1739880"/>
            <a:ext cx="9144000" cy="1294560"/>
            <a:chOff x="0" y="1739880"/>
            <a:chExt cx="9144000" cy="1294560"/>
          </a:xfrm>
        </p:grpSpPr>
        <p:grpSp>
          <p:nvGrpSpPr>
            <p:cNvPr id="81" name=""/>
            <p:cNvGrpSpPr/>
            <p:nvPr/>
          </p:nvGrpSpPr>
          <p:grpSpPr>
            <a:xfrm>
              <a:off x="4114800" y="1815840"/>
              <a:ext cx="5029200" cy="1218600"/>
              <a:chOff x="4114800" y="1815840"/>
              <a:chExt cx="5029200" cy="121860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4114800" y="1815840"/>
                <a:ext cx="5029200" cy="304560"/>
                <a:chOff x="4114800" y="1815840"/>
                <a:chExt cx="5029200" cy="30456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114800" y="1815840"/>
                  <a:ext cx="762120" cy="304560"/>
                </a:xfrm>
                <a:prstGeom prst="rect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876920" y="1815840"/>
                  <a:ext cx="761760" cy="30456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638680" y="1815840"/>
                  <a:ext cx="762120" cy="30456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8381880" y="1815840"/>
                  <a:ext cx="762120" cy="30456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620120" y="1815840"/>
                  <a:ext cx="761760" cy="30456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858000" y="1815840"/>
                  <a:ext cx="762120" cy="304560"/>
                </a:xfrm>
                <a:prstGeom prst="rect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019920" y="204408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H="1">
                  <a:off x="6019560" y="189180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6400800" y="2272680"/>
                <a:ext cx="457200" cy="761760"/>
              </a:xfrm>
              <a:prstGeom prst="downArrow">
                <a:avLst>
                  <a:gd name="adj1" fmla="val 50000"/>
                  <a:gd name="adj2" fmla="val 41654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800600" y="2349000"/>
                <a:ext cx="990720" cy="4568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Ele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0" y="1739880"/>
              <a:ext cx="91440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ff00"/>
                </a:buClr>
                <a:buFont typeface="Franklin Gothic Boo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ff00"/>
                  </a:solidFill>
                  <a:latin typeface="Franklin Gothic Book"/>
                </a:rPr>
                <a:t>Append (L, Val)</a:t>
              </a:r>
              <a:r>
                <a:rPr b="0" lang="it-IT" sz="2800" spc="-1" strike="noStrike">
                  <a:solidFill>
                    <a:srgbClr val="0000ff"/>
                  </a:solidFill>
                  <a:latin typeface="Franklin Gothic Book"/>
                </a:rPr>
                <a:t> </a:t>
              </a:r>
              <a:r>
                <a:rPr b="0" lang="it-IT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ff"/>
                  </a:solidFill>
                  <a:latin typeface="Franklin Gothic Book"/>
                </a:rPr>
                <a:t>  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76320" y="2374920"/>
            <a:ext cx="90676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let e = new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(ELEM (L))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ink previous (Tail) &amp;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ink e &amp;Tail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Franklin Gothic Book"/>
              </a:rPr>
              <a:t>  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cont (e) := V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                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with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Link a&amp;b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next (a) :=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                                   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previous (b) := a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Insert (L, Val, Elem)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et e = new </a:t>
            </a:r>
            <a:r>
              <a:rPr b="1" lang="it-IT" sz="2000" spc="-1" strike="noStrike">
                <a:solidFill>
                  <a:srgbClr val="ffffff"/>
                </a:solidFill>
                <a:latin typeface="Franklin Gothic Book"/>
              </a:rPr>
              <a:t>(ELEM (L))</a:t>
            </a:r>
            <a:r>
              <a:rPr b="0" lang="it-IT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cont (e) := V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Link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Elem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&amp; 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Link e &amp;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next (Elem)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B783-D34E-4053-8B68-4C853AAF07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Operations</a:t>
            </a:r>
            <a:r>
              <a:rPr b="0" lang="it-IT" sz="2800" spc="-1" strike="noStrike">
                <a:solidFill>
                  <a:srgbClr val="ff9966"/>
                </a:solidFill>
                <a:latin typeface="Times New Roman"/>
              </a:rPr>
              <a:t> &amp; Derived Fcts (2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85800"/>
            <a:ext cx="9144000" cy="2286000"/>
            <a:chOff x="0" y="685800"/>
            <a:chExt cx="9144000" cy="2286000"/>
          </a:xfrm>
        </p:grpSpPr>
        <p:sp>
          <p:nvSpPr>
            <p:cNvPr id="98" name=""/>
            <p:cNvSpPr/>
            <p:nvPr/>
          </p:nvSpPr>
          <p:spPr>
            <a:xfrm>
              <a:off x="0" y="685800"/>
              <a:ext cx="9144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ff00"/>
                  </a:solidFill>
                  <a:latin typeface="Franklin Gothic Book"/>
                </a:rPr>
                <a:t>Delete (L, e) </a:t>
              </a:r>
              <a:r>
                <a:rPr b="0" lang="it-IT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ff"/>
                  </a:solidFill>
                  <a:latin typeface="Franklin Gothic Book"/>
                </a:rPr>
                <a:t>           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ff"/>
                  </a:solidFill>
                  <a:latin typeface="Franklin Gothic Book"/>
                </a:rPr>
                <a:t>  </a:t>
              </a:r>
              <a:r>
                <a:rPr b="0" lang="it-IT" sz="2800" spc="-1" strike="noStrike">
                  <a:solidFill>
                    <a:srgbClr val="000000"/>
                  </a:solidFill>
                  <a:latin typeface="Franklin Gothic Book"/>
                </a:rPr>
                <a:t>     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14800" y="762120"/>
              <a:ext cx="5029200" cy="2209680"/>
              <a:chOff x="4114800" y="762120"/>
              <a:chExt cx="5029200" cy="2209680"/>
            </a:xfrm>
          </p:grpSpPr>
          <p:sp>
            <p:nvSpPr>
              <p:cNvPr id="100" name=""/>
              <p:cNvSpPr/>
              <p:nvPr/>
            </p:nvSpPr>
            <p:spPr>
              <a:xfrm>
                <a:off x="5486400" y="2209680"/>
                <a:ext cx="457200" cy="762120"/>
              </a:xfrm>
              <a:prstGeom prst="downArrow">
                <a:avLst>
                  <a:gd name="adj1" fmla="val 50000"/>
                  <a:gd name="adj2" fmla="val 41673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4114800" y="762120"/>
                <a:ext cx="5029200" cy="1830960"/>
                <a:chOff x="4114800" y="762120"/>
                <a:chExt cx="5029200" cy="1830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8381880" y="2286000"/>
                  <a:ext cx="762120" cy="30492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7620120" y="2286000"/>
                  <a:ext cx="761760" cy="3070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v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858000" y="2286000"/>
                  <a:ext cx="762120" cy="304920"/>
                </a:xfrm>
                <a:prstGeom prst="rect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114800" y="1295280"/>
                  <a:ext cx="762120" cy="304920"/>
                </a:xfrm>
                <a:prstGeom prst="rect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876920" y="1295280"/>
                  <a:ext cx="761760" cy="3070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638680" y="1295280"/>
                  <a:ext cx="762120" cy="30492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8381880" y="1295280"/>
                  <a:ext cx="762120" cy="30492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620120" y="1295280"/>
                  <a:ext cx="761760" cy="3070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000000"/>
                      </a:solidFill>
                      <a:latin typeface="Arial"/>
                    </a:rPr>
                    <a:t>Val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858000" y="1295280"/>
                  <a:ext cx="762120" cy="30492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019920" y="152388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>
                  <a:off x="6019560" y="137160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>
                  <a:off x="7009920" y="1523880"/>
                  <a:ext cx="1600200" cy="838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V="1">
                  <a:off x="7467480" y="1523520"/>
                  <a:ext cx="1447920" cy="838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620120" y="762120"/>
                  <a:ext cx="838080" cy="304560"/>
                </a:xfrm>
                <a:prstGeom prst="ellipse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" name=""/>
          <p:cNvGrpSpPr/>
          <p:nvPr/>
        </p:nvGrpSpPr>
        <p:grpSpPr>
          <a:xfrm>
            <a:off x="4114800" y="3276720"/>
            <a:ext cx="5029200" cy="307080"/>
            <a:chOff x="4114800" y="3276720"/>
            <a:chExt cx="5029200" cy="307080"/>
          </a:xfrm>
        </p:grpSpPr>
        <p:sp>
          <p:nvSpPr>
            <p:cNvPr id="117" name=""/>
            <p:cNvSpPr/>
            <p:nvPr/>
          </p:nvSpPr>
          <p:spPr>
            <a:xfrm>
              <a:off x="4114800" y="3276720"/>
              <a:ext cx="761760" cy="304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6560" y="3276720"/>
              <a:ext cx="76212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8680" y="3276720"/>
              <a:ext cx="762120" cy="3045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1880" y="3276720"/>
              <a:ext cx="762120" cy="3045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19760" y="3276720"/>
              <a:ext cx="76212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v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58000" y="3276720"/>
              <a:ext cx="761760" cy="304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19560" y="3504960"/>
              <a:ext cx="114300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019200" y="3352680"/>
              <a:ext cx="1143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0" y="2209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ink previous (e) &amp; next (e)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733920"/>
            <a:ext cx="9144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length (L)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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m ( next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Franklin Gothic Book"/>
              </a:rPr>
              <a:t>m+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 = Tail )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</a:t>
            </a:r>
            <a:r>
              <a:rPr b="0" lang="it-IT" sz="1800" spc="-1" strike="noStrike">
                <a:solidFill>
                  <a:srgbClr val="ccecff"/>
                </a:solidFill>
                <a:latin typeface="Franklin Gothic Book"/>
              </a:rPr>
              <a:t>well defined by initializ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occurs (L, e)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i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length (L) : next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Franklin Gothic Book"/>
              </a:rPr>
              <a:t>i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 = e</a:t>
            </a:r>
            <a:r>
              <a:rPr b="1" lang="it-IT" sz="2400" spc="-1" strike="noStrike">
                <a:solidFill>
                  <a:srgbClr val="0000ff"/>
                </a:solidFill>
                <a:latin typeface="Franklin Gothic Book"/>
              </a:rPr>
              <a:t>     </a:t>
            </a:r>
            <a:r>
              <a:rPr b="0" lang="it-IT" sz="2000" spc="-1" strike="noStrike">
                <a:solidFill>
                  <a:srgbClr val="ffffff"/>
                </a:solidFill>
                <a:latin typeface="Franklin Gothic Book"/>
              </a:rPr>
              <a:t>(e</a:t>
            </a:r>
            <a:r>
              <a:rPr b="1" lang="it-IT" sz="20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ELEM(L)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</a:t>
            </a:r>
            <a:r>
              <a:rPr b="0" lang="it-IT" sz="2400" spc="-1" strike="noStrike">
                <a:solidFill>
                  <a:srgbClr val="0000ff"/>
                </a:solidFill>
                <a:latin typeface="Franklin Gothic Book"/>
              </a:rPr>
              <a:t>)</a:t>
            </a:r>
            <a:r>
              <a:rPr b="0" lang="it-IT" sz="2800" spc="-1" strike="noStrike">
                <a:solidFill>
                  <a:srgbClr val="eaeaea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position (L, Elem)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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m ( next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Franklin Gothic Book"/>
              </a:rPr>
              <a:t>m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 = Elem )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</a:t>
            </a:r>
            <a:r>
              <a:rPr b="0" lang="it-IT" sz="2000" spc="-1" strike="noStrike">
                <a:solidFill>
                  <a:srgbClr val="eaeaea"/>
                </a:solidFill>
                <a:latin typeface="Franklin Gothic Book"/>
              </a:rPr>
              <a:t>if occurs (L, Elem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AccessByIndex (L, i)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next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Franklin Gothic Book"/>
              </a:rPr>
              <a:t>i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              if i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length (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AccessByValue (L, Val)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next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Franklin Gothic Book"/>
              </a:rPr>
              <a:t>m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            </a:t>
            </a:r>
            <a:r>
              <a:rPr b="0" lang="it-IT" sz="2400" spc="-1" strike="noStrike">
                <a:solidFill>
                  <a:srgbClr val="ccecff"/>
                </a:solidFill>
                <a:latin typeface="Franklin Gothic Book"/>
              </a:rPr>
              <a:t>fst occ of V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where m= min { i | cont (next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Franklin Gothic Book"/>
              </a:rPr>
              <a:t>i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) = Val } is defined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8213-43F1-47D6-92FF-67A4AFA1C2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Definition of Operations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 (3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09480"/>
            <a:ext cx="914400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Update (L, Elem, Val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If</a:t>
            </a:r>
            <a:r>
              <a:rPr b="0" lang="it-IT" sz="24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Franklin Gothic Book"/>
              </a:rPr>
              <a:t>occurs (L, Ele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Franklin Gothic Book"/>
              </a:rPr>
              <a:t>             </a:t>
            </a:r>
            <a:r>
              <a:rPr b="0" lang="it-IT" sz="2400" spc="-1" strike="noStrike">
                <a:solidFill>
                  <a:srgbClr val="eaeaea"/>
                </a:solidFill>
                <a:latin typeface="Franklin Gothic Book"/>
              </a:rPr>
              <a:t>then cont</a:t>
            </a:r>
            <a:r>
              <a:rPr b="0" lang="it-IT" sz="2800" spc="-1" strike="noStrike">
                <a:solidFill>
                  <a:srgbClr val="eaeaea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Franklin Gothic Book"/>
              </a:rPr>
              <a:t>(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Elem) := V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  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else  error msg  “Elem does not occur in L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Cat (L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, L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et L = new </a:t>
            </a:r>
            <a:r>
              <a:rPr b="0" lang="it-IT" sz="2000" spc="-1" strike="noStrike">
                <a:solidFill>
                  <a:srgbClr val="ffffff"/>
                </a:solidFill>
                <a:latin typeface="Franklin Gothic Book"/>
              </a:rPr>
              <a:t>(LINKED-LIST)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Head (L) := Head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Tail (L) := Tail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ink (L) previous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( Tail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) &amp; next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( Head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forall e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ELEM (L) - {previous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( Tail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),Tail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  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ink (L)  e &amp; next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( e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forall e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ELEM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- { Head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,Tail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  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ink (L)  e &amp; next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( e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5334120"/>
            <a:ext cx="8991360" cy="1174320"/>
            <a:chOff x="0" y="5334120"/>
            <a:chExt cx="8991360" cy="1174320"/>
          </a:xfrm>
        </p:grpSpPr>
        <p:grpSp>
          <p:nvGrpSpPr>
            <p:cNvPr id="130" name=""/>
            <p:cNvGrpSpPr/>
            <p:nvPr/>
          </p:nvGrpSpPr>
          <p:grpSpPr>
            <a:xfrm>
              <a:off x="0" y="6095880"/>
              <a:ext cx="5029200" cy="336240"/>
              <a:chOff x="0" y="6095880"/>
              <a:chExt cx="5029200" cy="33624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6095880"/>
                <a:ext cx="76212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Times New Roman"/>
                  </a:rPr>
                  <a:t>. . .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2120" y="6095880"/>
                <a:ext cx="761760" cy="33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ast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23880" y="6095880"/>
                <a:ext cx="762120" cy="336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ail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7080" y="6095880"/>
                <a:ext cx="762120" cy="307080"/>
              </a:xfrm>
              <a:prstGeom prst="rect">
                <a:avLst/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Times New Roman"/>
                  </a:rPr>
                  <a:t>- - -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505320" y="6095880"/>
                <a:ext cx="761760" cy="33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imes New Roman"/>
                  </a:rPr>
                  <a:t>fst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43200" y="6095880"/>
                <a:ext cx="762120" cy="336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Head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6705720" y="5334120"/>
              <a:ext cx="2285640" cy="1174320"/>
              <a:chOff x="6705720" y="5334120"/>
              <a:chExt cx="2285640" cy="117432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6705720" y="5334120"/>
                <a:ext cx="1523880" cy="336240"/>
                <a:chOff x="6705720" y="5334120"/>
                <a:chExt cx="1523880" cy="3362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6705720" y="5334120"/>
                  <a:ext cx="762120" cy="307080"/>
                </a:xfrm>
                <a:prstGeom prst="rect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ffffff"/>
                      </a:solidFill>
                      <a:latin typeface="Times New Roman"/>
                    </a:rPr>
                    <a:t>. . .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467840" y="5334120"/>
                  <a:ext cx="761760" cy="3362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last</a:t>
                  </a:r>
                  <a:r>
                    <a:rPr b="1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7467480" y="6172200"/>
                <a:ext cx="1523880" cy="336240"/>
                <a:chOff x="7467480" y="6172200"/>
                <a:chExt cx="1523880" cy="3362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8229240" y="6172200"/>
                  <a:ext cx="762120" cy="30708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ffffff"/>
                      </a:solidFill>
                      <a:latin typeface="Times New Roman"/>
                    </a:rPr>
                    <a:t>- - -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467480" y="6172200"/>
                  <a:ext cx="761760" cy="3362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000000"/>
                      </a:solidFill>
                      <a:latin typeface="Times New Roman"/>
                    </a:rPr>
                    <a:t>fst</a:t>
                  </a:r>
                  <a:r>
                    <a:rPr b="1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7543800" y="5562720"/>
                <a:ext cx="0" cy="68580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8153280" y="5562360"/>
                <a:ext cx="0" cy="685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5486400" y="5867280"/>
              <a:ext cx="990720" cy="304920"/>
            </a:xfrm>
            <a:prstGeom prst="rightArrow">
              <a:avLst>
                <a:gd name="adj1" fmla="val 50000"/>
                <a:gd name="adj2" fmla="val 81228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8BB2-4313-4E3F-BB53-8056891846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Double Linked Lists </a:t>
            </a:r>
            <a:r>
              <a:rPr b="0" lang="it-IT" sz="2400" spc="-1" strike="noStrike">
                <a:solidFill>
                  <a:srgbClr val="ff9966"/>
                </a:solidFill>
                <a:latin typeface="Times New Roman"/>
              </a:rPr>
              <a:t>: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Times New Roman"/>
              </a:rPr>
              <a:t>Definition of Operations</a:t>
            </a:r>
            <a:r>
              <a:rPr b="0" lang="it-IT" sz="2800" spc="-1" strike="noStrike">
                <a:solidFill>
                  <a:srgbClr val="ff9966"/>
                </a:solidFill>
                <a:latin typeface="Times New Roman"/>
              </a:rPr>
              <a:t> (4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09480"/>
            <a:ext cx="9144000" cy="52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Split (L, e, L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, L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let e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= new-tail,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e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= new-head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Head (L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) := Head (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Tail (L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) := e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Link (L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)  e &amp; e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forall E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ELEM (L)   if position (L, E) &lt; position (L, 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          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then Link (L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)  E &amp; next (L) ( E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Head (L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) := e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Link (L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) e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&amp; next (L) (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Tail (L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) := Tail (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forall E</a:t>
            </a:r>
            <a:r>
              <a:rPr b="0" lang="it-IT" sz="2800" spc="-1" strike="noStrike">
                <a:solidFill>
                  <a:srgbClr val="f2cab8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ELEM (L)   if  position (L, e) &lt; position (L, E)                                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	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                              then Link (L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)  E &amp; next (L) ( E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601992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83080" y="1092240"/>
            <a:ext cx="4368960" cy="1252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ranklin Gothic Book"/>
              </a:rPr>
              <a:t>where</a:t>
            </a: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Franklin Gothic Book"/>
              </a:rPr>
              <a:t>e’ = new-tail/head</a:t>
            </a:r>
            <a:r>
              <a:rPr b="0" lang="it-IT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Franklin Gothic Book"/>
              </a:rPr>
              <a:t>cont (</a:t>
            </a:r>
            <a:r>
              <a:rPr b="0" lang="it-IT" sz="2400" spc="-1" strike="noStrike">
                <a:solidFill>
                  <a:srgbClr val="000000"/>
                </a:solidFill>
                <a:latin typeface="Franklin Gothic Book"/>
              </a:rPr>
              <a:t>e’</a:t>
            </a:r>
            <a:r>
              <a:rPr b="1" lang="it-IT" sz="2000" spc="-1" strike="noStrike">
                <a:solidFill>
                  <a:srgbClr val="000000"/>
                </a:solidFill>
                <a:latin typeface="Franklin Gothic Book"/>
              </a:rPr>
              <a:t>) := null (VALU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Franklin Gothic Book"/>
              </a:rPr>
              <a:t>next/previous (</a:t>
            </a:r>
            <a:r>
              <a:rPr b="0" lang="it-IT" sz="2400" spc="-1" strike="noStrike">
                <a:solidFill>
                  <a:srgbClr val="000000"/>
                </a:solidFill>
                <a:latin typeface="Franklin Gothic Book"/>
              </a:rPr>
              <a:t>e’</a:t>
            </a:r>
            <a:r>
              <a:rPr b="1" lang="it-IT" sz="2000" spc="-1" strike="noStrike">
                <a:solidFill>
                  <a:srgbClr val="000000"/>
                </a:solidFill>
                <a:latin typeface="Franklin Gothic Book"/>
              </a:rPr>
              <a:t>) := null (ELE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0" y="6019920"/>
            <a:ext cx="2286000" cy="1372680"/>
            <a:chOff x="0" y="6019920"/>
            <a:chExt cx="2286000" cy="1372680"/>
          </a:xfrm>
        </p:grpSpPr>
        <p:grpSp>
          <p:nvGrpSpPr>
            <p:cNvPr id="152" name=""/>
            <p:cNvGrpSpPr/>
            <p:nvPr/>
          </p:nvGrpSpPr>
          <p:grpSpPr>
            <a:xfrm>
              <a:off x="0" y="6019920"/>
              <a:ext cx="1523880" cy="1372680"/>
              <a:chOff x="0" y="6019920"/>
              <a:chExt cx="1523880" cy="1372680"/>
            </a:xfrm>
          </p:grpSpPr>
          <p:sp>
            <p:nvSpPr>
              <p:cNvPr id="153" name=""/>
              <p:cNvSpPr/>
              <p:nvPr/>
            </p:nvSpPr>
            <p:spPr>
              <a:xfrm>
                <a:off x="0" y="6019920"/>
                <a:ext cx="762120" cy="13726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Times New Roman"/>
                  </a:rPr>
                  <a:t>. . .                                                                  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62120" y="6019920"/>
                <a:ext cx="761760" cy="1372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                                                                   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1523880" y="6019920"/>
              <a:ext cx="762120" cy="946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Times New Roman"/>
                </a:rPr>
                <a:t>- - -                                      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559400" y="5778360"/>
            <a:ext cx="3429000" cy="793440"/>
            <a:chOff x="4559400" y="5778360"/>
            <a:chExt cx="3429000" cy="793440"/>
          </a:xfrm>
        </p:grpSpPr>
        <p:grpSp>
          <p:nvGrpSpPr>
            <p:cNvPr id="157" name=""/>
            <p:cNvGrpSpPr/>
            <p:nvPr/>
          </p:nvGrpSpPr>
          <p:grpSpPr>
            <a:xfrm>
              <a:off x="4559400" y="5778360"/>
              <a:ext cx="2666880" cy="336240"/>
              <a:chOff x="4559400" y="5778360"/>
              <a:chExt cx="2666880" cy="336240"/>
            </a:xfrm>
          </p:grpSpPr>
          <p:sp>
            <p:nvSpPr>
              <p:cNvPr id="158" name=""/>
              <p:cNvSpPr/>
              <p:nvPr/>
            </p:nvSpPr>
            <p:spPr>
              <a:xfrm>
                <a:off x="4559400" y="5778360"/>
                <a:ext cx="76212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Times New Roman"/>
                  </a:rPr>
                  <a:t>. . .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321520" y="5778360"/>
                <a:ext cx="76176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07320" y="5778360"/>
                <a:ext cx="1218960" cy="336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ail (L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6007320" y="6235560"/>
              <a:ext cx="1981080" cy="336240"/>
              <a:chOff x="6007320" y="6235560"/>
              <a:chExt cx="1981080" cy="336240"/>
            </a:xfrm>
          </p:grpSpPr>
          <p:sp>
            <p:nvSpPr>
              <p:cNvPr id="162" name=""/>
              <p:cNvSpPr/>
              <p:nvPr/>
            </p:nvSpPr>
            <p:spPr>
              <a:xfrm>
                <a:off x="7226280" y="6235560"/>
                <a:ext cx="762120" cy="3070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Times New Roman"/>
                  </a:rPr>
                  <a:t>- - -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07320" y="6235560"/>
                <a:ext cx="1218960" cy="336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ead (L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8AC1-44D1-4E2D-A55E-9B75C48335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roving the Properties (1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If the next-link of a list element Elem points to Elem’, then the previous-link of Elem’ points to El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Initially true by defn of initialize (L), preserved by each opn due to the defn of Link (L) and the fact that next/previous are modified only using this macr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L is empty if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the next-link of its head points to its tail.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 newly created linked list is empty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its length is 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fter applying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ppend (L, Val), the list is not empty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y Append/Delete  the list length in/de-creas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y 1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9EFA-D022-43A4-ACE9-55B76EAB13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4:16Z</dcterms:modified>
  <cp:revision>712</cp:revision>
  <dc:subject>Illustrating the new-construct of ASMs</dc:subject>
  <dc:title>ASM for linked lists</dc:title>
</cp:coreProperties>
</file>