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EDA-F395-46BA-AC45-F57E51C0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04E-9B53-498D-8251-4B8F6168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617-0141-4EE8-98F6-B9838D62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D58-8226-42DE-BD93-52DCBCC9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878-F980-4C36-9FF1-76110928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571-EF91-4C40-A183-64C9838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C34-D3B6-459D-9232-413B4B3D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B42-A90C-4871-BBD7-B9565AF4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DCB-9F50-48F0-973A-410C617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693-B22C-4DBB-B672-70E719A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260-C5F4-44CC-AB7A-B2CEC851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3CC-186E-4DD5-8BBB-5077CE4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4A91-3A33-4BB9-8DF9-FE66203F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reaching workload balance among the agents of a ring (using only communication between right/left neighb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message passing mechanism and effective task transfer abstract, assuming fixed number of agents and total work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ring nod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ly s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workload inf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s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is righ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task transfer mss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left neighbor, transfering a task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nce the workload with the lef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 his workload to balance it with his right neighbo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 eventually the difference between the workload of two nodes beco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D3F-D7EA-4CE9-AC32-1F5E3A926E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ing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ftNeighb, rightNeighb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Loa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workload of lef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fer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 transfered by righ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formRightNeigh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Lef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Righ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informRightNeigh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ighbLoad = transferLoad = un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53A-1357-4979-8F4B-EA12DD49A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2160"/>
            <a:ext cx="277488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(workLoad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Neighb.neighb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= work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412920"/>
            <a:ext cx="6959520" cy="2609640"/>
            <a:chOff x="1028880" y="412920"/>
            <a:chExt cx="6959520" cy="2609640"/>
          </a:xfrm>
        </p:grpSpPr>
        <p:sp>
          <p:nvSpPr>
            <p:cNvPr id="51" name=""/>
            <p:cNvSpPr/>
            <p:nvPr/>
          </p:nvSpPr>
          <p:spPr>
            <a:xfrm>
              <a:off x="1511280" y="425520"/>
              <a:ext cx="1270080" cy="1079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in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0840" y="660240"/>
              <a:ext cx="172080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nd(workLoa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60640" y="1917720"/>
              <a:ext cx="132084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6680" y="412920"/>
              <a:ext cx="132048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67480" y="17906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Lef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880" y="18032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Righ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1" idx="6"/>
              <a:endCxn id="54" idx="2"/>
            </p:cNvCxnSpPr>
            <p:nvPr/>
          </p:nvCxnSpPr>
          <p:spPr>
            <a:xfrm>
              <a:off x="2781000" y="964800"/>
              <a:ext cx="35060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3"/>
              <a:endCxn id="53" idx="7"/>
            </p:cNvCxnSpPr>
            <p:nvPr/>
          </p:nvCxnSpPr>
          <p:spPr>
            <a:xfrm flipH="1">
              <a:off x="4987080" y="1355400"/>
              <a:ext cx="1492920" cy="7246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1"/>
              <a:endCxn id="51" idx="5"/>
            </p:cNvCxnSpPr>
            <p:nvPr/>
          </p:nvCxnSpPr>
          <p:spPr>
            <a:xfrm flipH="1" flipV="1">
              <a:off x="2595240" y="1345680"/>
              <a:ext cx="1459440" cy="7344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0" name=""/>
          <p:cNvGrpSpPr/>
          <p:nvPr/>
        </p:nvGrpSpPr>
        <p:grpSpPr>
          <a:xfrm>
            <a:off x="0" y="3235320"/>
            <a:ext cx="9144000" cy="992880"/>
            <a:chOff x="0" y="3235320"/>
            <a:chExt cx="9144000" cy="992880"/>
          </a:xfrm>
        </p:grpSpPr>
        <p:sp>
          <p:nvSpPr>
            <p:cNvPr id="61" name=""/>
            <p:cNvSpPr/>
            <p:nvPr/>
          </p:nvSpPr>
          <p:spPr>
            <a:xfrm>
              <a:off x="5676840" y="323532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Lef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neighb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1128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Righ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transfer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286160"/>
            <a:ext cx="9144000" cy="1511640"/>
            <a:chOff x="0" y="4286160"/>
            <a:chExt cx="9144000" cy="1511640"/>
          </a:xfrm>
        </p:grpSpPr>
        <p:sp>
          <p:nvSpPr>
            <p:cNvPr id="64" name=""/>
            <p:cNvSpPr/>
            <p:nvPr/>
          </p:nvSpPr>
          <p:spPr>
            <a:xfrm>
              <a:off x="4660920" y="4286160"/>
              <a:ext cx="4483080" cy="14655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 = workLoad &gt; neighbLoa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ftNeighb.transferLoad:=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ighb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7080" y="5216400"/>
              <a:ext cx="2286000" cy="581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ed(l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3200" spc="-1" strike="noStrike" baseline="1000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286160"/>
              <a:ext cx="4483080" cy="9169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+ transferLo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ransfer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454-CB6C-438A-91A0-5E34D83E3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 AS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Correctness proper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ring load balance ASM, eventually the  workload difference between two neighboring nodes becom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the wieght of run workload differences. Let w = total workLoad of all nodes, a= |Agent|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1: t|a. Then eventually workLoad(n)=w/a for every nod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2: otherwise. Then eventually the workLoad of some neighboring nodes will differ by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DDD-8EB6-440C-9F55-1D8DEB40D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7 (in particular Fig. 37.1) and Section 82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0CD-AFC5-495C-9C35-FEE3BAFCA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27Z</dcterms:modified>
  <cp:revision>750</cp:revision>
  <dc:subject>The ASM Method</dc:subject>
  <dc:title>The ASM Method</dc:title>
</cp:coreProperties>
</file>