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A07-33DF-44D9-80CC-B31158BA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DE2D-F046-4DB4-9C55-9E4A16B6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481-103D-471F-97FC-57DF29EC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BB6-C876-4E7F-9732-51E044CD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CEF-1DEB-451E-A606-585383F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126-7C10-48DE-852C-90DEF49B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5A4-D778-4842-8C58-C3EE7D5B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74D-86D5-42C2-AE6D-62F01B68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DDB-D96F-4AB5-AE6B-AA140885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7AE-E329-4137-8B45-281B8936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0B3-F75C-46B3-A23A-C53D8F0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26D-ED86-46B3-8555-5DDD62D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BFB5-62C7-4382-8B25-A64080969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9661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for a master launching orders to slave agents, to be confirmed by them and to be executed iff all of them confirm to the master the acceptance of the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enquires about a job to be launched and then waits for answers from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laves answer the enquiry and then wait for the order or the cancellation of the launched job from the 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orders or cancels the job depending on whether all slaves answered to accept it or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the master becomes idle, with all slaves either idle too or executing the accepted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465-C734-4DE8-A393-C08E8AA2D1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4880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tinguished 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er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der   external function yielding jobs to be sent to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l_stat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Answ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et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 equipp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e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true,false}   recording whether a job request has been launched by the master to the s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nsw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accept,refuse,undef} recording whether a job request has been acceped by the sla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Order, bus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 = idle, order = answer =undef, asked =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Abstraction from message passing: functions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sked, answer, or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ared in writing resp.reading among slaves and mas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36A-6D4A-4A06-9C94-750DEFCBCE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70000"/>
            <a:ext cx="4749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ire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al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ske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879560"/>
            <a:ext cx="4343400" cy="146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OrCancel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so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nswer = refu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order:=can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order:=jo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89040"/>
            <a:ext cx="4762440" cy="6732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s Arrived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for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answ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11360" y="577800"/>
            <a:ext cx="7931160" cy="1159200"/>
            <a:chOff x="711360" y="577800"/>
            <a:chExt cx="7931160" cy="1159200"/>
          </a:xfrm>
        </p:grpSpPr>
        <p:grpSp>
          <p:nvGrpSpPr>
            <p:cNvPr id="53" name=""/>
            <p:cNvGrpSpPr/>
            <p:nvPr/>
          </p:nvGrpSpPr>
          <p:grpSpPr>
            <a:xfrm>
              <a:off x="711360" y="577800"/>
              <a:ext cx="7702200" cy="930240"/>
              <a:chOff x="711360" y="577800"/>
              <a:chExt cx="7702200" cy="930240"/>
            </a:xfrm>
          </p:grpSpPr>
          <p:sp>
            <p:nvSpPr>
              <p:cNvPr id="54" name=""/>
              <p:cNvSpPr/>
              <p:nvPr/>
            </p:nvSpPr>
            <p:spPr>
              <a:xfrm>
                <a:off x="711360" y="58104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70200" y="5778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35400" y="7524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nswe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80440" y="782640"/>
                <a:ext cx="93312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OrderOrCanc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46320" y="782640"/>
                <a:ext cx="10983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nqui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9" name=""/>
              <p:cNvCxnSpPr>
                <a:stCxn id="54" idx="6"/>
                <a:endCxn id="58" idx="1"/>
              </p:cNvCxnSpPr>
              <p:nvPr/>
            </p:nvCxnSpPr>
            <p:spPr>
              <a:xfrm flipV="1">
                <a:off x="1739520" y="1040760"/>
                <a:ext cx="407160" cy="396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8" idx="3"/>
                <a:endCxn id="55" idx="2"/>
              </p:cNvCxnSpPr>
              <p:nvPr/>
            </p:nvCxnSpPr>
            <p:spPr>
              <a:xfrm>
                <a:off x="3244680" y="1041120"/>
                <a:ext cx="4262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6"/>
                <a:endCxn id="56" idx="1"/>
              </p:cNvCxnSpPr>
              <p:nvPr/>
            </p:nvCxnSpPr>
            <p:spPr>
              <a:xfrm>
                <a:off x="4699080" y="1041120"/>
                <a:ext cx="4370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6" idx="3"/>
                <a:endCxn id="57" idx="1"/>
              </p:cNvCxnSpPr>
              <p:nvPr/>
            </p:nvCxnSpPr>
            <p:spPr>
              <a:xfrm>
                <a:off x="6948360" y="1041120"/>
                <a:ext cx="5328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>
              <a:stCxn id="57" idx="3"/>
              <a:endCxn id="54" idx="4"/>
            </p:cNvCxnSpPr>
            <p:nvPr/>
          </p:nvCxnSpPr>
          <p:spPr>
            <a:xfrm flipH="1">
              <a:off x="1225080" y="1041480"/>
              <a:ext cx="7189200" cy="467280"/>
            </a:xfrm>
            <a:prstGeom prst="bentConnector4">
              <a:avLst>
                <a:gd name="adj1" fmla="val -3179"/>
                <a:gd name="adj2" fmla="val 148959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4" name=""/>
          <p:cNvSpPr/>
          <p:nvPr/>
        </p:nvSpPr>
        <p:spPr>
          <a:xfrm>
            <a:off x="216000" y="5667480"/>
            <a:ext cx="321300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sked the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=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ed:=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8680" y="5931000"/>
            <a:ext cx="474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Arrived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job, cancel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3994200"/>
            <a:ext cx="9144000" cy="1778040"/>
            <a:chOff x="0" y="3994200"/>
            <a:chExt cx="9144000" cy="1778040"/>
          </a:xfrm>
        </p:grpSpPr>
        <p:grpSp>
          <p:nvGrpSpPr>
            <p:cNvPr id="67" name=""/>
            <p:cNvGrpSpPr/>
            <p:nvPr/>
          </p:nvGrpSpPr>
          <p:grpSpPr>
            <a:xfrm>
              <a:off x="0" y="3994200"/>
              <a:ext cx="9144000" cy="1151640"/>
              <a:chOff x="0" y="3994200"/>
              <a:chExt cx="9144000" cy="1151640"/>
            </a:xfrm>
          </p:grpSpPr>
          <p:sp>
            <p:nvSpPr>
              <p:cNvPr id="68" name=""/>
              <p:cNvSpPr/>
              <p:nvPr/>
            </p:nvSpPr>
            <p:spPr>
              <a:xfrm>
                <a:off x="0" y="39942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70280" y="399420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22360" y="4305240"/>
                <a:ext cx="109872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80280" y="4200480"/>
                <a:ext cx="1368360" cy="514440"/>
              </a:xfrm>
              <a:prstGeom prst="hexagon">
                <a:avLst>
                  <a:gd name="adj" fmla="val 66498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jo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65560" y="41688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83760" y="4146480"/>
                <a:ext cx="660240" cy="622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bus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4" name=""/>
              <p:cNvCxnSpPr>
                <a:stCxn id="68" idx="6"/>
                <a:endCxn id="70" idx="1"/>
              </p:cNvCxnSpPr>
              <p:nvPr/>
            </p:nvCxnSpPr>
            <p:spPr>
              <a:xfrm>
                <a:off x="1028520" y="4457520"/>
                <a:ext cx="3942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5" name=""/>
              <p:cNvCxnSpPr>
                <a:stCxn id="70" idx="3"/>
                <a:endCxn id="69" idx="2"/>
              </p:cNvCxnSpPr>
              <p:nvPr/>
            </p:nvCxnSpPr>
            <p:spPr>
              <a:xfrm>
                <a:off x="2521080" y="4457520"/>
                <a:ext cx="3499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69" idx="6"/>
                <a:endCxn id="72" idx="1"/>
              </p:cNvCxnSpPr>
              <p:nvPr/>
            </p:nvCxnSpPr>
            <p:spPr>
              <a:xfrm>
                <a:off x="3898440" y="4457520"/>
                <a:ext cx="2671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3"/>
                <a:endCxn id="71" idx="1"/>
              </p:cNvCxnSpPr>
              <p:nvPr/>
            </p:nvCxnSpPr>
            <p:spPr>
              <a:xfrm>
                <a:off x="5978520" y="4457520"/>
                <a:ext cx="40248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8" name=""/>
              <p:cNvCxnSpPr>
                <a:stCxn id="71" idx="3"/>
                <a:endCxn id="73" idx="2"/>
              </p:cNvCxnSpPr>
              <p:nvPr/>
            </p:nvCxnSpPr>
            <p:spPr>
              <a:xfrm>
                <a:off x="7748640" y="4457520"/>
                <a:ext cx="7358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sp>
            <p:nvSpPr>
              <p:cNvPr id="79" name=""/>
              <p:cNvSpPr/>
              <p:nvPr/>
            </p:nvSpPr>
            <p:spPr>
              <a:xfrm>
                <a:off x="7083360" y="483876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5480" y="447048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8483760" y="5149800"/>
              <a:ext cx="660240" cy="622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1" idx="2"/>
              <a:endCxn id="81" idx="2"/>
            </p:cNvCxnSpPr>
            <p:nvPr/>
          </p:nvCxnSpPr>
          <p:spPr>
            <a:xfrm flipH="1" rot="16200000">
              <a:off x="7400160" y="4377960"/>
              <a:ext cx="746640" cy="1420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555-C58C-4F7E-8B66-1A4E532191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rrect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run of a set of master and slaves, all equipped with the corresponding  master/slave ASM, after the master has started an Enquiry, eventually the master becomes idle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all slaves become done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laves become busy executing the job ordered by the 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of. Follows by run ind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672-87F1-4512-97EC-6DC96A9F7D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he definition of a Petri net in Section 30 (Fig.30.1) and a detailed correctness proof in Section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3823-091C-4530-907C-563D5DA3F5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37Z</dcterms:modified>
  <cp:revision>769</cp:revision>
  <dc:subject>The ASM Method</dc:subject>
  <dc:title>The ASM Method</dc:title>
</cp:coreProperties>
</file>