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2AE8-F852-43A2-9709-900BD134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D481-61BB-42C6-BB7F-43C6A3C8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E7A-33B3-4579-BB38-7B7A62F7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E354-F402-482B-8BB9-F503238A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21F2-0F95-4793-B444-B06D206D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2461-9824-4A49-971A-C07AFA33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60B2-31CB-4B7E-82F6-651690B5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00D7-91EF-4BD7-8BB7-BAE1AFCF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0009-CB28-4B85-8E11-FCDAF897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E63-F2F3-438C-B748-F54785BB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897-9E67-436F-BD06-9F39A155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A782-DCAA-42B9-BAFE-F4D832C9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B2B8-A817-48FB-88DD-7F56F3AAD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Phase Synchronization </a:t>
            </a: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on Undirected Tre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Phase Synchronizatio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712000" cy="58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that guarantees synchronized execution of phases of computations, occurring at nodes of an undirected tree (connected acyclic network), using only communication between tree neighb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every agent (tree node) before becoming busy in a new phase ha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chronize with its neighbor nodes, moving the synchronization up along the tree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until all agents are waiting for the phase increase to st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ts phase - when the phase shift becomes movable down - and move the phase shift further down along the tree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il all nodes have become busy in the new ph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EF6-AF6D-4E62-8102-0601BF2BA4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Phase Synchronizatio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M: Agent Signa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undirected tree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s equipped wit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external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a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urrent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ynchPartner, waitPartner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                     yields the neighbor node an agent is synchronized with (in moving the synchronization up or down the tree) resp. waiting for (to reverse the previous upward synchronization downward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usy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waiting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tl_state = busy,  phase = 0, synchPartner = waitPartner = unde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8BA7-889B-4359-8462-E1964323A3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43080" y="216000"/>
            <a:ext cx="8394480" cy="1571040"/>
            <a:chOff x="343080" y="216000"/>
            <a:chExt cx="8394480" cy="1571040"/>
          </a:xfrm>
        </p:grpSpPr>
        <p:sp>
          <p:nvSpPr>
            <p:cNvPr id="49" name=""/>
            <p:cNvSpPr/>
            <p:nvPr/>
          </p:nvSpPr>
          <p:spPr>
            <a:xfrm>
              <a:off x="343080" y="631440"/>
              <a:ext cx="914400" cy="723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bus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861320" y="625320"/>
              <a:ext cx="876240" cy="736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wai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97200" y="216000"/>
              <a:ext cx="2168640" cy="615600"/>
            </a:xfrm>
            <a:prstGeom prst="hexagon">
              <a:avLst>
                <a:gd name="adj" fmla="val 88070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nchronization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vableU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42160" y="371160"/>
              <a:ext cx="2266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oveSynchronizationU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" name=""/>
            <p:cNvCxnSpPr>
              <a:stCxn id="51" idx="3"/>
              <a:endCxn id="52" idx="1"/>
            </p:cNvCxnSpPr>
            <p:nvPr/>
          </p:nvCxnSpPr>
          <p:spPr>
            <a:xfrm>
              <a:off x="4065840" y="523440"/>
              <a:ext cx="977040" cy="108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9" idx="0"/>
              <a:endCxn id="51" idx="1"/>
            </p:cNvCxnSpPr>
            <p:nvPr/>
          </p:nvCxnSpPr>
          <p:spPr>
            <a:xfrm flipH="1" flipV="1" rot="5400000">
              <a:off x="1294560" y="28440"/>
              <a:ext cx="108000" cy="109764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2" idx="3"/>
              <a:endCxn id="50" idx="0"/>
            </p:cNvCxnSpPr>
            <p:nvPr/>
          </p:nvCxnSpPr>
          <p:spPr>
            <a:xfrm>
              <a:off x="7308720" y="523440"/>
              <a:ext cx="991080" cy="10188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56" name=""/>
            <p:cNvSpPr/>
            <p:nvPr/>
          </p:nvSpPr>
          <p:spPr>
            <a:xfrm>
              <a:off x="5224680" y="1171440"/>
              <a:ext cx="2168280" cy="615600"/>
            </a:xfrm>
            <a:prstGeom prst="hexagon">
              <a:avLst>
                <a:gd name="adj" fmla="val 88056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aseShif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vableDow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94040" y="1323720"/>
              <a:ext cx="2050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ovePhaseShiftDow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0" idx="4"/>
              <a:endCxn id="56" idx="3"/>
            </p:cNvCxnSpPr>
            <p:nvPr/>
          </p:nvCxnSpPr>
          <p:spPr>
            <a:xfrm rot="5400000">
              <a:off x="7787160" y="966960"/>
              <a:ext cx="117720" cy="90720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1"/>
              <a:endCxn id="57" idx="3"/>
            </p:cNvCxnSpPr>
            <p:nvPr/>
          </p:nvCxnSpPr>
          <p:spPr>
            <a:xfrm flipH="1" flipV="1">
              <a:off x="4044240" y="1475640"/>
              <a:ext cx="1180440" cy="36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7" idx="1"/>
              <a:endCxn id="49" idx="4"/>
            </p:cNvCxnSpPr>
            <p:nvPr/>
          </p:nvCxnSpPr>
          <p:spPr>
            <a:xfrm rot="10800000">
              <a:off x="799560" y="1354680"/>
              <a:ext cx="1194480" cy="12096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0" y="1955880"/>
            <a:ext cx="9144000" cy="1452960"/>
            <a:chOff x="0" y="1955880"/>
            <a:chExt cx="9144000" cy="1452960"/>
          </a:xfrm>
        </p:grpSpPr>
        <p:sp>
          <p:nvSpPr>
            <p:cNvPr id="62" name=""/>
            <p:cNvSpPr/>
            <p:nvPr/>
          </p:nvSpPr>
          <p:spPr>
            <a:xfrm>
              <a:off x="0" y="1955880"/>
              <a:ext cx="91440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chronizationMovableUp  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ighb    SynchronizationMovableUpTo(y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for some neighb y all other neighbors synchronize with self in phase(self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705040"/>
              <a:ext cx="91440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veSynchronizationUp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hoose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ighb with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nchronizationMovableUpTo(y) 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synchronize self with y in phase(self)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veSynchronizationUpTo(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0" y="3449520"/>
            <a:ext cx="9144000" cy="3106080"/>
            <a:chOff x="0" y="3449520"/>
            <a:chExt cx="9144000" cy="3106080"/>
          </a:xfrm>
        </p:grpSpPr>
        <p:sp>
          <p:nvSpPr>
            <p:cNvPr id="65" name=""/>
            <p:cNvSpPr/>
            <p:nvPr/>
          </p:nvSpPr>
          <p:spPr>
            <a:xfrm>
              <a:off x="6286680" y="3449520"/>
              <a:ext cx="2857320" cy="8859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haseShiftMovableDown 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waitPartner synchronizes with self in phase(self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5546880"/>
              <a:ext cx="9144000" cy="10087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vePhaseShiftDown            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ase : = phase +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ighb-{waitPartner}      self.synchPartner(phase(self)) : = 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itPartner.synchPartner (phase(self)):= unde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0" y="6491160"/>
            <a:ext cx="3581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SM for Phase Synchron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3479760"/>
            <a:ext cx="9144000" cy="2008800"/>
            <a:chOff x="0" y="3479760"/>
            <a:chExt cx="9144000" cy="2008800"/>
          </a:xfrm>
        </p:grpSpPr>
        <p:sp>
          <p:nvSpPr>
            <p:cNvPr id="69" name=""/>
            <p:cNvSpPr/>
            <p:nvPr/>
          </p:nvSpPr>
          <p:spPr>
            <a:xfrm>
              <a:off x="0" y="4365720"/>
              <a:ext cx="6184800" cy="76464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veSynchronizationUpTo(y)  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ighb-{y}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.synchPartner(phase(self)) := unde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0" y="3479760"/>
              <a:ext cx="9144000" cy="2008800"/>
              <a:chOff x="0" y="3479760"/>
              <a:chExt cx="9144000" cy="2008800"/>
            </a:xfrm>
          </p:grpSpPr>
          <p:sp>
            <p:nvSpPr>
              <p:cNvPr id="71" name=""/>
              <p:cNvSpPr/>
              <p:nvPr/>
            </p:nvSpPr>
            <p:spPr>
              <a:xfrm>
                <a:off x="0" y="3479760"/>
                <a:ext cx="6184800" cy="1191240"/>
              </a:xfrm>
              <a:prstGeom prst="rect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ynchronizationMovableUpTo(y)  </a:t>
                </a: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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eighb-{y}    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z.synchPartner(phase(self)) = sel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5089680"/>
                <a:ext cx="9144000" cy="398880"/>
              </a:xfrm>
              <a:prstGeom prst="rect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elf.synchPartner(phase(self)) := y,     self.waitPartner(phase(self)) := 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F8B-7618-4163-8979-057C3C95EF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hase Synchronization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M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: Correctness &amp; Liven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infinite distributed run of agents equipped with the ASM  for phase synchroniz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ny state any two busy agents are in the same phase (correctness proper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very enabled agent will eventually make a move, then each agent will eventually  reach each phase (liveness proper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C13-1F37-4AC9-B493-E0408928D4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ase Synch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seShiftMovableDown Lemm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mma: For every phase p, whenever in a run a state is reached where for the first ti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waitPartner(p)=v synchronizes with u in phase p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element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tree(u,v)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ubtree(v,u)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{u,v}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waiting in phase 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ubtree(x,y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{n| n reachable by a path fro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x without touching y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D11-2D49-470D-BB21-9A93E0C839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roof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seShiftMovableDown Lemm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of of the lemma follows from the following two claim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im 1. When Synchronization is moved up in phase(u)=p from busy u to to v=u.synchPartner(p), the elements of subtree(u,v) are waiting, u becomes waiting, and they all remain so until the next application of a Shift rule “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ovePhaseShiftDown”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laim 1 follows by induction on the applications of the Synchronization ru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=1: true at the lea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+1: follows by induction hypothesis and Synchronization rule fro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tree(u,v)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i&lt;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subtree(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u)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{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...,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} for neighb(u}= {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...,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}  with v= 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n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by connectedne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A0C1-0F01-4D7A-B7F3-DDC46E5546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roof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seShiftMovableDown Lemm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im 2. For every infinite run and every phase p, a state is reached in which all agents are waiting in phase p and for some agent u its waitPartner in phase p synchronizes with u in phase p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llows by induction on 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C67-758D-4438-9130-76D03744E1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6 (in particular Fig. 36.1) and a correctness and liveness proof in Section 8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C4DD-386F-454D-8B44-5B86FCA32C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5:03Z</dcterms:modified>
  <cp:revision>760</cp:revision>
  <dc:subject>The ASM Method</dc:subject>
  <dc:title>The ASM Method</dc:title>
</cp:coreProperties>
</file>