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784-F2A4-433C-A65E-E87045C3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FA7-20CB-46EE-9725-930C2F64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1FF-57AC-4BBA-B542-DEF27CD7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C83-350F-4D09-A5CA-5A62107D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E49-C282-4D3D-A2D7-8347EC7B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6EA-B184-4BA5-B06F-F2E5185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E56-1A45-4D7D-8953-377CED0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214-7E64-4CA0-A834-D993160C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45D-A4C6-4F15-8624-7C4FC85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3BC-0173-4AAB-86CA-A2CAE8D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232-0DAB-43F4-B5C5-FB8F659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825-AB55-4046-AE00-C472DAA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BE3E-6AEE-4743-A3F2-9D3E4D69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n-deterministic Sorting A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265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eterministic sorting by iterating local swa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i,j in dom(a) s.t.i &lt; j &amp; a(i) &gt; a(j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i) := a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j) := a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8AA-BF31-4849-BB9D-AA916C1176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Sampling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ncreasing real-time moments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firing a rule in a discrete time sequenc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8550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89089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Go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a continuous set of ru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ule(t,t’) with t&lt;t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are to be fired in a discrete time sequence,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a finite number of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with increasing sequence of real interval bound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oose t &gt; currtime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(currtime,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mples := add(t,samples)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currtime :=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currtime is a monitored function which is supposed to evolve continu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83E-3EE3-4EEE-A275-532F9D9071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8T20:51:46Z</dcterms:modified>
  <cp:revision>708</cp:revision>
  <dc:subject/>
  <dc:title>Illustrating ASM choose-construct</dc:title>
</cp:coreProperties>
</file>