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AB3D-7508-41A0-9375-5C01F745B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23F9-B3A3-49BD-9237-4AD71D8D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E4A2-4701-4FAD-8B08-1034C553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21FD-0D7F-47CB-A46F-D3A9033F0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2B8F-9AFD-442E-B1D7-CA56AC46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9757-7D2F-4391-B535-53FAB087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011B-5676-4401-A751-EA275ACC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1FC1-6132-4C23-8385-19EBD957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BA6B-979F-4BEB-B235-C3ED8891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D3F5-6710-42E1-BB7A-F0CF1FEF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63BB-DA14-4F04-9C7A-197936C0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F35E-6A3C-4660-92C1-637F3CB9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ACF3-4507-4049-B214-859252E8B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trol structure of the execution semantics of Pipe statements in SpecC: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ipe(Init,cond,Incr,p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,…,p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7840" y="1987560"/>
            <a:ext cx="7435800" cy="4400640"/>
            <a:chOff x="177840" y="1987560"/>
            <a:chExt cx="7435800" cy="4400640"/>
          </a:xfrm>
        </p:grpSpPr>
        <p:sp>
          <p:nvSpPr>
            <p:cNvPr id="43" name=""/>
            <p:cNvSpPr/>
            <p:nvPr/>
          </p:nvSpPr>
          <p:spPr>
            <a:xfrm>
              <a:off x="311040" y="2057400"/>
              <a:ext cx="749520" cy="6350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in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81360" y="1987560"/>
              <a:ext cx="914400" cy="77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fill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77840" y="5613480"/>
              <a:ext cx="1015920" cy="7617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finishe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670200" y="5600880"/>
              <a:ext cx="1104840" cy="787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flush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585120" y="3498840"/>
              <a:ext cx="1028520" cy="787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runn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695760" y="1916280"/>
            <a:ext cx="4379760" cy="3684600"/>
            <a:chOff x="3695760" y="1916280"/>
            <a:chExt cx="4379760" cy="3684600"/>
          </a:xfrm>
        </p:grpSpPr>
        <p:sp>
          <p:nvSpPr>
            <p:cNvPr id="49" name=""/>
            <p:cNvSpPr/>
            <p:nvPr/>
          </p:nvSpPr>
          <p:spPr>
            <a:xfrm>
              <a:off x="6350040" y="2197080"/>
              <a:ext cx="1498680" cy="355680"/>
            </a:xfrm>
            <a:prstGeom prst="hexagon">
              <a:avLst>
                <a:gd name="adj" fmla="val 105339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317840" y="1916280"/>
              <a:ext cx="1295640" cy="9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FillLoo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cond,Incr,p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...p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467480" y="2928960"/>
              <a:ext cx="596880" cy="368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769080" y="2928960"/>
              <a:ext cx="520560" cy="368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3" name=""/>
            <p:cNvCxnSpPr>
              <a:stCxn id="49" idx="2"/>
              <a:endCxn id="46" idx="0"/>
            </p:cNvCxnSpPr>
            <p:nvPr/>
          </p:nvCxnSpPr>
          <p:spPr>
            <a:xfrm flipH="1">
              <a:off x="4222800" y="2552760"/>
              <a:ext cx="2877120" cy="30484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44" idx="6"/>
              <a:endCxn id="50" idx="1"/>
            </p:cNvCxnSpPr>
            <p:nvPr/>
          </p:nvCxnSpPr>
          <p:spPr>
            <a:xfrm>
              <a:off x="3695760" y="2374920"/>
              <a:ext cx="622440" cy="187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55" name=""/>
            <p:cNvCxnSpPr>
              <a:stCxn id="50" idx="3"/>
              <a:endCxn id="49" idx="1"/>
            </p:cNvCxnSpPr>
            <p:nvPr/>
          </p:nvCxnSpPr>
          <p:spPr>
            <a:xfrm flipV="1">
              <a:off x="5613480" y="2374920"/>
              <a:ext cx="736920" cy="187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56" name=""/>
            <p:cNvCxnSpPr>
              <a:stCxn id="49" idx="3"/>
              <a:endCxn id="47" idx="6"/>
            </p:cNvCxnSpPr>
            <p:nvPr/>
          </p:nvCxnSpPr>
          <p:spPr>
            <a:xfrm flipH="1">
              <a:off x="7613640" y="2374920"/>
              <a:ext cx="235440" cy="1518120"/>
            </a:xfrm>
            <a:prstGeom prst="bentConnector3">
              <a:avLst>
                <a:gd name="adj1" fmla="val -96477"/>
              </a:avLst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57" name=""/>
          <p:cNvGrpSpPr/>
          <p:nvPr/>
        </p:nvGrpSpPr>
        <p:grpSpPr>
          <a:xfrm>
            <a:off x="1193760" y="5673600"/>
            <a:ext cx="2476440" cy="680040"/>
            <a:chOff x="1193760" y="5673600"/>
            <a:chExt cx="2476440" cy="680040"/>
          </a:xfrm>
        </p:grpSpPr>
        <p:sp>
          <p:nvSpPr>
            <p:cNvPr id="58" name=""/>
            <p:cNvSpPr/>
            <p:nvPr/>
          </p:nvSpPr>
          <p:spPr>
            <a:xfrm>
              <a:off x="1765440" y="5673600"/>
              <a:ext cx="1295280" cy="68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FlushLoo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p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...p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9" name=""/>
            <p:cNvCxnSpPr>
              <a:stCxn id="46" idx="2"/>
              <a:endCxn id="58" idx="3"/>
            </p:cNvCxnSpPr>
            <p:nvPr/>
          </p:nvCxnSpPr>
          <p:spPr>
            <a:xfrm flipH="1">
              <a:off x="3060720" y="5994720"/>
              <a:ext cx="609840" cy="19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58" idx="1"/>
              <a:endCxn id="45" idx="6"/>
            </p:cNvCxnSpPr>
            <p:nvPr/>
          </p:nvCxnSpPr>
          <p:spPr>
            <a:xfrm flipH="1" flipV="1">
              <a:off x="1193760" y="5994360"/>
              <a:ext cx="572040" cy="1944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61" name=""/>
          <p:cNvGrpSpPr/>
          <p:nvPr/>
        </p:nvGrpSpPr>
        <p:grpSpPr>
          <a:xfrm>
            <a:off x="1060560" y="2190600"/>
            <a:ext cx="1720800" cy="368280"/>
            <a:chOff x="1060560" y="2190600"/>
            <a:chExt cx="1720800" cy="368280"/>
          </a:xfrm>
        </p:grpSpPr>
        <p:sp>
          <p:nvSpPr>
            <p:cNvPr id="62" name=""/>
            <p:cNvSpPr/>
            <p:nvPr/>
          </p:nvSpPr>
          <p:spPr>
            <a:xfrm>
              <a:off x="1600200" y="2190600"/>
              <a:ext cx="596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Ini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3" name=""/>
            <p:cNvCxnSpPr>
              <a:stCxn id="62" idx="3"/>
              <a:endCxn id="44" idx="2"/>
            </p:cNvCxnSpPr>
            <p:nvPr/>
          </p:nvCxnSpPr>
          <p:spPr>
            <a:xfrm>
              <a:off x="2197080" y="2374560"/>
              <a:ext cx="584640" cy="7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43" idx="6"/>
              <a:endCxn id="62" idx="1"/>
            </p:cNvCxnSpPr>
            <p:nvPr/>
          </p:nvCxnSpPr>
          <p:spPr>
            <a:xfrm flipV="1">
              <a:off x="1060560" y="2374560"/>
              <a:ext cx="540000" cy="7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8160" y="2692440"/>
            <a:ext cx="1295280" cy="2921040"/>
            <a:chOff x="38160" y="2692440"/>
            <a:chExt cx="1295280" cy="2921040"/>
          </a:xfrm>
        </p:grpSpPr>
        <p:sp>
          <p:nvSpPr>
            <p:cNvPr id="66" name=""/>
            <p:cNvSpPr/>
            <p:nvPr/>
          </p:nvSpPr>
          <p:spPr>
            <a:xfrm>
              <a:off x="38160" y="3843360"/>
              <a:ext cx="12952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dvan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st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45" idx="0"/>
              <a:endCxn id="66" idx="2"/>
            </p:cNvCxnSpPr>
            <p:nvPr/>
          </p:nvCxnSpPr>
          <p:spPr>
            <a:xfrm flipV="1">
              <a:off x="685800" y="4485960"/>
              <a:ext cx="360" cy="11278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66" idx="0"/>
              <a:endCxn id="43" idx="4"/>
            </p:cNvCxnSpPr>
            <p:nvPr/>
          </p:nvCxnSpPr>
          <p:spPr>
            <a:xfrm flipV="1">
              <a:off x="685800" y="2692440"/>
              <a:ext cx="360" cy="11512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69" name=""/>
          <p:cNvGrpSpPr/>
          <p:nvPr/>
        </p:nvGrpSpPr>
        <p:grpSpPr>
          <a:xfrm>
            <a:off x="4775040" y="3892680"/>
            <a:ext cx="3848400" cy="2477880"/>
            <a:chOff x="4775040" y="3892680"/>
            <a:chExt cx="3848400" cy="2477880"/>
          </a:xfrm>
        </p:grpSpPr>
        <p:grpSp>
          <p:nvGrpSpPr>
            <p:cNvPr id="70" name=""/>
            <p:cNvGrpSpPr/>
            <p:nvPr/>
          </p:nvGrpSpPr>
          <p:grpSpPr>
            <a:xfrm>
              <a:off x="4775040" y="4286160"/>
              <a:ext cx="3848400" cy="2084400"/>
              <a:chOff x="4775040" y="4286160"/>
              <a:chExt cx="3848400" cy="2084400"/>
            </a:xfrm>
          </p:grpSpPr>
          <p:sp>
            <p:nvSpPr>
              <p:cNvPr id="71" name=""/>
              <p:cNvSpPr/>
              <p:nvPr/>
            </p:nvSpPr>
            <p:spPr>
              <a:xfrm>
                <a:off x="5931000" y="6002280"/>
                <a:ext cx="444240" cy="36828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50040" y="5816520"/>
                <a:ext cx="1498680" cy="355680"/>
              </a:xfrm>
              <a:prstGeom prst="hexagon">
                <a:avLst>
                  <a:gd name="adj" fmla="val 105339"/>
                  <a:gd name="vf" fmla="val 11547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n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197760" y="4694400"/>
                <a:ext cx="1803240" cy="680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pawn(p</a:t>
                </a:r>
                <a:r>
                  <a:rPr b="0" lang="it-IT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...p</a:t>
                </a:r>
                <a:r>
                  <a:rPr b="0" lang="it-IT" sz="18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eq Inc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077320" y="5634000"/>
                <a:ext cx="546120" cy="36828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ye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75" name=""/>
              <p:cNvCxnSpPr>
                <a:stCxn id="47" idx="4"/>
                <a:endCxn id="73" idx="0"/>
              </p:cNvCxnSpPr>
              <p:nvPr/>
            </p:nvCxnSpPr>
            <p:spPr>
              <a:xfrm>
                <a:off x="7099200" y="4286160"/>
                <a:ext cx="360" cy="408600"/>
              </a:xfrm>
              <a:prstGeom prst="straightConnector1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76" name=""/>
              <p:cNvCxnSpPr>
                <a:stCxn id="73" idx="2"/>
                <a:endCxn id="72" idx="0"/>
              </p:cNvCxnSpPr>
              <p:nvPr/>
            </p:nvCxnSpPr>
            <p:spPr>
              <a:xfrm>
                <a:off x="7099200" y="5374440"/>
                <a:ext cx="720" cy="442440"/>
              </a:xfrm>
              <a:prstGeom prst="straightConnector1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77" name=""/>
              <p:cNvCxnSpPr>
                <a:stCxn id="72" idx="1"/>
                <a:endCxn id="46" idx="6"/>
              </p:cNvCxnSpPr>
              <p:nvPr/>
            </p:nvCxnSpPr>
            <p:spPr>
              <a:xfrm flipH="1">
                <a:off x="4775040" y="5994360"/>
                <a:ext cx="1575360" cy="720"/>
              </a:xfrm>
              <a:prstGeom prst="straightConnector1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72" idx="3"/>
              <a:endCxn id="47" idx="6"/>
            </p:cNvCxnSpPr>
            <p:nvPr/>
          </p:nvCxnSpPr>
          <p:spPr>
            <a:xfrm flipH="1" flipV="1">
              <a:off x="7613640" y="3892680"/>
              <a:ext cx="235440" cy="2102040"/>
            </a:xfrm>
            <a:prstGeom prst="bentConnector3">
              <a:avLst>
                <a:gd name="adj1" fmla="val -96477"/>
              </a:avLst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ntrol State ASM for SpecC pipe st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. Mueller and R. Doemer and A. Gerstlauer: The Formal Execution Semantics of Spec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: TR ICS-01-59 of University of California at Irvine, November 30,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Chapter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ntrol State ASM for SpecC pipe st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6:04Z</dcterms:modified>
  <cp:revision>716</cp:revision>
  <dc:subject>The ASM Method</dc:subject>
  <dc:title>The ASM Method</dc:title>
</cp:coreProperties>
</file>