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831-FE35-442B-B955-1AFB1F3C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E1F-E7C4-4428-985B-A3E27C83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F17-EDB1-46A0-B57A-FEB9DC65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1A4-65C7-4FF5-BE56-60B71639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910-2A10-4AAE-8494-F33B4C09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6D9-C25B-444A-A182-6B374F8E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D85-5311-406E-87A7-B0879C1E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DCB-4731-4638-B09D-512FE35F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46E-F86A-46A0-8BA1-FB26517A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74B-FFCD-4F00-AD18-BDF8670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44D-A7FF-4D95-A4D4-1502092F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822-9384-493D-B19A-82FD4CC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7103-9BFF-435F-8494-1877DE947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Exercise: ASMs with Stack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0840" y="723960"/>
            <a:ext cx="396252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sing static concate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(Elem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ck:= Elem.stack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tack = Elem.q   then stack:=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se errormsg:=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673200"/>
            <a:ext cx="4762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ing dynamic head,nex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DD(Elem) =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let pos = new(POS)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ext(pos):= he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ad:= 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tack(pos):= 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MOVE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f head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n head:= next(h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se errormsg:=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40280"/>
            <a:ext cx="9144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ve: M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orrectly refines M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corresponding” runs have “equiv” stack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1.e2. … en  ~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ck(head)=e1, …, stack(next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head))=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execs of ADD resp. REMOVE ops correspond to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ta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317-FA6C-4013-A025-C2E3D12B99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7T15:17:03Z</dcterms:modified>
  <cp:revision>706</cp:revision>
  <dc:subject/>
  <dc:title>ASM model for stack</dc:title>
</cp:coreProperties>
</file>