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F53F-1CC9-42E8-A4BF-712821AA9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3327-C61F-43FF-8231-EDAF3B3B1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C889-FEA4-4929-8409-3929E6512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F02B-95DB-4CE4-B2D9-80AA35A77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B609-BDFD-4106-A1AE-DAD5AC3CC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C0BA-C427-4682-A5A8-CE4E22D4C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7A09-19C9-4AEB-B02A-DB109B3A8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BD53-51C7-4A68-884E-FA204B4C4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1887-3DC8-416E-A822-E4BE1EFB5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2E1A-CEB6-49AD-8E0F-95AC5909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39F0-974E-47AA-A96B-1D4ECB62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FA59-CD3B-4425-899B-504F4A8A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239F3-99FE-40A4-8BC1-7BF1211EFB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ITCH (  (cond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, ctl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) 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1468440"/>
            <a:ext cx="8991720" cy="1287360"/>
            <a:chOff x="0" y="1468440"/>
            <a:chExt cx="8991720" cy="1287360"/>
          </a:xfrm>
        </p:grpSpPr>
        <p:grpSp>
          <p:nvGrpSpPr>
            <p:cNvPr id="43" name=""/>
            <p:cNvGrpSpPr/>
            <p:nvPr/>
          </p:nvGrpSpPr>
          <p:grpSpPr>
            <a:xfrm>
              <a:off x="0" y="1504800"/>
              <a:ext cx="8991720" cy="1251000"/>
              <a:chOff x="0" y="1504800"/>
              <a:chExt cx="8991720" cy="1251000"/>
            </a:xfrm>
          </p:grpSpPr>
          <p:sp>
            <p:nvSpPr>
              <p:cNvPr id="44" name=""/>
              <p:cNvSpPr/>
              <p:nvPr/>
            </p:nvSpPr>
            <p:spPr>
              <a:xfrm>
                <a:off x="0" y="1504800"/>
                <a:ext cx="914400" cy="77472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ctl</a:t>
                </a:r>
                <a:r>
                  <a:rPr b="1" lang="it-IT" sz="20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1257480" y="1714680"/>
                <a:ext cx="1498320" cy="355320"/>
              </a:xfrm>
              <a:prstGeom prst="hexagon">
                <a:avLst>
                  <a:gd name="adj" fmla="val 105420"/>
                  <a:gd name="vf" fmla="val 115470"/>
                </a:avLst>
              </a:prstGeom>
              <a:solidFill>
                <a:srgbClr val="f2ca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ond</a:t>
                </a:r>
                <a:r>
                  <a:rPr b="1" lang="it-IT" sz="2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3124080" y="1504800"/>
                <a:ext cx="914400" cy="77472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ctl</a:t>
                </a:r>
                <a:r>
                  <a:rPr b="1" lang="it-IT" sz="2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077320" y="1504800"/>
                <a:ext cx="914400" cy="77472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ctl</a:t>
                </a:r>
                <a:r>
                  <a:rPr b="1" lang="it-IT" sz="2000" spc="-1" strike="noStrike" baseline="-25000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235560" y="1701720"/>
                <a:ext cx="1498680" cy="355680"/>
              </a:xfrm>
              <a:prstGeom prst="hexagon">
                <a:avLst>
                  <a:gd name="adj" fmla="val 105339"/>
                  <a:gd name="vf" fmla="val 115470"/>
                </a:avLst>
              </a:prstGeom>
              <a:solidFill>
                <a:srgbClr val="f2ca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ond</a:t>
                </a:r>
                <a:r>
                  <a:rPr b="1" lang="it-IT" sz="2000" spc="-1" strike="noStrike" baseline="-25000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273720" y="2400480"/>
                <a:ext cx="1498680" cy="355320"/>
              </a:xfrm>
              <a:prstGeom prst="hexagon">
                <a:avLst>
                  <a:gd name="adj" fmla="val 105446"/>
                  <a:gd name="vf" fmla="val 115470"/>
                </a:avLst>
              </a:prstGeom>
              <a:solidFill>
                <a:srgbClr val="f2ca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ond</a:t>
                </a:r>
                <a:r>
                  <a:rPr b="1" lang="it-IT" sz="20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50" name=""/>
              <p:cNvCxnSpPr>
                <a:stCxn id="44" idx="6"/>
                <a:endCxn id="45" idx="1"/>
              </p:cNvCxnSpPr>
              <p:nvPr/>
            </p:nvCxnSpPr>
            <p:spPr>
              <a:xfrm>
                <a:off x="914400" y="1892160"/>
                <a:ext cx="343440" cy="720"/>
              </a:xfrm>
              <a:prstGeom prst="straightConnector1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</p:cxnSp>
          <p:cxnSp>
            <p:nvCxnSpPr>
              <p:cNvPr id="51" name=""/>
              <p:cNvCxnSpPr>
                <a:stCxn id="45" idx="3"/>
                <a:endCxn id="46" idx="2"/>
              </p:cNvCxnSpPr>
              <p:nvPr/>
            </p:nvCxnSpPr>
            <p:spPr>
              <a:xfrm flipV="1">
                <a:off x="2755800" y="1892160"/>
                <a:ext cx="368640" cy="720"/>
              </a:xfrm>
              <a:prstGeom prst="straightConnector1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</p:cxnSp>
          <p:cxnSp>
            <p:nvCxnSpPr>
              <p:cNvPr id="52" name=""/>
              <p:cNvCxnSpPr>
                <a:stCxn id="47" idx="4"/>
                <a:endCxn id="49" idx="3"/>
              </p:cNvCxnSpPr>
              <p:nvPr/>
            </p:nvCxnSpPr>
            <p:spPr>
              <a:xfrm rot="5400000">
                <a:off x="8003880" y="2048040"/>
                <a:ext cx="299160" cy="762480"/>
              </a:xfrm>
              <a:prstGeom prst="bentConnector2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</p:cxnSp>
          <p:cxnSp>
            <p:nvCxnSpPr>
              <p:cNvPr id="53" name=""/>
              <p:cNvCxnSpPr>
                <a:stCxn id="49" idx="1"/>
                <a:endCxn id="44" idx="4"/>
              </p:cNvCxnSpPr>
              <p:nvPr/>
            </p:nvCxnSpPr>
            <p:spPr>
              <a:xfrm rot="10800000">
                <a:off x="456840" y="2279520"/>
                <a:ext cx="5816880" cy="299160"/>
              </a:xfrm>
              <a:prstGeom prst="bentConnector2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</p:cxnSp>
        </p:grpSp>
        <p:grpSp>
          <p:nvGrpSpPr>
            <p:cNvPr id="54" name=""/>
            <p:cNvGrpSpPr/>
            <p:nvPr/>
          </p:nvGrpSpPr>
          <p:grpSpPr>
            <a:xfrm>
              <a:off x="4788000" y="1468440"/>
              <a:ext cx="3314520" cy="642600"/>
              <a:chOff x="4788000" y="1468440"/>
              <a:chExt cx="3314520" cy="642600"/>
            </a:xfrm>
          </p:grpSpPr>
          <p:sp>
            <p:nvSpPr>
              <p:cNvPr id="55" name=""/>
              <p:cNvSpPr/>
              <p:nvPr/>
            </p:nvSpPr>
            <p:spPr>
              <a:xfrm>
                <a:off x="7721640" y="1879560"/>
                <a:ext cx="38088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788000" y="1468440"/>
                <a:ext cx="774720" cy="6426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3600" spc="-1" strike="noStrike">
                    <a:solidFill>
                      <a:srgbClr val="ffff00"/>
                    </a:solidFill>
                    <a:latin typeface="Arial"/>
                  </a:rPr>
                  <a:t>...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0" y="3919680"/>
            <a:ext cx="7378200" cy="2506680"/>
            <a:chOff x="0" y="3919680"/>
            <a:chExt cx="7378200" cy="2506680"/>
          </a:xfrm>
        </p:grpSpPr>
        <p:sp>
          <p:nvSpPr>
            <p:cNvPr id="58" name=""/>
            <p:cNvSpPr/>
            <p:nvPr/>
          </p:nvSpPr>
          <p:spPr>
            <a:xfrm>
              <a:off x="0" y="3919680"/>
              <a:ext cx="65912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Case i=0,1:     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FlipFlop  =  Switch((high,1),(low,0)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1905120" y="4902120"/>
              <a:ext cx="5473080" cy="1524240"/>
              <a:chOff x="1905120" y="4902120"/>
              <a:chExt cx="5473080" cy="1524240"/>
            </a:xfrm>
          </p:grpSpPr>
          <p:sp>
            <p:nvSpPr>
              <p:cNvPr id="60" name=""/>
              <p:cNvSpPr/>
              <p:nvPr/>
            </p:nvSpPr>
            <p:spPr>
              <a:xfrm>
                <a:off x="1905120" y="5226120"/>
                <a:ext cx="914040" cy="77472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898800" y="4902120"/>
                <a:ext cx="1497960" cy="355680"/>
              </a:xfrm>
              <a:prstGeom prst="hexagon">
                <a:avLst>
                  <a:gd name="adj" fmla="val 105288"/>
                  <a:gd name="vf" fmla="val 115470"/>
                </a:avLst>
              </a:prstGeom>
              <a:solidFill>
                <a:srgbClr val="f2ca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high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6464160" y="5226120"/>
                <a:ext cx="914040" cy="77472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898800" y="6070680"/>
                <a:ext cx="1497960" cy="355680"/>
              </a:xfrm>
              <a:prstGeom prst="hexagon">
                <a:avLst>
                  <a:gd name="adj" fmla="val 105288"/>
                  <a:gd name="vf" fmla="val 115470"/>
                </a:avLst>
              </a:prstGeom>
              <a:solidFill>
                <a:srgbClr val="f2ca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ow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4" name=""/>
              <p:cNvCxnSpPr>
                <a:stCxn id="60" idx="0"/>
                <a:endCxn id="61" idx="1"/>
              </p:cNvCxnSpPr>
              <p:nvPr/>
            </p:nvCxnSpPr>
            <p:spPr>
              <a:xfrm flipH="1" flipV="1" rot="5400000">
                <a:off x="3057480" y="4384800"/>
                <a:ext cx="146520" cy="1536840"/>
              </a:xfrm>
              <a:prstGeom prst="bentConnector4">
                <a:avLst>
                  <a:gd name="adj1" fmla="val 155172"/>
                  <a:gd name="adj2" fmla="val 64854"/>
                </a:avLst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</p:cxnSp>
          <p:cxnSp>
            <p:nvCxnSpPr>
              <p:cNvPr id="65" name=""/>
              <p:cNvCxnSpPr>
                <a:stCxn id="61" idx="3"/>
                <a:endCxn id="62" idx="0"/>
              </p:cNvCxnSpPr>
              <p:nvPr/>
            </p:nvCxnSpPr>
            <p:spPr>
              <a:xfrm>
                <a:off x="5396760" y="5079960"/>
                <a:ext cx="1524960" cy="146520"/>
              </a:xfrm>
              <a:prstGeom prst="bentConnector4">
                <a:avLst>
                  <a:gd name="adj1" fmla="val 34994"/>
                  <a:gd name="adj2" fmla="val -55172"/>
                </a:avLst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</p:cxnSp>
          <p:cxnSp>
            <p:nvCxnSpPr>
              <p:cNvPr id="66" name=""/>
              <p:cNvCxnSpPr>
                <a:stCxn id="62" idx="4"/>
                <a:endCxn id="63" idx="3"/>
              </p:cNvCxnSpPr>
              <p:nvPr/>
            </p:nvCxnSpPr>
            <p:spPr>
              <a:xfrm rot="5400000">
                <a:off x="6035040" y="5362560"/>
                <a:ext cx="248040" cy="1524960"/>
              </a:xfrm>
              <a:prstGeom prst="bentConnector2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</p:cxnSp>
          <p:cxnSp>
            <p:nvCxnSpPr>
              <p:cNvPr id="67" name=""/>
              <p:cNvCxnSpPr>
                <a:stCxn id="63" idx="1"/>
                <a:endCxn id="60" idx="4"/>
              </p:cNvCxnSpPr>
              <p:nvPr/>
            </p:nvCxnSpPr>
            <p:spPr>
              <a:xfrm rot="10800000">
                <a:off x="2362320" y="6000840"/>
                <a:ext cx="1536840" cy="248040"/>
              </a:xfrm>
              <a:prstGeom prst="bentConnector2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ntrol State ASM SWIT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C34C-3D31-4181-B51C-8D899F3FE78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2-08-07T16:38:18Z</dcterms:modified>
  <cp:revision>713</cp:revision>
  <dc:subject>The ASM Method</dc:subject>
  <dc:title>The ASM Method</dc:title>
</cp:coreProperties>
</file>