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728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F8C08D4-B020-479F-B4AE-3828DD578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"par") doesn't contradict ASMs being sequ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"par") doesn't contradict ASMs being sequ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0484-16DD-4490-BD3B-0CD35712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CA23-B126-4134-9E72-BDDD00F9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B08A-BDBB-4203-B918-EACA70E9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47F0-067B-498C-914F-3C851744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846-2246-444C-ACD4-92F0B74E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C0B-ECDA-4488-BBB5-910D26D7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410-F492-4B61-A861-18E4092B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E58F-0808-4337-810D-5CDF380B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096F-9968-4C19-B5D2-029568B1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FE7-5989-4F56-80A9-EEF90D96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44F-B3A0-45BB-A534-29AEC516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B503-D631-4EDA-B3C1-920A6F4C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C28D-709F-4E5F-8253-1AE6661FB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ring Machine AS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51440" y="1925640"/>
            <a:ext cx="298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44600" y="1447920"/>
            <a:ext cx="33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ction (q1,a)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q2,b,-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257800" y="2362320"/>
            <a:ext cx="2743200" cy="1143000"/>
            <a:chOff x="5257800" y="2362320"/>
            <a:chExt cx="2743200" cy="1143000"/>
          </a:xfrm>
        </p:grpSpPr>
        <p:sp>
          <p:nvSpPr>
            <p:cNvPr id="52" name=""/>
            <p:cNvSpPr/>
            <p:nvPr/>
          </p:nvSpPr>
          <p:spPr>
            <a:xfrm>
              <a:off x="59436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08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6748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5780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0" y="31240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q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7" idx="0"/>
              <a:endCxn id="54" idx="2"/>
            </p:cNvCxnSpPr>
            <p:nvPr/>
          </p:nvCxnSpPr>
          <p:spPr>
            <a:xfrm flipV="1">
              <a:off x="7086600" y="2743200"/>
              <a:ext cx="360" cy="381240"/>
            </a:xfrm>
            <a:prstGeom prst="straightConnector1">
              <a:avLst/>
            </a:prstGeom>
            <a:ln w="5076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59" name=""/>
          <p:cNvGrpSpPr/>
          <p:nvPr/>
        </p:nvGrpSpPr>
        <p:grpSpPr>
          <a:xfrm>
            <a:off x="5334120" y="4724280"/>
            <a:ext cx="2743200" cy="1143000"/>
            <a:chOff x="5334120" y="4724280"/>
            <a:chExt cx="2743200" cy="1143000"/>
          </a:xfrm>
        </p:grpSpPr>
        <p:sp>
          <p:nvSpPr>
            <p:cNvPr id="60" name=""/>
            <p:cNvSpPr/>
            <p:nvPr/>
          </p:nvSpPr>
          <p:spPr>
            <a:xfrm>
              <a:off x="6019920" y="4724280"/>
              <a:ext cx="45720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77120" y="4724280"/>
              <a:ext cx="45720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34320" y="4724280"/>
              <a:ext cx="45720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43800" y="487692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4120" y="4876920"/>
              <a:ext cx="53316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7120" y="5486400"/>
              <a:ext cx="4572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q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6" name=""/>
            <p:cNvCxnSpPr>
              <a:stCxn id="65" idx="0"/>
              <a:endCxn id="61" idx="2"/>
            </p:cNvCxnSpPr>
            <p:nvPr/>
          </p:nvCxnSpPr>
          <p:spPr>
            <a:xfrm flipV="1">
              <a:off x="6705720" y="5105520"/>
              <a:ext cx="360" cy="381240"/>
            </a:xfrm>
            <a:prstGeom prst="straightConnector1">
              <a:avLst/>
            </a:prstGeom>
            <a:ln w="5076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67" name=""/>
          <p:cNvSpPr/>
          <p:nvPr/>
        </p:nvSpPr>
        <p:spPr>
          <a:xfrm>
            <a:off x="66294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1280" y="1079280"/>
            <a:ext cx="803916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 with q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Bl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 with +1 and –1,0,1,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In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.e. Blan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: Q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-1,0,1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s three funs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gram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 :=    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q,T(h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(h):=  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q,T(h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 := h +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q,T(h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AA2-0278-4167-93DA-DE144A14DA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fining Turing Machine ASM to FS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079960" cy="25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M progra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q      := F</a:t>
            </a:r>
            <a:r>
              <a:rPr b="1" lang="en-US" sz="28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(q,T(h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(h)   := F</a:t>
            </a:r>
            <a:r>
              <a:rPr b="1" lang="en-US" sz="28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(q,T(h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 :=  h + 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q,T(h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51440" y="1925640"/>
            <a:ext cx="298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89200" y="1422360"/>
            <a:ext cx="33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ction (q1,a)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q2,b,-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257800" y="2362320"/>
            <a:ext cx="2743200" cy="1143000"/>
            <a:chOff x="5257800" y="2362320"/>
            <a:chExt cx="2743200" cy="1143000"/>
          </a:xfrm>
        </p:grpSpPr>
        <p:sp>
          <p:nvSpPr>
            <p:cNvPr id="74" name=""/>
            <p:cNvSpPr/>
            <p:nvPr/>
          </p:nvSpPr>
          <p:spPr>
            <a:xfrm>
              <a:off x="59436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008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6748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5780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0" y="31240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q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0"/>
              <a:endCxn id="76" idx="2"/>
            </p:cNvCxnSpPr>
            <p:nvPr/>
          </p:nvCxnSpPr>
          <p:spPr>
            <a:xfrm flipV="1">
              <a:off x="7086240" y="2742840"/>
              <a:ext cx="1080" cy="381600"/>
            </a:xfrm>
            <a:prstGeom prst="straightConnector1">
              <a:avLst/>
            </a:prstGeom>
            <a:ln w="5076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81" name=""/>
          <p:cNvSpPr/>
          <p:nvPr/>
        </p:nvSpPr>
        <p:spPr>
          <a:xfrm>
            <a:off x="66294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5680" y="3162240"/>
            <a:ext cx="100332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334120" y="3733920"/>
            <a:ext cx="3809880" cy="2133360"/>
            <a:chOff x="5334120" y="3733920"/>
            <a:chExt cx="3809880" cy="2133360"/>
          </a:xfrm>
        </p:grpSpPr>
        <p:grpSp>
          <p:nvGrpSpPr>
            <p:cNvPr id="84" name=""/>
            <p:cNvGrpSpPr/>
            <p:nvPr/>
          </p:nvGrpSpPr>
          <p:grpSpPr>
            <a:xfrm>
              <a:off x="5334120" y="4724280"/>
              <a:ext cx="2743200" cy="1143000"/>
              <a:chOff x="5334120" y="4724280"/>
              <a:chExt cx="2743200" cy="1143000"/>
            </a:xfrm>
          </p:grpSpPr>
          <p:sp>
            <p:nvSpPr>
              <p:cNvPr id="85" name=""/>
              <p:cNvSpPr/>
              <p:nvPr/>
            </p:nvSpPr>
            <p:spPr>
              <a:xfrm>
                <a:off x="6019920" y="4724280"/>
                <a:ext cx="45720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477120" y="4724280"/>
                <a:ext cx="45720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34320" y="4724280"/>
                <a:ext cx="45720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543800" y="4876920"/>
                <a:ext cx="5335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34120" y="4876920"/>
                <a:ext cx="53316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77120" y="5486400"/>
                <a:ext cx="45720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q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1" name=""/>
              <p:cNvCxnSpPr>
                <a:stCxn id="90" idx="0"/>
                <a:endCxn id="86" idx="2"/>
              </p:cNvCxnSpPr>
              <p:nvPr/>
            </p:nvCxnSpPr>
            <p:spPr>
              <a:xfrm flipV="1">
                <a:off x="6705360" y="5105160"/>
                <a:ext cx="1080" cy="381600"/>
              </a:xfrm>
              <a:prstGeom prst="straightConnector1">
                <a:avLst/>
              </a:prstGeom>
              <a:ln w="50760">
                <a:solidFill>
                  <a:srgbClr val="ccecff"/>
                </a:solidFill>
                <a:miter/>
                <a:tailEnd len="med" type="triangle" w="med"/>
              </a:ln>
            </p:spPr>
          </p:cxnSp>
        </p:grpSp>
        <p:sp>
          <p:nvSpPr>
            <p:cNvPr id="92" name=""/>
            <p:cNvSpPr/>
            <p:nvPr/>
          </p:nvSpPr>
          <p:spPr>
            <a:xfrm>
              <a:off x="7238880" y="3733920"/>
              <a:ext cx="1905120" cy="825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66"/>
                  </a:solidFill>
                  <a:latin typeface="Courier New"/>
                </a:rPr>
                <a:t>output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66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ff9966"/>
                  </a:solidFill>
                  <a:latin typeface="Courier New"/>
                </a:rPr>
                <a:t>:= 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-260640" y="91440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Franklin Gothic Book"/>
              </a:rPr>
              <a:t>Writing only as 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2640" y="4844880"/>
            <a:ext cx="4386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one-way/two-way FSM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epending on wheth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besides +1 also –1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llowed in instru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C8B-2DE9-4391-B9A6-7C24B40CDA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tending Turing Machine to Alternating T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7160" y="926640"/>
            <a:ext cx="839484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ernating TMs 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cussed to either accept or rejec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initial ta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mitted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invoke TM-subcomputation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explor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ther some or all 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subcomputation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ept or reject their 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norm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ecution states with program TM(Nxtctl,Write,Move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:= Nxtctl(control, tape(head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e(head) := Write(control, tape(head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:= head + Move(control, tape(head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riched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states which 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simply accept or re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existential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states which accept/reject in case some/every subcomputation accepts/rej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univers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ntrol states which accept/reject in case every/some subcomputation accepts/rej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4FD9-4BEC-411B-994F-ED4C6CF4D6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ternating Turing automata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022560"/>
            <a:ext cx="8991720" cy="350748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lternatingTm(Nxtctl,Write,Mov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ype(SELF.ctlstate)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M(Nxtctl,Write,Move)(SEL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ype(SELF.ctlstate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istential,univers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TmSpawn(SEL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mYieldExistential(SEL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mYieldUniversal(SELF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ype(SELF.ctlstate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pt,re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eld(SELF):= type(SELF.ctlstat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47640"/>
            <a:ext cx="8991720" cy="22885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 an existential or universal control state subcomputations are created to be run (AltTmSpawn),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king computation becomes idle to observe whether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eld of the subcomputations switches 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f to either accept or reject and to def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s own yield corresponding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02C0-F84A-4F9D-AEF2-E932A21BC1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ternating Turing automata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3040" y="609480"/>
            <a:ext cx="8775720" cy="277596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TmSpawn(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=     IF a.mode = running 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j_1,…,j_k = Nxtctl(a.ctlstate, a.tape(a.head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a_1,…,a_k = new(Agen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1,…, k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ate(a_i,a,j_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nt(a_i)   := 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mode := idl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581280"/>
            <a:ext cx="9144000" cy="2836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ate(b,a,j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SubComp(b,a,j),   b.mode := running,   b.yield:=unde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rtSubComp(b,a,j)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ctlstate:=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head:=a.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po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main(a.tape) 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tape(pos):=a.tape(pos)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34C9-64B0-492E-92A9-C6D98415BF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ternating Turing automata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7840" y="1003320"/>
            <a:ext cx="8775720" cy="241020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mYieldExistential(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=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.mode = idle AND type(a.ctlstate) = existential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forall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   yield(c)=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re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 yield(a) :=  reje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xists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yield(c)=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accept</a:t>
            </a:r>
            <a:r>
              <a:rPr b="1" lang="en-US" sz="2400" spc="-1" strike="noStrike">
                <a:solidFill>
                  <a:srgbClr val="66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yield(a) := accept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7840" y="3886200"/>
            <a:ext cx="8775720" cy="241020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mYieldUniversal(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=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.mode = idle AND type(a.ctlstate) = universal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forall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   yield(c)=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ac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 yield(a) :=  ac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xists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yield(c)=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yield(a) := reje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42DA-84CE-438E-AA06-61FFCDF2D2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. Börger, R. Stärk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er-Verlag  2003, Chapter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C17-85DD-48DE-AFAC-329DEEE581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6:30Z</dcterms:modified>
  <cp:revision>713</cp:revision>
  <dc:subject/>
  <dc:title>ASM for Turing machines</dc:title>
</cp:coreProperties>
</file>