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82B-7499-4DE5-9248-6E1D2423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620-87FC-4472-84B9-4912C0DD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FE2-3217-4790-9839-BB466CCA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9BE-9FDD-48B4-87D9-11926CBF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A6D-8D6A-420B-99BC-E0BA82EC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AEE-894F-4E4E-9865-8E346985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597-D5DC-48CC-B0D9-CA3E2BB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5A7-4997-47AB-B805-E436A0A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2C0-EB03-4307-86F8-6A91E8C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59D-E28D-4AEC-AF1C-67B9199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E21-5B5E-443E-8B9C-F56D976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407-8FFC-4543-9999-A7DBDE60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D1E9-50A4-4052-BB0A-F318C3B2F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hyperlink" Target="http://www.inf.ethz.ch/~jbook" TargetMode="External"/><Relationship Id="rId3" Type="http://schemas.openxmlformats.org/officeDocument/2006/relationships/hyperlink" Target="http://www.inf.ethz.ch/~jbook" TargetMode="External"/><Relationship Id="rId4" Type="http://schemas.openxmlformats.org/officeDocument/2006/relationships/hyperlink" Target="http://www.inf.ethz.ch/~jbook" TargetMode="External"/><Relationship Id="rId5" Type="http://schemas.openxmlformats.org/officeDocument/2006/relationships/hyperlink" Target="http://www.inf.ethz.ch/~jbook" TargetMode="External"/><Relationship Id="rId6" Type="http://schemas.openxmlformats.org/officeDocument/2006/relationships/hyperlink" Target="http://www.inf.ethz.ch/~jbook" TargetMode="External"/><Relationship Id="rId7" Type="http://schemas.openxmlformats.org/officeDocument/2006/relationships/hyperlink" Target="http://www.inf.ethz.ch/~jbook" TargetMode="External"/><Relationship Id="rId8" Type="http://schemas.openxmlformats.org/officeDocument/2006/relationships/hyperlink" Target="http://www.inf.ethz.ch/~jboo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An Abstract Component Mo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53656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98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0400"/>
            <a:ext cx="8953560" cy="1310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for each component of a component structure S its connectors and constrai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the connectors to connect import services to export services with matching signature and specifi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the constraints of all used components (those from where services are imported to execute a service exported by the component) to meet the related use stru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082960"/>
            <a:ext cx="2845080" cy="4584600"/>
            <a:chOff x="3124080" y="2082960"/>
            <a:chExt cx="2845080" cy="4584600"/>
          </a:xfrm>
        </p:grpSpPr>
        <p:sp>
          <p:nvSpPr>
            <p:cNvPr id="72" name=""/>
            <p:cNvSpPr/>
            <p:nvPr/>
          </p:nvSpPr>
          <p:spPr>
            <a:xfrm>
              <a:off x="3124080" y="2292480"/>
              <a:ext cx="28450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c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NENT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70520" y="4865760"/>
              <a:ext cx="950760" cy="733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1280" y="2965320"/>
              <a:ext cx="85068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22840" y="40464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Conn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pec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840" y="58626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4" idx="0"/>
            </p:cNvCxnSpPr>
            <p:nvPr/>
          </p:nvCxnSpPr>
          <p:spPr>
            <a:xfrm>
              <a:off x="4546080" y="265860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4"/>
              <a:endCxn id="75" idx="0"/>
            </p:cNvCxnSpPr>
            <p:nvPr/>
          </p:nvCxnSpPr>
          <p:spPr>
            <a:xfrm>
              <a:off x="4546080" y="373968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5" idx="2"/>
              <a:endCxn id="73" idx="0"/>
            </p:cNvCxnSpPr>
            <p:nvPr/>
          </p:nvCxnSpPr>
          <p:spPr>
            <a:xfrm>
              <a:off x="4546080" y="4564080"/>
              <a:ext cx="1080" cy="3024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3" idx="4"/>
              <a:endCxn id="76" idx="0"/>
            </p:cNvCxnSpPr>
            <p:nvPr/>
          </p:nvCxnSpPr>
          <p:spPr>
            <a:xfrm>
              <a:off x="4546080" y="5599080"/>
              <a:ext cx="1080" cy="264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4546440" y="63626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6440" y="2082960"/>
              <a:ext cx="0" cy="203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FF9-5964-4F0E-96C2-3236D4D1F3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18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 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 ) = undef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ImpServiceNotConnecte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let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(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) is define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quivSignature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nnector (s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no signature ma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all v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ew:  if SatisfiesSpec(v, Provid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,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Requir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-in-connect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 spec matc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nectSpec 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ecking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onnectors connect every import service to an export service with matching signature &amp; spec (for every view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77960"/>
            <a:ext cx="9144000" cy="6080760"/>
            <a:chOff x="0" y="777960"/>
            <a:chExt cx="9144000" cy="6080760"/>
          </a:xfrm>
        </p:grpSpPr>
        <p:sp>
          <p:nvSpPr>
            <p:cNvPr id="86" name=""/>
            <p:cNvSpPr/>
            <p:nvPr/>
          </p:nvSpPr>
          <p:spPr>
            <a:xfrm>
              <a:off x="0" y="5302080"/>
              <a:ext cx="5143680" cy="1556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quivSignatures(s,s’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|ServiceParam(s)| = |ServiceParam(s’)| &amp; 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))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’)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 = |ServiceParam(s)|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777960"/>
              <a:ext cx="380988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denotes equality of type an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32240" y="5351400"/>
            <a:ext cx="3911760" cy="1128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ServiceNotConnected(s)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for all s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SERV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Connector(s,s’) = un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error: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service s has no  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72D-5E21-4521-BBE7-615E142792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60080"/>
            <a:ext cx="9144000" cy="21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UsedCompon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MeetsConstraint(ImportStructure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Constraint(c’)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c’, component constraint is violated)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794120"/>
            <a:ext cx="9144000" cy="161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edComponents(s)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c|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inedServices(ImportStructure(s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cto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s defined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xports(c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0120"/>
            <a:ext cx="914400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ing for each exported service the constraints of all used compon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those from where services are imported to execute the exported servi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 meet the related use structure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699-AA16-4C66-804F-5569AFE2D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3720"/>
            <a:ext cx="4356000" cy="1037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TypeViewCompRefinement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,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Type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View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ComponentRefinement (R,S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5160" y="1079640"/>
            <a:ext cx="5867640" cy="4798800"/>
            <a:chOff x="3035160" y="1079640"/>
            <a:chExt cx="5867640" cy="4798800"/>
          </a:xfrm>
        </p:grpSpPr>
        <p:sp>
          <p:nvSpPr>
            <p:cNvPr id="96" name=""/>
            <p:cNvSpPr/>
            <p:nvPr/>
          </p:nvSpPr>
          <p:spPr>
            <a:xfrm>
              <a:off x="3035160" y="1327320"/>
              <a:ext cx="58676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,S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MP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uch that R-isRefinedBy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9920" y="2063880"/>
              <a:ext cx="978120" cy="863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4280" y="3170160"/>
              <a:ext cx="1409400" cy="64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Type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(R,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245200" y="4076640"/>
              <a:ext cx="1447560" cy="1801800"/>
              <a:chOff x="5245200" y="4076640"/>
              <a:chExt cx="1447560" cy="18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2520" y="4076640"/>
                <a:ext cx="950400" cy="733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onst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45200" y="5073480"/>
                <a:ext cx="1447560" cy="459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CheckConnec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finement(R,S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0" idx="4"/>
                <a:endCxn id="101" idx="0"/>
              </p:cNvCxnSpPr>
              <p:nvPr/>
            </p:nvCxnSpPr>
            <p:spPr>
              <a:xfrm>
                <a:off x="5968440" y="4809960"/>
                <a:ext cx="1080" cy="26424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03" name=""/>
              <p:cNvSpPr/>
              <p:nvPr/>
            </p:nvSpPr>
            <p:spPr>
              <a:xfrm>
                <a:off x="5968800" y="5573520"/>
                <a:ext cx="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969160" y="1079640"/>
              <a:ext cx="0" cy="253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>
              <a:off x="5968800" y="1724040"/>
              <a:ext cx="1080" cy="340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4"/>
              <a:endCxn id="98" idx="0"/>
            </p:cNvCxnSpPr>
            <p:nvPr/>
          </p:nvCxnSpPr>
          <p:spPr>
            <a:xfrm>
              <a:off x="5968800" y="2927520"/>
              <a:ext cx="1080" cy="243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2"/>
              <a:endCxn id="100" idx="0"/>
            </p:cNvCxnSpPr>
            <p:nvPr/>
          </p:nvCxnSpPr>
          <p:spPr>
            <a:xfrm>
              <a:off x="5968800" y="3809520"/>
              <a:ext cx="1080" cy="2671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B0A-935A-45FC-8DAC-08204E2D59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94040"/>
            <a:ext cx="9144000" cy="421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TypeRefinement 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 not Types(R)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ype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n set error-missing-type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ViewRefinement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If not Views(R)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View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then set error-missing-view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heckType/ViewRefin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,S)  Mach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11320"/>
            <a:ext cx="8953560" cy="33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that abstract types and views are subsets of the refined 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E25-781B-4237-99E2-B233E992FE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mponent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31640"/>
            <a:ext cx="899172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.t.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Imports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3600" spc="-1" strike="noStrike" baseline="1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then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onent-refined(R,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:=(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If   for some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R)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re is no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.t.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=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n output error-in-comp-refinement (R,S,                                             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B. Each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admits at most on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with same component name, by well-formedness and assumption o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onentNam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as injective 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and with range disjoint from connector n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07040" y="4424400"/>
            <a:ext cx="31748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onent m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efined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0320" y="2951280"/>
            <a:ext cx="6642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 &amp; refined components must have identical exp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2560" y="2100240"/>
            <a:ext cx="5587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omponent with import services cannot be ref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0"/>
            <a:ext cx="12952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FDB-B8C6-4E71-B4F3-A1467C70B8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8966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Equivalence of Components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66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6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ex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ff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traint(c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straint(c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,c’ have the same number of ex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 ar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com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f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/im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     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&amp; wrt import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ave the same Import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port services of c,c’ with same name a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9AC-77FB-44DD-B0A2-EFCE52755B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Service Equival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36560"/>
            <a:ext cx="91440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service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i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s, s’ have the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equivSignatures(s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r each view v: Provided/RequiredSpec(v,s)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v  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	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rovided/RequiredSpec(v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DC4-FC35-41EC-A69F-3B35C836C3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of connectors: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: For each connector cn in R,  either c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 or there is a component cni that refines the connector in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n in R is refined by cni in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 and cni have the same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exports a service that matches the im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imports a service that matches the ex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l. connector C {A::s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[ ]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::s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nects import service s2 of B to export service s1 of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valid refinement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{A::s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C::s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 {C::s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B::s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ith component C in S offering export service s2 to B and import service s1 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086-DCA9-428B-90D8-A7D29FE664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s.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= 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is comp-refined by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                                   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both or none o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abstract   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AbstractCONNECTOR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if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onnector-refinement-ok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ConnectorRefinement(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heckConnectorRefinement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nly abstract connectors refin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5797440"/>
            <a:ext cx="31878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is comp-refined by c’ if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-refined(R,S,c)=(S,c’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83320"/>
            <a:ext cx="5918040" cy="87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ff both have same es-nam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 is comp-refined by 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6A7-B69C-46A0-B169-2B4BB70D4C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1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167-4708-4D31-8BB3-E14153B545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89535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 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Component(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Im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there is n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-refinemen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porting a servic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with same name as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no service match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::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if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in a component of 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r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im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connected 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ab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ex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o which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refining connector miss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 connector-refinement-ok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76600"/>
            <a:ext cx="914400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nected to e iff Connector(i,e) or AbstractConnector(i,e) is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18680" y="5892840"/>
            <a:ext cx="2582640" cy="687960"/>
            <a:chOff x="1318680" y="5892840"/>
            <a:chExt cx="2582640" cy="687960"/>
          </a:xfrm>
        </p:grpSpPr>
        <p:sp>
          <p:nvSpPr>
            <p:cNvPr id="131" name=""/>
            <p:cNvSpPr/>
            <p:nvPr/>
          </p:nvSpPr>
          <p:spPr>
            <a:xfrm>
              <a:off x="2894760" y="6070680"/>
              <a:ext cx="1006560" cy="510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5892840"/>
              <a:ext cx="5889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5" idx="1"/>
            </p:cNvCxnSpPr>
            <p:nvPr/>
          </p:nvCxnSpPr>
          <p:spPr>
            <a:xfrm>
              <a:off x="1318680" y="6298920"/>
              <a:ext cx="1412280" cy="68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5447880"/>
            <a:ext cx="1296000" cy="1132920"/>
            <a:chOff x="0" y="5447880"/>
            <a:chExt cx="1296000" cy="1132920"/>
          </a:xfrm>
        </p:grpSpPr>
        <p:sp>
          <p:nvSpPr>
            <p:cNvPr id="134" name=""/>
            <p:cNvSpPr/>
            <p:nvPr/>
          </p:nvSpPr>
          <p:spPr>
            <a:xfrm>
              <a:off x="289440" y="6070680"/>
              <a:ext cx="100656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8" idx="2"/>
              <a:endCxn id="134" idx="0"/>
            </p:cNvCxnSpPr>
            <p:nvPr/>
          </p:nvCxnSpPr>
          <p:spPr>
            <a:xfrm>
              <a:off x="791640" y="5447880"/>
              <a:ext cx="2520" cy="6231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39800" y="6070680"/>
            <a:ext cx="1023480" cy="51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: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7200" y="4991040"/>
            <a:ext cx="8441280" cy="1602360"/>
            <a:chOff x="277200" y="4991040"/>
            <a:chExt cx="8441280" cy="1602360"/>
          </a:xfrm>
        </p:grpSpPr>
        <p:grpSp>
          <p:nvGrpSpPr>
            <p:cNvPr id="142" name=""/>
            <p:cNvGrpSpPr/>
            <p:nvPr/>
          </p:nvGrpSpPr>
          <p:grpSpPr>
            <a:xfrm>
              <a:off x="277200" y="4991040"/>
              <a:ext cx="8441280" cy="1602360"/>
              <a:chOff x="277200" y="4991040"/>
              <a:chExt cx="8441280" cy="16023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77200" y="4991040"/>
                <a:ext cx="8389800" cy="681840"/>
                <a:chOff x="277200" y="4991040"/>
                <a:chExt cx="8389800" cy="68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858440" y="4991040"/>
                  <a:ext cx="8085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7200" y="4991040"/>
                  <a:ext cx="10281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5" name=""/>
                <p:cNvCxnSpPr>
                  <a:stCxn id="138" idx="3"/>
                  <a:endCxn id="144" idx="1"/>
                </p:cNvCxnSpPr>
                <p:nvPr/>
              </p:nvCxnSpPr>
              <p:spPr>
                <a:xfrm>
                  <a:off x="1328400" y="5219280"/>
                  <a:ext cx="6507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4257720" y="5232240"/>
                  <a:ext cx="614160" cy="440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cn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886880" y="6083280"/>
                <a:ext cx="831600" cy="510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::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84920" y="5905440"/>
              <a:ext cx="6015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5" idx="3"/>
              <a:endCxn id="147" idx="1"/>
            </p:cNvCxnSpPr>
            <p:nvPr/>
          </p:nvCxnSpPr>
          <p:spPr>
            <a:xfrm>
              <a:off x="6413040" y="6305400"/>
              <a:ext cx="1474200" cy="7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30600" y="5423040"/>
            <a:ext cx="6413400" cy="1434960"/>
            <a:chOff x="2730600" y="5423040"/>
            <a:chExt cx="6413400" cy="1434960"/>
          </a:xfrm>
        </p:grpSpPr>
        <p:sp>
          <p:nvSpPr>
            <p:cNvPr id="135" name=""/>
            <p:cNvSpPr/>
            <p:nvPr/>
          </p:nvSpPr>
          <p:spPr>
            <a:xfrm>
              <a:off x="2730600" y="5753160"/>
              <a:ext cx="3682800" cy="1104840"/>
            </a:xfrm>
            <a:prstGeom prst="rect">
              <a:avLst/>
            </a:prstGeom>
            <a:noFill/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>
              <a:off x="8249760" y="5423040"/>
              <a:ext cx="2520" cy="622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842796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4565520" y="5629320"/>
              <a:ext cx="7200" cy="1245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F08-E8CF-4EDF-86C7-8B756A41D6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64880"/>
            <a:ext cx="80773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sequentialization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1200" y="748800"/>
            <a:ext cx="890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M defined above 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COMPONENT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(c) seq CheckConstrain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M defined ab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,S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SYSTEM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uch that R-isRefinedBy-S</a:t>
            </a:r>
            <a:r>
              <a:rPr b="1" lang="it-IT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TypeViewCompRefinement(R,S)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q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heckConnectorRefinement(R,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eq denotes the ASM sequentialization operator defined in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ger&amp;Schmid2000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A19-886F-4692-AD5E-A61D432F35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177840"/>
            <a:ext cx="80769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refining forall-machine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 the machine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an iterated control state ASM working in each iteration on one component only, but with an abstract scheduling for the iteration order. Prove the equival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t (A. Sünbül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rtation, Fig. 5.3): use iterated choose as shown be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840" y="2387520"/>
            <a:ext cx="8533800" cy="3122640"/>
            <a:chOff x="393840" y="2387520"/>
            <a:chExt cx="8533800" cy="3122640"/>
          </a:xfrm>
        </p:grpSpPr>
        <p:sp>
          <p:nvSpPr>
            <p:cNvPr id="159" name=""/>
            <p:cNvSpPr/>
            <p:nvPr/>
          </p:nvSpPr>
          <p:spPr>
            <a:xfrm>
              <a:off x="5416560" y="4751280"/>
              <a:ext cx="950400" cy="75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2880" y="2457360"/>
              <a:ext cx="1117080" cy="88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lec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8880" y="2387520"/>
              <a:ext cx="14472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lectCurr Compon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440" y="2482920"/>
              <a:ext cx="116820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2120" y="407196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nectSp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405144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 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0" idx="6"/>
              <a:endCxn id="162" idx="2"/>
            </p:cNvCxnSpPr>
            <p:nvPr/>
          </p:nvCxnSpPr>
          <p:spPr>
            <a:xfrm>
              <a:off x="3999960" y="2901600"/>
              <a:ext cx="375948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62" idx="4"/>
              <a:endCxn id="159" idx="7"/>
            </p:cNvCxnSpPr>
            <p:nvPr/>
          </p:nvCxnSpPr>
          <p:spPr>
            <a:xfrm flipH="1">
              <a:off x="6226920" y="3321000"/>
              <a:ext cx="2116440" cy="1542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9" idx="1"/>
              <a:endCxn id="160" idx="4"/>
            </p:cNvCxnSpPr>
            <p:nvPr/>
          </p:nvCxnSpPr>
          <p:spPr>
            <a:xfrm flipH="1" flipV="1">
              <a:off x="3440880" y="3345840"/>
              <a:ext cx="2115000" cy="1516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3"/>
            </p:cNvCxnSpPr>
            <p:nvPr/>
          </p:nvCxnSpPr>
          <p:spPr>
            <a:xfrm flipH="1">
              <a:off x="647280" y="3215880"/>
              <a:ext cx="2399040" cy="13438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72840" y="3619440"/>
              <a:ext cx="2250720" cy="609840"/>
            </a:xfrm>
            <a:prstGeom prst="hexagon">
              <a:avLst>
                <a:gd name="adj" fmla="val 9226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 component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ve been visi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840" y="2908440"/>
              <a:ext cx="250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5670720"/>
            <a:ext cx="8674200" cy="85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CurrComponent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oose 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ONENT(S) such that visited(c)=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urr - comp: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ited(c):= 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523-B191-48EE-AC39-041F360CED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n iterated control state ASM which works in each iteration step on one refinement pair and prove the refinement correctne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Define as in the preceding exercise a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CurrRefinementPa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followed by CheckTypeViewCompRefinement and CheckConnectorRefinement (see A. Sünbül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pg. 89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abstract 1-step machines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mponentRefin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orRefin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terated machines working in each iteration on one import service, export service, component, connector respectively, but with an abstract scheduling for the iteration order. Show the correctness of the refine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solution which uses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4, Fig.5.6, pg.91, pg.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326-4F27-4A5C-9475-40E007FD9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SMs to comput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UsedCompon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equivalence notion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equivSignatur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,s’) , an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and service equivalence notion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,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c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s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servic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’ specified abo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implementation using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2, 5.1, 5.8,  5.7, 5.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D34-BC73-42FC-9DC7-780124D7B3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4316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above described approach for abstract definitions of components, connectors, interface constraints, etc. to provide a  rigorous abstract model for real-life multi-platform middleware techniques for component composition (e.g. Corba) or for the component concept of a real-life component based programming system (e.g. JavaBeans)  or of your favorite glue-code providing scripting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2EE-2D0E-4B9D-B512-F77FEB894E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1200" y="571680"/>
            <a:ext cx="89028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ünbü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Architectural Design of Evolutionary Software Systems in Continuous Softwar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chnical University of Berlin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J. Schmi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Composition and Submachine Concepts for Sequential ASM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CSL’2000, LNCS 1862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. Stärk, J. Schmid, E. Börge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va and the Java Virtual Machine: Definition, Verification, Validatio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http://www.inf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ethz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ch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j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6E3-870F-42B1-AD25-11B8CDF4A8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 of abstract framework for component  composi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60912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oncep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with interfac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ending on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and import parameterized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usag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mposed and refined by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ne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del of log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B01-11FD-4865-B98A-001020AFC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nent Structur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840" y="952560"/>
            <a:ext cx="8966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omain of abstr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ped with appropria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abstract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EXPSERVICE)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services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IMPSERVICE)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 services im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RV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SERVIC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Pa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MODE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 parameter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of a service                                       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Res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“result” typ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E= {in,out,inout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ONENT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component to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which a service belo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587-BD15-4EB3-B56D-DF0E25DCD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n usage of component servi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012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tra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ressing allowed usages (e.g.application ordering) of the services which are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SESTRUC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pressing allowed usages of an exported service (in relation to other services imported - in the body of the exporting component - and possibly used to execute the exported service), to be met by the constraints of the components from where those imported services are impo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ContainedService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owerset(IMP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ielding the set of imported services which are contained in a given us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MeetsConstraint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TRAINT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B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ating whether the usage of imported services (in the body of a component) is consistent with the given constraints (typically of the components which export those servi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C97-F8A4-4B07-9913-001BB9F5A4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pec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related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Provid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VIE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equir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P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yielding the specification of a service under a given view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class SPEC of allowed interface descriptions is deliberately kept abstr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Satisfies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O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whether a given (expservice) specification “satisfies” a given (impservice) specifica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 that the service to be exported can safely be “plugged” into the component where to import i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atisfaction relation is deliberately kept abstract, it depends on the underlying class SPEC and on the logic adopted to describe the intended semantical relations between specific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209-7D81-42E8-A945-5251AD7C7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well-formedness assump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of connect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necting required (imported) services to expor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Connec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NECTO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mapping the service required by a component to an exported service of another compon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wo projection functions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bstractCONNECTOR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bstractConne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Abstract connectors are allowed not to obey the consistency conditions checked in the connector model below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xio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import service is connected to at most one exported service by either a connector or an abstract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: No export service uses in its body an import service to which it is linked by a connector-chain (non-cyclic conn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15E-F278-4DA6-B6DF-F4E4B311E8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ets of component structures S as described above which satisfy the above stated well-formedness assum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omponent system COMPSYSTEM, the sets and functions of each of its component structures S are parameterized by S, although notationally we suppress the parameter when it is clear from the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formedness component system assumption (axio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omponent/connector in a component system belongs to exactly one component structure of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67D-689F-401D-9529-8F46D8461E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7840" y="1193400"/>
            <a:ext cx="89661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nsistency n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 structures (correctness of connections and satisfaction of constrai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nement of component structures (correct refinement of types, views, components, connectors) belonging to componen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achine to che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se two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a given component system with a proposed refinement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sistency checks should  be implementable as stand-alone 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single component struc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refinement pair of two component structures of a component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-fold Goal: a consistency check for component structures and for component system refinemen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610160"/>
            <a:ext cx="8013600" cy="1836360"/>
            <a:chOff x="304920" y="4610160"/>
            <a:chExt cx="8013600" cy="1836360"/>
          </a:xfrm>
        </p:grpSpPr>
        <p:sp>
          <p:nvSpPr>
            <p:cNvPr id="61" name=""/>
            <p:cNvSpPr/>
            <p:nvPr/>
          </p:nvSpPr>
          <p:spPr>
            <a:xfrm>
              <a:off x="800280" y="4807080"/>
              <a:ext cx="1117440" cy="88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9080" y="4610160"/>
              <a:ext cx="3835080" cy="9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S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SYSTEM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ConsistencyCheck(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9960" y="4844880"/>
              <a:ext cx="1168560" cy="83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s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6"/>
              <a:endCxn id="63" idx="2"/>
            </p:cNvCxnSpPr>
            <p:nvPr/>
          </p:nvCxnSpPr>
          <p:spPr>
            <a:xfrm>
              <a:off x="1917720" y="5251320"/>
              <a:ext cx="5232960" cy="13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2717640" y="5803920"/>
              <a:ext cx="36324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SystemRefinementChe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MPSYSTE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23224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3" idx="4"/>
              <a:endCxn id="65" idx="3"/>
            </p:cNvCxnSpPr>
            <p:nvPr/>
          </p:nvCxnSpPr>
          <p:spPr>
            <a:xfrm rot="5400000">
              <a:off x="6820560" y="5211720"/>
              <a:ext cx="442080" cy="1384920"/>
            </a:xfrm>
            <a:prstGeom prst="bentConnector2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 flipH="1">
              <a:off x="2044800" y="6095880"/>
              <a:ext cx="660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8C5-C951-4B46-BFAB-6F801219C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1:50Z</dcterms:modified>
  <cp:revision>779</cp:revision>
  <dc:subject>Abstract Component Model</dc:subject>
  <dc:title>Component Model</dc:title>
</cp:coreProperties>
</file>