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E98-F75A-45F7-A716-E8A7CBA9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38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340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342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413000" y="303120"/>
            <a:ext cx="4025880" cy="3019680"/>
          </a:xfrm>
          <a:prstGeom prst="rect">
            <a:avLst/>
          </a:prstGeom>
          <a:ln w="0">
            <a:noFill/>
          </a:ln>
        </p:spPr>
      </p:sp>
      <p:sp>
        <p:nvSpPr>
          <p:cNvPr id="344" name=""/>
          <p:cNvSpPr/>
          <p:nvPr/>
        </p:nvSpPr>
        <p:spPr>
          <a:xfrm>
            <a:off x="504720" y="4065480"/>
            <a:ext cx="58485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4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48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5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52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54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56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3031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58" name=""/>
          <p:cNvSpPr/>
          <p:nvPr/>
        </p:nvSpPr>
        <p:spPr>
          <a:xfrm>
            <a:off x="504720" y="4316400"/>
            <a:ext cx="58546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360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362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581120" y="303120"/>
            <a:ext cx="3686040" cy="2765520"/>
          </a:xfrm>
          <a:prstGeom prst="rect">
            <a:avLst/>
          </a:prstGeom>
          <a:ln w="0">
            <a:noFill/>
          </a:ln>
        </p:spPr>
      </p:sp>
      <p:sp>
        <p:nvSpPr>
          <p:cNvPr id="364" name=""/>
          <p:cNvSpPr/>
          <p:nvPr/>
        </p:nvSpPr>
        <p:spPr>
          <a:xfrm>
            <a:off x="504720" y="3941640"/>
            <a:ext cx="584676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76400" y="303120"/>
            <a:ext cx="4701960" cy="352764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504720" y="4316400"/>
            <a:ext cx="58532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438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Institute for Ecological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ee.umces.edu/~villa/swarmsme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altimore.umbc.edu/lter" TargetMode="External"/><Relationship Id="rId2" Type="http://schemas.openxmlformats.org/officeDocument/2006/relationships/hyperlink" Target="http://baltimore.umbc.edu/lter" TargetMode="External"/><Relationship Id="rId3" Type="http://schemas.openxmlformats.org/officeDocument/2006/relationships/hyperlink" Target="http://blizzard.gis.uiuc.edu/" TargetMode="External"/><Relationship Id="rId4" Type="http://schemas.openxmlformats.org/officeDocument/2006/relationships/hyperlink" Target="http://blizzard.gis.uiuc.edu/" TargetMode="External"/><Relationship Id="rId5" Type="http://schemas.openxmlformats.org/officeDocument/2006/relationships/hyperlink" Target="http://blizzard.gis.uiuc.edu/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ollaborative Spatial Ecological-Economic Modeling for Sustainable Management of Watershed Resourc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omas Maxwel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exey Voinov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Costanza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ypical State Variabl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524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s of some typical state variables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(Dissolved Inorganic) Nitrogen, Phosphorus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Water (Saturated, Unsaturated, Surface, Snow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tritu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acrophyte (Non)Photosynthetic Biomas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posited Organic Matter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hytoplankton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piphyt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71600" y="151920"/>
            <a:ext cx="613584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entury Schoolbook"/>
              </a:rPr>
              <a:t>Spatial Modeling Environ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"/>
          <p:cNvSpPr/>
          <p:nvPr/>
        </p:nvSpPr>
        <p:spPr>
          <a:xfrm>
            <a:off x="2236680" y="250920"/>
            <a:ext cx="501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4640" y="984240"/>
            <a:ext cx="87271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ollaborative Spatial Modeling Workb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ncludes integrated support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812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Icon-based unit modu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75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Module archiving and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Integration of multiple spatia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Web-based modeling &amp;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Configuration, control, and visualization of remote sim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ata access and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1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Real-time links to other apps (e.g. Swar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57600" y="4343400"/>
            <a:ext cx="1523880" cy="1219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438280"/>
            <a:ext cx="1676520" cy="1219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patial Modeling Environmen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895480"/>
            <a:ext cx="12193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809880"/>
            <a:ext cx="129528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wer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876920"/>
            <a:ext cx="1371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M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886200"/>
            <a:ext cx="76212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276720"/>
            <a:ext cx="83808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00200" y="4419720"/>
            <a:ext cx="68580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5240" y="464832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86200" y="4648320"/>
            <a:ext cx="1066320" cy="685800"/>
            <a:chOff x="3886200" y="4648320"/>
            <a:chExt cx="1066320" cy="685800"/>
          </a:xfrm>
        </p:grpSpPr>
        <p:sp>
          <p:nvSpPr>
            <p:cNvPr id="83" name=""/>
            <p:cNvSpPr/>
            <p:nvPr/>
          </p:nvSpPr>
          <p:spPr>
            <a:xfrm>
              <a:off x="3886200" y="464832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4648320"/>
              <a:ext cx="30420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5029200"/>
              <a:ext cx="30456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7960" y="464832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7080" y="5029200"/>
              <a:ext cx="30420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7960" y="5029200"/>
              <a:ext cx="304560" cy="304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81280" y="2590920"/>
            <a:ext cx="1371600" cy="837720"/>
            <a:chOff x="3581280" y="2590920"/>
            <a:chExt cx="1371600" cy="837720"/>
          </a:xfrm>
        </p:grpSpPr>
        <p:sp>
          <p:nvSpPr>
            <p:cNvPr id="90" name=""/>
            <p:cNvSpPr/>
            <p:nvPr/>
          </p:nvSpPr>
          <p:spPr>
            <a:xfrm>
              <a:off x="4647960" y="312408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440" y="312408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1280" y="3124080"/>
              <a:ext cx="30456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440" y="2590920"/>
              <a:ext cx="304920" cy="30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885840" y="2895480"/>
              <a:ext cx="22860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2895480"/>
              <a:ext cx="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9360" y="2895480"/>
              <a:ext cx="22860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197160" y="56386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MML Modul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343400"/>
            <a:ext cx="60948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67080" y="3657600"/>
            <a:ext cx="7632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1080" y="83808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971800"/>
            <a:ext cx="76212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971800"/>
            <a:ext cx="76176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3352680"/>
            <a:ext cx="9144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120" y="914400"/>
            <a:ext cx="144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4520" y="914400"/>
            <a:ext cx="19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entury Schoolbook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6576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666880"/>
            <a:ext cx="1066680" cy="1752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42560" y="2940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5486400"/>
            <a:ext cx="167652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2800" y="19810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Uni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4440" y="20574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Spati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640" y="20574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Graph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Schoolbook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14560" y="258840"/>
            <a:ext cx="4809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E Java Porta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6" name=""/>
          <p:cNvSpPr/>
          <p:nvPr/>
        </p:nvSpPr>
        <p:spPr>
          <a:xfrm>
            <a:off x="-131400" y="1025640"/>
            <a:ext cx="92088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esktop access to remote supercomputing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eb-enabled ( using java servlet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Grid enabled ( using globus gram utility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Java applet &lt;-&gt; Java servlet &lt;-&gt; C++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Portal interfac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orkspa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u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el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Simulation initialization, control, &amp;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31200" cy="528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33640" y="230040"/>
            <a:ext cx="4641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759120"/>
                <a:tab algn="l" pos="4511520"/>
                <a:tab algn="l" pos="5264280"/>
                <a:tab algn="l" pos="6014880"/>
                <a:tab algn="l" pos="6765840"/>
                <a:tab algn="l" pos="7520040"/>
                <a:tab algn="l" pos="827100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WorkSpace Manag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554976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72320" y="5791320"/>
            <a:ext cx="327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36000"/>
              </a:lnSpc>
              <a:spcAft>
                <a:spcPts val="488"/>
              </a:spcAft>
              <a:tabLst>
                <a:tab algn="l" pos="0"/>
                <a:tab algn="l" pos="501480"/>
                <a:tab algn="l" pos="1004760"/>
                <a:tab algn="l" pos="1506600"/>
                <a:tab algn="l" pos="2008080"/>
                <a:tab algn="l" pos="2536920"/>
                <a:tab algn="l" pos="2684520"/>
                <a:tab algn="l" pos="2841480"/>
                <a:tab algn="l" pos="3006720"/>
                <a:tab algn="l" pos="31827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-457200"/>
            <a:ext cx="3117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149640"/>
                <a:tab algn="l" pos="3780000"/>
                <a:tab algn="l" pos="397836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42120" y="1746360"/>
            <a:ext cx="387648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ocumentation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Document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lecte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Model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Hierarchical View of mode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Associated commands as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mmand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tructure of selecte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roperty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ommand 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440" y="151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nfigura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anager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24720" cy="6523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72200" y="-380880"/>
            <a:ext cx="247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"/>
              </a:lnSpc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9560" y="83808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Parameter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Editor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28" name=""/>
          <p:cNvSpPr/>
          <p:nvPr/>
        </p:nvSpPr>
        <p:spPr>
          <a:xfrm>
            <a:off x="6075720" y="2889360"/>
            <a:ext cx="304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dit 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preadshee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5520" y="22824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imula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ntro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02440" cy="6116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38680" y="1752480"/>
            <a:ext cx="39276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43000"/>
              </a:lnSpc>
              <a:spcBef>
                <a:spcPts val="1074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trol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Mode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Trace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Mode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76360"/>
                <a:tab algn="l" pos="1154160"/>
                <a:tab algn="l" pos="1730520"/>
                <a:tab algn="l" pos="2306520"/>
                <a:tab algn="l" pos="2441520"/>
                <a:tab algn="l" pos="3052800"/>
                <a:tab algn="l" pos="3084480"/>
                <a:tab algn="l" pos="3230640"/>
                <a:tab algn="l" pos="326556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figure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SME Python Shell</a:t>
            </a:r>
            <a:endParaRPr b="0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564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360" y="1230480"/>
            <a:ext cx="4849920" cy="4351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4640" y="2185920"/>
            <a:ext cx="41277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72000"/>
              </a:lnSpc>
              <a:spcBef>
                <a:spcPts val="2324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7720" y="212760"/>
            <a:ext cx="58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98320" y="1539720"/>
            <a:ext cx="3746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Associates Data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with 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reates 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anages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4360" y="14436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ViewServer Control Pa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llaborative Model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listic models require multiple team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odelers typically not computer scientist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take holders must be integrated into the decision making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mmunication to a wide audien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1760" y="1066680"/>
            <a:ext cx="3525840" cy="3479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0120" y="5019840"/>
            <a:ext cx="2722680" cy="95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89400" y="1895400"/>
            <a:ext cx="46069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9600" y="247680"/>
            <a:ext cx="3951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3040" y="3492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0200" y="2206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2D Animation Vi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2400" y="1371600"/>
            <a:ext cx="578556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2D Animat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ynamic and manual re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ColorMap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Data viewer (point/spreadshe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2588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xport as GIF or 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75400" y="5362560"/>
            <a:ext cx="2722320" cy="95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240" y="1054080"/>
            <a:ext cx="5465520" cy="5302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99160" y="2151000"/>
            <a:ext cx="35211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57560" y="14436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3D Animation Vi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752480"/>
            <a:ext cx="35053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Dynamic Landsc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ariable1 -&gt;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ariable2 -&gt;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811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Mouse controlled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74800" y="1243080"/>
            <a:ext cx="6894360" cy="3062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5840" y="4680000"/>
            <a:ext cx="8567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670720"/>
                <a:tab algn="l" pos="6300720"/>
                <a:tab algn="l" pos="6931080"/>
                <a:tab algn="l" pos="7559640"/>
                <a:tab algn="l" pos="7958160"/>
                <a:tab algn="l" pos="800100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6360" y="276120"/>
            <a:ext cx="334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Image Spreadshee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6" name=""/>
          <p:cNvSpPr/>
          <p:nvPr/>
        </p:nvSpPr>
        <p:spPr>
          <a:xfrm>
            <a:off x="162360" y="4572000"/>
            <a:ext cx="883692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Simultaneous display of variables at multiple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Useful for time series compa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287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nfigure: start time, time step, magnification, scal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8120" y="1585800"/>
            <a:ext cx="5403960" cy="4273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638680" y="2438280"/>
            <a:ext cx="3505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View spat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Attach to vis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Follows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spcBef>
                <a:spcPts val="1536"/>
              </a:spcBef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30360"/>
                <a:tab algn="l" pos="1260360"/>
                <a:tab algn="l" pos="1890720"/>
                <a:tab algn="l" pos="2519280"/>
                <a:tab algn="l" pos="3149640"/>
                <a:tab algn="l" pos="3182760"/>
                <a:tab algn="l" pos="333360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Export to Stat pack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3880" y="22068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Numerical Spread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Agent Based Modeling in SME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warm agents can populate SME landscape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ME-Swarm integration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iee.umces.edu/~villa/swarmsme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warm classes serve as wrappers for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model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grid layer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ME spatial variable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wo-way remote data transfer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Built on SNI simulation server architecture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iee.umces.edu/~villa/sni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73440" y="250920"/>
            <a:ext cx="2944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ulti-Grid Library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64" name=""/>
          <p:cNvSpPr/>
          <p:nvPr/>
        </p:nvSpPr>
        <p:spPr>
          <a:xfrm>
            <a:off x="211680" y="914400"/>
            <a:ext cx="810036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ntegrates multiple spatial 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Implements space in 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ajor Component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ell: Spatially referenced area (or volume)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Grid: Distributed set of Cells + li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Frame: Hierarchy of distributed Gr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Link: Connection between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Intra-Grid:  spatial contigu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25"/>
              </a:spcAft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Schoolbook"/>
              </a:rPr>
              <a:t>Inter-grid:   scaling relations or mapp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Activation Layer:   Subset of Cells in a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11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overage:  Mapping:: Activation Layer -&gt; flo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1760" y="1149480"/>
            <a:ext cx="2900520" cy="4989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60680" y="185760"/>
            <a:ext cx="46483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9800"/>
                <a:tab algn="l" pos="4775040"/>
                <a:tab algn="l" pos="5570640"/>
                <a:tab algn="l" pos="6367320"/>
                <a:tab algn="l" pos="7162920"/>
                <a:tab algn="l" pos="7958160"/>
                <a:tab algn="l" pos="87552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90760" y="1679400"/>
            <a:ext cx="547236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Spatial gr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partitioned over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Highly paralle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Recursive N-s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xcellent 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0840"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buClr>
                <a:srgbClr val="000000"/>
              </a:buClr>
              <a:buSzPct val="45000"/>
              <a:buFont typeface="StarBats" charset="2"/>
              <a:buChar char="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ully transparent to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Distributed Process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del Calibration toolki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uilt on MPE toolkit: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http://iee.umces.edu/~villa/svp/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alculate performance measure (MPE)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stimate of match between model &amp; system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Weighted sum of tests (Bounds, Theil, Freq, etc)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arch parameter space to maximize MPE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volutionary and gradient searche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arams, tests, &amp; searches configured in SME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Example Application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verglades Landscape Mod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www.sfwmd.gov/org/erd/esr/elm/intro/welcome.htm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atuxent Landscape Mod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iee.umces.edu/PLM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Baltimore Ecosystem Study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2"/>
              </a:rPr>
              <a:t>baltimore.umbc.edu/lter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Great Bay Estuarine Mod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ttp://iee.umces.edu/GrBay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llinois TES Model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4"/>
              </a:rPr>
              <a:t>blizzard.gis.uiuc.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GERT &amp; CoreModels program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81280" y="327492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15000" y="1044720"/>
            <a:ext cx="311472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26200" y="4529160"/>
            <a:ext cx="1352520" cy="1660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079960" y="4878360"/>
            <a:ext cx="1682640" cy="124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20580000">
            <a:off x="5968800" y="4012920"/>
            <a:ext cx="207144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136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vern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97480" y="4173480"/>
            <a:ext cx="18194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59228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67680" y="1393920"/>
            <a:ext cx="15415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97840" y="2368440"/>
            <a:ext cx="13935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312"/>
              </a:spcBef>
              <a:tabLst>
                <a:tab algn="l" pos="0"/>
                <a:tab algn="l" pos="534960"/>
                <a:tab algn="l" pos="896760"/>
                <a:tab algn="l" pos="949320"/>
                <a:tab algn="l" pos="1004760"/>
                <a:tab algn="l" pos="1063800"/>
                <a:tab algn="l" pos="1123920"/>
                <a:tab algn="l" pos="1190520"/>
                <a:tab algn="l" pos="1260360"/>
                <a:tab algn="l" pos="133344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10360" y="1393920"/>
            <a:ext cx="863640" cy="1869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7080" y="6534000"/>
            <a:ext cx="2660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34960"/>
                <a:tab algn="l" pos="1068480"/>
                <a:tab algn="l" pos="1604880"/>
                <a:tab algn="l" pos="1698480"/>
                <a:tab algn="l" pos="1798560"/>
                <a:tab algn="l" pos="1903320"/>
                <a:tab algn="l" pos="2014560"/>
                <a:tab algn="l" pos="2131920"/>
                <a:tab algn="l" pos="2255760"/>
                <a:tab algn="l" pos="238752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590920" y="1295280"/>
            <a:ext cx="2474640" cy="1730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93560" y="3762360"/>
            <a:ext cx="1256040" cy="2454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280" y="3124080"/>
            <a:ext cx="1963800" cy="6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300"/>
              </a:spcBef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59228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58760" y="2647800"/>
            <a:ext cx="0" cy="487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080" y="1805040"/>
            <a:ext cx="2062080" cy="698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 algn="ctr"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890720"/>
                <a:tab algn="l" pos="200016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puts to multipl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300"/>
              </a:spcBef>
              <a:tabLst>
                <a:tab algn="l" pos="0"/>
                <a:tab algn="l" pos="534960"/>
                <a:tab algn="l" pos="1068480"/>
                <a:tab algn="l" pos="1131840"/>
                <a:tab algn="l" pos="1197000"/>
                <a:tab algn="l" pos="1268280"/>
                <a:tab algn="l" pos="1341360"/>
                <a:tab algn="l" pos="1420920"/>
                <a:tab algn="l" pos="1504800"/>
                <a:tab algn="l" pos="1890720"/>
                <a:tab algn="l" pos="200016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2368440"/>
            <a:ext cx="704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9000" y="2438280"/>
            <a:ext cx="77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26200" y="3414600"/>
            <a:ext cx="0" cy="41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9840" y="250920"/>
            <a:ext cx="5716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19280"/>
                <a:tab algn="l" pos="3149640"/>
                <a:tab algn="l" pos="3780000"/>
                <a:tab algn="l" pos="4410000"/>
                <a:tab algn="l" pos="5040360"/>
                <a:tab algn="l" pos="557064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00"/>
                </a:solidFill>
                <a:latin typeface="Century Schoolbook"/>
              </a:rPr>
              <a:t>Environmental Modeling Workbench</a:t>
            </a:r>
            <a:r>
              <a:rPr b="0" lang="en-GB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700"/>
            </a:br>
            <a:endParaRPr b="0" lang="en-US" sz="37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3124080"/>
            <a:ext cx="1918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or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4160" y="236232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p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o-Hy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0520" y="9144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atial Model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hree Stage Modeling Proces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coping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ensus building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search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Understanding dynamic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anagement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xploring scenario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3645000" cy="2666880"/>
          </a:xfrm>
          <a:prstGeom prst="rect">
            <a:avLst/>
          </a:prstGeom>
          <a:noFill/>
          <a:ln w="0">
            <a:noFill/>
          </a:ln>
        </p:spPr>
        <p:txBody>
          <a:bodyPr lIns="16560" rIns="16560" tIns="43200" bIns="432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12120" indent="-31212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Schoolbook"/>
              </a:rPr>
              <a:t>Links components: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Circulation (OM3)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Schoolbook"/>
              </a:rPr>
              <a:t>Ecology (SME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76080" indent="-259920">
              <a:lnSpc>
                <a:spcPct val="90000"/>
              </a:lnSpc>
              <a:spcAft>
                <a:spcPts val="774"/>
              </a:spcAft>
              <a:buClr>
                <a:srgbClr val="003aea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ea"/>
                </a:solidFill>
                <a:latin typeface="Century Schoolbook"/>
              </a:rPr>
              <a:t>Atmospheric coupling</a:t>
            </a:r>
            <a:r>
              <a:rPr b="0" lang="en-GB" sz="2800" spc="-1" strike="noStrike">
                <a:solidFill>
                  <a:srgbClr val="003aea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/>
          <p:nvPr/>
        </p:nvSpPr>
        <p:spPr>
          <a:xfrm>
            <a:off x="82440" y="6521400"/>
            <a:ext cx="30718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920" rIns="25920" tIns="45360" bIns="4536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77800"/>
                <a:tab algn="l" pos="1154160"/>
                <a:tab algn="l" pos="173340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426280" cy="4125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4120" y="57150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513"/>
              </a:spcBef>
              <a:tabLst>
                <a:tab algn="l" pos="0"/>
                <a:tab algn="l" pos="534960"/>
                <a:tab algn="l" pos="1068480"/>
                <a:tab algn="l" pos="160488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9760" y="206280"/>
            <a:ext cx="4597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79600"/>
                <a:tab algn="l" pos="2975040"/>
                <a:tab algn="l" pos="3570120"/>
                <a:tab algn="l" pos="3759120"/>
                <a:tab algn="l" pos="3780000"/>
                <a:tab algn="l" pos="3978360"/>
                <a:tab algn="l" pos="400068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hesapeake Bay Model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2440" y="6521400"/>
            <a:ext cx="269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920" rIns="25920" tIns="45360" bIns="45360" anchor="t">
            <a:noAutofit/>
          </a:bodyPr>
          <a:p>
            <a:pPr>
              <a:lnSpc>
                <a:spcPct val="25000"/>
              </a:lnSpc>
              <a:spcBef>
                <a:spcPts val="139"/>
              </a:spcBef>
              <a:tabLst>
                <a:tab algn="l" pos="0"/>
                <a:tab algn="l" pos="577800"/>
                <a:tab algn="l" pos="1154160"/>
                <a:tab algn="l" pos="1733400"/>
                <a:tab algn="l" pos="1790640"/>
                <a:tab algn="l" pos="1897200"/>
                <a:tab algn="l" pos="2008080"/>
                <a:tab algn="l" pos="2124000"/>
                <a:tab algn="l" pos="2247840"/>
                <a:tab algn="l" pos="2379600"/>
                <a:tab algn="l" pos="2519280"/>
                <a:tab algn="l" pos="266688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GB" sz="900" spc="-1" strike="noStrike">
                <a:solidFill>
                  <a:srgbClr val="00279f"/>
                </a:solidFill>
                <a:latin typeface="Times New Roman"/>
              </a:rPr>
              <a:t>Environmental Hydrology Applications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5784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5562720"/>
            <a:ext cx="7521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43200" bIns="43200" anchor="t">
            <a:noAutofit/>
          </a:bodyPr>
          <a:p>
            <a:pPr>
              <a:lnSpc>
                <a:spcPct val="25000"/>
              </a:lnSpc>
              <a:spcBef>
                <a:spcPts val="437"/>
              </a:spcBef>
              <a:tabLst>
                <a:tab algn="l" pos="0"/>
                <a:tab algn="l" pos="534960"/>
                <a:tab algn="l" pos="1068480"/>
                <a:tab algn="l" pos="1604880"/>
                <a:tab algn="l" pos="2139840"/>
                <a:tab algn="l" pos="2673360"/>
                <a:tab algn="l" pos="3209760"/>
                <a:tab algn="l" pos="3747960"/>
                <a:tab algn="l" pos="4281480"/>
                <a:tab algn="l" pos="4815000"/>
                <a:tab algn="l" pos="4932360"/>
                <a:tab algn="l" pos="5095800"/>
                <a:tab algn="l" pos="5219640"/>
                <a:tab algn="l" pos="5394240"/>
                <a:tab algn="l" pos="5524560"/>
                <a:tab algn="l" pos="5708520"/>
                <a:tab algn="l" pos="5846760"/>
                <a:tab algn="l" pos="6041880"/>
                <a:tab algn="l" pos="6188040"/>
                <a:tab algn="l" pos="6394320"/>
                <a:tab algn="l" pos="6548400"/>
                <a:tab algn="l" pos="6765840"/>
                <a:tab algn="l" pos="6931080"/>
                <a:tab algn="l" pos="7161120"/>
                <a:tab algn="l" pos="733428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63720" y="268200"/>
            <a:ext cx="5245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14000"/>
              </a:lnSpc>
              <a:spcBef>
                <a:spcPts val="414"/>
              </a:spcBef>
              <a:tabLst>
                <a:tab algn="l" pos="0"/>
                <a:tab algn="l" pos="750960"/>
                <a:tab algn="l" pos="1504800"/>
                <a:tab algn="l" pos="2255760"/>
                <a:tab algn="l" pos="3006720"/>
                <a:tab algn="l" pos="3759120"/>
                <a:tab algn="l" pos="4511520"/>
                <a:tab algn="l" pos="5264280"/>
                <a:tab algn="l" pos="6014880"/>
                <a:tab algn="l" pos="6765840"/>
                <a:tab algn="l" pos="7520040"/>
                <a:tab algn="l" pos="827100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Collaborative Virtual Environment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08" name=""/>
          <p:cNvSpPr/>
          <p:nvPr/>
        </p:nvSpPr>
        <p:spPr>
          <a:xfrm>
            <a:off x="1130040" y="5676840"/>
            <a:ext cx="6903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Chesapeake Bay data in CVE with Cave5D/Virtual Dir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609480" y="1295280"/>
            <a:ext cx="8152920" cy="5105160"/>
            <a:chOff x="609480" y="1295280"/>
            <a:chExt cx="8152920" cy="5105160"/>
          </a:xfrm>
        </p:grpSpPr>
        <p:grpSp>
          <p:nvGrpSpPr>
            <p:cNvPr id="210" name=""/>
            <p:cNvGrpSpPr/>
            <p:nvPr/>
          </p:nvGrpSpPr>
          <p:grpSpPr>
            <a:xfrm>
              <a:off x="4977360" y="2571480"/>
              <a:ext cx="3785040" cy="3828960"/>
              <a:chOff x="4977360" y="2571480"/>
              <a:chExt cx="3785040" cy="382896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77360" y="2571480"/>
                <a:ext cx="1834560" cy="186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7840" y="2571480"/>
                <a:ext cx="1834560" cy="186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77360" y="4534920"/>
                <a:ext cx="1834560" cy="1865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7840" y="4534920"/>
                <a:ext cx="1834560" cy="1865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609480" y="1295280"/>
              <a:ext cx="5012280" cy="47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59480" y="1791360"/>
              <a:ext cx="1456200" cy="92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76720" y="3138480"/>
              <a:ext cx="2838960" cy="120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890280" y="247680"/>
            <a:ext cx="72885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Landuse Evolution and Impact Assessm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LEAM,  University of Illinois at Urbana-Champa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066680"/>
            <a:ext cx="87631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76720" y="3124080"/>
            <a:ext cx="1704600" cy="1355760"/>
            <a:chOff x="3276720" y="3124080"/>
            <a:chExt cx="1704600" cy="1355760"/>
          </a:xfrm>
        </p:grpSpPr>
        <p:sp>
          <p:nvSpPr>
            <p:cNvPr id="221" name=""/>
            <p:cNvSpPr/>
            <p:nvPr/>
          </p:nvSpPr>
          <p:spPr>
            <a:xfrm>
              <a:off x="3276720" y="3124080"/>
              <a:ext cx="1704600" cy="1355760"/>
            </a:xfrm>
            <a:custGeom>
              <a:avLst/>
              <a:gdLst/>
              <a:ahLst/>
              <a:rect l="l" t="t" r="r" b="b"/>
              <a:pathLst>
                <a:path w="1086" h="1064">
                  <a:moveTo>
                    <a:pt x="677" y="0"/>
                  </a:moveTo>
                  <a:lnTo>
                    <a:pt x="461" y="3"/>
                  </a:lnTo>
                  <a:lnTo>
                    <a:pt x="297" y="56"/>
                  </a:lnTo>
                  <a:lnTo>
                    <a:pt x="129" y="165"/>
                  </a:lnTo>
                  <a:lnTo>
                    <a:pt x="52" y="321"/>
                  </a:lnTo>
                  <a:lnTo>
                    <a:pt x="17" y="481"/>
                  </a:lnTo>
                  <a:lnTo>
                    <a:pt x="0" y="643"/>
                  </a:lnTo>
                  <a:lnTo>
                    <a:pt x="77" y="760"/>
                  </a:lnTo>
                  <a:lnTo>
                    <a:pt x="172" y="917"/>
                  </a:lnTo>
                  <a:lnTo>
                    <a:pt x="392" y="1042"/>
                  </a:lnTo>
                  <a:lnTo>
                    <a:pt x="603" y="1064"/>
                  </a:lnTo>
                  <a:lnTo>
                    <a:pt x="751" y="1021"/>
                  </a:lnTo>
                  <a:lnTo>
                    <a:pt x="842" y="970"/>
                  </a:lnTo>
                  <a:lnTo>
                    <a:pt x="938" y="934"/>
                  </a:lnTo>
                  <a:lnTo>
                    <a:pt x="974" y="848"/>
                  </a:lnTo>
                  <a:lnTo>
                    <a:pt x="1058" y="710"/>
                  </a:lnTo>
                  <a:lnTo>
                    <a:pt x="1086" y="548"/>
                  </a:lnTo>
                  <a:lnTo>
                    <a:pt x="1062" y="363"/>
                  </a:lnTo>
                  <a:lnTo>
                    <a:pt x="995" y="178"/>
                  </a:lnTo>
                  <a:lnTo>
                    <a:pt x="904" y="108"/>
                  </a:lnTo>
                  <a:lnTo>
                    <a:pt x="792" y="17"/>
                  </a:lnTo>
                  <a:lnTo>
                    <a:pt x="733" y="165"/>
                  </a:lnTo>
                  <a:lnTo>
                    <a:pt x="875" y="268"/>
                  </a:lnTo>
                  <a:lnTo>
                    <a:pt x="930" y="356"/>
                  </a:lnTo>
                  <a:lnTo>
                    <a:pt x="964" y="477"/>
                  </a:lnTo>
                  <a:lnTo>
                    <a:pt x="925" y="672"/>
                  </a:lnTo>
                  <a:lnTo>
                    <a:pt x="842" y="815"/>
                  </a:lnTo>
                  <a:lnTo>
                    <a:pt x="757" y="861"/>
                  </a:lnTo>
                  <a:lnTo>
                    <a:pt x="663" y="906"/>
                  </a:lnTo>
                  <a:lnTo>
                    <a:pt x="511" y="924"/>
                  </a:lnTo>
                  <a:lnTo>
                    <a:pt x="342" y="889"/>
                  </a:lnTo>
                  <a:lnTo>
                    <a:pt x="210" y="743"/>
                  </a:lnTo>
                  <a:lnTo>
                    <a:pt x="150" y="645"/>
                  </a:lnTo>
                  <a:lnTo>
                    <a:pt x="146" y="492"/>
                  </a:lnTo>
                  <a:lnTo>
                    <a:pt x="179" y="363"/>
                  </a:lnTo>
                  <a:lnTo>
                    <a:pt x="265" y="254"/>
                  </a:lnTo>
                  <a:lnTo>
                    <a:pt x="314" y="185"/>
                  </a:lnTo>
                  <a:lnTo>
                    <a:pt x="430" y="157"/>
                  </a:lnTo>
                  <a:lnTo>
                    <a:pt x="555" y="112"/>
                  </a:lnTo>
                  <a:lnTo>
                    <a:pt x="733" y="165"/>
                  </a:lnTo>
                  <a:lnTo>
                    <a:pt x="792" y="17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6040" y="3147120"/>
              <a:ext cx="1614960" cy="1299240"/>
            </a:xfrm>
            <a:custGeom>
              <a:avLst/>
              <a:gdLst/>
              <a:ahLst/>
              <a:rect l="l" t="t" r="r" b="b"/>
              <a:pathLst>
                <a:path w="1028" h="1022">
                  <a:moveTo>
                    <a:pt x="556" y="74"/>
                  </a:moveTo>
                  <a:lnTo>
                    <a:pt x="437" y="74"/>
                  </a:lnTo>
                  <a:lnTo>
                    <a:pt x="263" y="143"/>
                  </a:lnTo>
                  <a:lnTo>
                    <a:pt x="155" y="263"/>
                  </a:lnTo>
                  <a:lnTo>
                    <a:pt x="102" y="416"/>
                  </a:lnTo>
                  <a:lnTo>
                    <a:pt x="70" y="541"/>
                  </a:lnTo>
                  <a:lnTo>
                    <a:pt x="141" y="736"/>
                  </a:lnTo>
                  <a:lnTo>
                    <a:pt x="224" y="805"/>
                  </a:lnTo>
                  <a:lnTo>
                    <a:pt x="280" y="879"/>
                  </a:lnTo>
                  <a:lnTo>
                    <a:pt x="409" y="921"/>
                  </a:lnTo>
                  <a:lnTo>
                    <a:pt x="532" y="949"/>
                  </a:lnTo>
                  <a:lnTo>
                    <a:pt x="768" y="869"/>
                  </a:lnTo>
                  <a:lnTo>
                    <a:pt x="907" y="729"/>
                  </a:lnTo>
                  <a:lnTo>
                    <a:pt x="960" y="538"/>
                  </a:lnTo>
                  <a:lnTo>
                    <a:pt x="960" y="378"/>
                  </a:lnTo>
                  <a:lnTo>
                    <a:pt x="894" y="270"/>
                  </a:lnTo>
                  <a:lnTo>
                    <a:pt x="800" y="151"/>
                  </a:lnTo>
                  <a:lnTo>
                    <a:pt x="556" y="74"/>
                  </a:lnTo>
                  <a:lnTo>
                    <a:pt x="544" y="0"/>
                  </a:lnTo>
                  <a:lnTo>
                    <a:pt x="655" y="18"/>
                  </a:lnTo>
                  <a:lnTo>
                    <a:pt x="804" y="60"/>
                  </a:lnTo>
                  <a:lnTo>
                    <a:pt x="880" y="149"/>
                  </a:lnTo>
                  <a:lnTo>
                    <a:pt x="978" y="248"/>
                  </a:lnTo>
                  <a:lnTo>
                    <a:pt x="1028" y="464"/>
                  </a:lnTo>
                  <a:lnTo>
                    <a:pt x="1019" y="621"/>
                  </a:lnTo>
                  <a:lnTo>
                    <a:pt x="954" y="760"/>
                  </a:lnTo>
                  <a:lnTo>
                    <a:pt x="859" y="882"/>
                  </a:lnTo>
                  <a:lnTo>
                    <a:pt x="653" y="991"/>
                  </a:lnTo>
                  <a:lnTo>
                    <a:pt x="489" y="1022"/>
                  </a:lnTo>
                  <a:lnTo>
                    <a:pt x="311" y="979"/>
                  </a:lnTo>
                  <a:lnTo>
                    <a:pt x="119" y="817"/>
                  </a:lnTo>
                  <a:lnTo>
                    <a:pt x="0" y="545"/>
                  </a:lnTo>
                  <a:lnTo>
                    <a:pt x="46" y="375"/>
                  </a:lnTo>
                  <a:lnTo>
                    <a:pt x="77" y="220"/>
                  </a:lnTo>
                  <a:lnTo>
                    <a:pt x="198" y="112"/>
                  </a:lnTo>
                  <a:lnTo>
                    <a:pt x="333" y="35"/>
                  </a:lnTo>
                  <a:lnTo>
                    <a:pt x="544" y="0"/>
                  </a:lnTo>
                  <a:lnTo>
                    <a:pt x="556" y="7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5400000">
              <a:off x="3701880" y="3459600"/>
              <a:ext cx="875520" cy="656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SM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6320" y="5991120"/>
            <a:ext cx="1379520" cy="790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47920" y="6676920"/>
            <a:ext cx="7315200" cy="76320"/>
          </a:xfrm>
          <a:prstGeom prst="rect">
            <a:avLst/>
          </a:prstGeom>
          <a:solidFill>
            <a:srgbClr val="ccffff"/>
          </a:solidFill>
          <a:ln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00800" y="-36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LEAM Framework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27" name=""/>
          <p:cNvSpPr/>
          <p:nvPr/>
        </p:nvSpPr>
        <p:spPr>
          <a:xfrm>
            <a:off x="641520" y="496800"/>
            <a:ext cx="5568840" cy="54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89604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E A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27080" y="4989600"/>
            <a:ext cx="4786200" cy="796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b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010120" y="5492880"/>
            <a:ext cx="48888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752560"/>
            <a:ext cx="1589040" cy="943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1560" y="2776680"/>
            <a:ext cx="1576440" cy="8776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4000" y="2514600"/>
            <a:ext cx="1604880" cy="14144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5120" y="969840"/>
            <a:ext cx="5351400" cy="1003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41320" y="1300320"/>
            <a:ext cx="5175360" cy="581040"/>
            <a:chOff x="841320" y="1300320"/>
            <a:chExt cx="5175360" cy="581040"/>
          </a:xfrm>
        </p:grpSpPr>
        <p:sp>
          <p:nvSpPr>
            <p:cNvPr id="235" name=""/>
            <p:cNvSpPr/>
            <p:nvPr/>
          </p:nvSpPr>
          <p:spPr>
            <a:xfrm>
              <a:off x="543384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ando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0872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eograph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6428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ranspor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2020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pen spac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7612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ighbor-  hoo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132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conom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688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pula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52800" y="1300320"/>
              <a:ext cx="58284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c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200400" y="1879560"/>
            <a:ext cx="0" cy="62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1879560"/>
            <a:ext cx="0" cy="62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2640" y="1879560"/>
            <a:ext cx="1905480" cy="609480"/>
            <a:chOff x="1142640" y="1879560"/>
            <a:chExt cx="1905480" cy="609480"/>
          </a:xfrm>
        </p:grpSpPr>
        <p:sp>
          <p:nvSpPr>
            <p:cNvPr id="246" name=""/>
            <p:cNvSpPr/>
            <p:nvPr/>
          </p:nvSpPr>
          <p:spPr>
            <a:xfrm>
              <a:off x="1143000" y="1879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52480" y="1879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187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2108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2184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2260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8280" y="21081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752120" y="2184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142640" y="2260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809880" y="1879560"/>
            <a:ext cx="1905480" cy="609480"/>
            <a:chOff x="3809880" y="1879560"/>
            <a:chExt cx="1905480" cy="609480"/>
          </a:xfrm>
        </p:grpSpPr>
        <p:sp>
          <p:nvSpPr>
            <p:cNvPr id="256" name=""/>
            <p:cNvSpPr/>
            <p:nvPr/>
          </p:nvSpPr>
          <p:spPr>
            <a:xfrm>
              <a:off x="5715000" y="1879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520" y="1879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19720" y="187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9880" y="2108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2184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4800" y="2260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09880" y="21081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62880" y="2184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15160" y="2260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94080" y="1589040"/>
            <a:ext cx="522000" cy="1204920"/>
            <a:chOff x="6094080" y="1589040"/>
            <a:chExt cx="522000" cy="1204920"/>
          </a:xfrm>
        </p:grpSpPr>
        <p:sp>
          <p:nvSpPr>
            <p:cNvPr id="266" name=""/>
            <p:cNvSpPr/>
            <p:nvPr/>
          </p:nvSpPr>
          <p:spPr>
            <a:xfrm flipH="1">
              <a:off x="6094080" y="1589040"/>
              <a:ext cx="52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16080" y="1589040"/>
              <a:ext cx="0" cy="12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0640" y="1563840"/>
            <a:ext cx="466560" cy="1190520"/>
            <a:chOff x="260640" y="1563840"/>
            <a:chExt cx="466560" cy="1190520"/>
          </a:xfrm>
        </p:grpSpPr>
        <p:sp>
          <p:nvSpPr>
            <p:cNvPr id="269" name=""/>
            <p:cNvSpPr/>
            <p:nvPr/>
          </p:nvSpPr>
          <p:spPr>
            <a:xfrm>
              <a:off x="261000" y="156384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0640" y="1563840"/>
              <a:ext cx="0" cy="11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633760" y="4195800"/>
            <a:ext cx="1589040" cy="426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dus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67080" y="3943440"/>
            <a:ext cx="123840" cy="266760"/>
          </a:xfrm>
          <a:prstGeom prst="downArrow">
            <a:avLst>
              <a:gd name="adj1" fmla="val 50000"/>
              <a:gd name="adj2" fmla="val 538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36520" y="5049720"/>
            <a:ext cx="4584600" cy="444240"/>
            <a:chOff x="1136520" y="5049720"/>
            <a:chExt cx="4584600" cy="444240"/>
          </a:xfrm>
        </p:grpSpPr>
        <p:sp>
          <p:nvSpPr>
            <p:cNvPr id="274" name=""/>
            <p:cNvSpPr/>
            <p:nvPr/>
          </p:nvSpPr>
          <p:spPr>
            <a:xfrm>
              <a:off x="1136520" y="5051160"/>
              <a:ext cx="43740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8720" y="5051160"/>
              <a:ext cx="43740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20920" y="5051160"/>
              <a:ext cx="43740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abit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3120" y="5051160"/>
              <a:ext cx="43740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5680" y="5049720"/>
              <a:ext cx="4370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s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7880" y="5049720"/>
              <a:ext cx="4370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90080" y="5049720"/>
              <a:ext cx="43704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as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83720" y="5049720"/>
              <a:ext cx="437400" cy="4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vi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>
            <a:off x="3125880" y="4627440"/>
            <a:ext cx="30312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539800" y="4627440"/>
            <a:ext cx="6714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938240" y="4627440"/>
            <a:ext cx="107640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353960" y="4640400"/>
            <a:ext cx="142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4627440"/>
            <a:ext cx="29520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3200" y="4640400"/>
            <a:ext cx="6825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6880" y="4627440"/>
            <a:ext cx="107640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2240" y="4640400"/>
            <a:ext cx="14367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65440" y="6127920"/>
            <a:ext cx="3336840" cy="43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stainable ind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37960" y="3677760"/>
            <a:ext cx="1518840" cy="2679840"/>
            <a:chOff x="237960" y="3677760"/>
            <a:chExt cx="1518840" cy="2679840"/>
          </a:xfrm>
        </p:grpSpPr>
        <p:sp>
          <p:nvSpPr>
            <p:cNvPr id="292" name=""/>
            <p:cNvSpPr/>
            <p:nvPr/>
          </p:nvSpPr>
          <p:spPr>
            <a:xfrm flipH="1">
              <a:off x="254160" y="6357600"/>
              <a:ext cx="150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37960" y="3677760"/>
              <a:ext cx="0" cy="26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08400" y="3677760"/>
            <a:ext cx="1535040" cy="2693880"/>
            <a:chOff x="5108400" y="3677760"/>
            <a:chExt cx="1535040" cy="2693880"/>
          </a:xfrm>
        </p:grpSpPr>
        <p:sp>
          <p:nvSpPr>
            <p:cNvPr id="295" name=""/>
            <p:cNvSpPr/>
            <p:nvPr/>
          </p:nvSpPr>
          <p:spPr>
            <a:xfrm>
              <a:off x="5108400" y="6357960"/>
              <a:ext cx="15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622200" y="3677760"/>
              <a:ext cx="0" cy="26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>
            <a:off x="502920" y="5380200"/>
            <a:ext cx="53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03280" y="3678120"/>
            <a:ext cx="0" cy="168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32360" y="3692520"/>
            <a:ext cx="516240" cy="1701360"/>
            <a:chOff x="5832360" y="3692520"/>
            <a:chExt cx="516240" cy="1701360"/>
          </a:xfrm>
        </p:grpSpPr>
        <p:sp>
          <p:nvSpPr>
            <p:cNvPr id="300" name=""/>
            <p:cNvSpPr/>
            <p:nvPr/>
          </p:nvSpPr>
          <p:spPr>
            <a:xfrm flipH="1">
              <a:off x="5832360" y="5392440"/>
              <a:ext cx="51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348600" y="3692520"/>
              <a:ext cx="0" cy="17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366920" y="5465880"/>
            <a:ext cx="488880" cy="65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55880" y="5506920"/>
            <a:ext cx="137880" cy="6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27200" y="5492880"/>
            <a:ext cx="0" cy="62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24200" y="549288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5880" y="54928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3160" y="54928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744800" y="5492880"/>
            <a:ext cx="15372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6160" y="5541840"/>
            <a:ext cx="188568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act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0" y="-360"/>
            <a:ext cx="2286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LEAM Portal</a:t>
            </a:r>
            <a:endParaRPr b="0" lang="en-US" sz="40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598320"/>
            <a:ext cx="7004160" cy="625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4292640" cy="6629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572000" y="1143000"/>
            <a:ext cx="437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ution - 1 km (200m f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watershe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62 gri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del in each  cel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log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trients (N, P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g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ing functions:_x0008_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matic condi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 use ma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trient loading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atmosphere_x0008_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fertiliz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sept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poin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8120" y="2282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atuxent Landscape Mod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(PLM)</a:t>
            </a:r>
            <a:endParaRPr b="0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6553440" cy="4533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tate variables and main processes in the landscape model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brary of Hydro-Ecological Modules</a:t>
            </a:r>
            <a:endParaRPr b="0" lang="en-US" sz="1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7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133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000"/>
                </a:solidFill>
                <a:latin typeface="Arial Black"/>
              </a:rPr>
              <a:t>Main Driver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895480" y="501480"/>
            <a:ext cx="6019920" cy="2948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Landuse change - number if cells in different habitat categories and their pattern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e total amount of nutrients that is contributed annually from various sources to the watershed.  At this time atmospheric deposition is the main source of non-point pollution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3808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sults</a:t>
            </a:r>
            <a:endParaRPr b="0" lang="en-US" sz="24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14800" cy="29797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historical land use in 1650, 1850, 1950, 1972, 1990 and 1997;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 “buildout” scenario based on fully developing all the land currently zoned for development;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four future development patterns based on an empirical economic land use conversion model;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gricultural “best management practices” which lower fertilizer application;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four “replacement”  scenarios of land use change to analyze the relative contributions of agriculture and urban land uses; and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wo “clustering”  scenarios with significantly more and less clustered residential development than the current pattern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514600"/>
            <a:ext cx="329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000"/>
                </a:solidFill>
                <a:latin typeface="Arial"/>
              </a:rPr>
              <a:t>We analyzed 18 scenarios incl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entury Schoolbook"/>
              </a:rPr>
              <a:t>Scoping Workshops</a:t>
            </a:r>
            <a:endParaRPr b="0" lang="en-US" sz="44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tructivist learn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aradigm expansion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(narrow,linear,static) -&gt;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(broad,nonlinear,dynamic)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flict resolution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sensus build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llective decision making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Develop management scenarios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25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ME Distribution 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e SME home page: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http://www.uvm.edu/giee/SME3/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Includes: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Overview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chnical documentation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ublications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ource code (C++ and java)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upporting Collaborative Modeling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raphical modeling too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odular model develop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ransparent high performance comput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grated data ac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grated visualiz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Variety of formalisms and fram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4760" y="6091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entury Schoolbook"/>
              </a:rPr>
              <a:t>Graphical Model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2395440" y="204840"/>
            <a:ext cx="4170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000"/>
              </a:lnSpc>
              <a:tabLst>
                <a:tab algn="l" pos="0"/>
                <a:tab algn="l" pos="795240"/>
                <a:tab algn="l" pos="1592280"/>
                <a:tab algn="l" pos="2387520"/>
                <a:tab algn="l" pos="3182760"/>
                <a:tab algn="l" pos="3978360"/>
                <a:tab algn="l" pos="4775040"/>
                <a:tab algn="l" pos="5570640"/>
                <a:tab algn="l" pos="6365880"/>
                <a:tab algn="l" pos="7161120"/>
                <a:tab algn="l" pos="7958160"/>
                <a:tab algn="l" pos="875340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20" y="1752480"/>
            <a:ext cx="855792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Model viewed and manipulated graph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Opens model development to non-program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acilitates rapid development of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Enforces modeling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Facilitates collaboration in mode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Schoolbook"/>
              </a:rPr>
              <a:t>Graphical representation serves as a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160" y="1058760"/>
            <a:ext cx="6951600" cy="5275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4000" y="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Schoolbook"/>
              </a:rPr>
              <a:t>STELL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6120" y="74520"/>
            <a:ext cx="4937040" cy="6337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Spatial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Modelin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Framework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Schoolbook"/>
              </a:rPr>
              <a:t>Two types of modules</a:t>
            </a:r>
            <a:endParaRPr b="0" lang="en-US" sz="36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cological Modul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No general theory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rimary focus on modeling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xamples: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Macrophytes, Epiphytes, Consumers, Phytoplankton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odules developed in Stella/SME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hysical Module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eory well known (e.g. Navier Stokes)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rimary focus on computation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Examples: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hydrodynamics, atmospheric dynamics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odules developed externally and linked to SME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7:29:16Z</dcterms:created>
  <dc:creator>Thomas P Maxwell</dc:creator>
  <dc:description/>
  <dc:language>en-US</dc:language>
  <cp:lastModifiedBy>maxwell</cp:lastModifiedBy>
  <dcterms:modified xsi:type="dcterms:W3CDTF">2002-11-21T11:01:08Z</dcterms:modified>
  <cp:revision>151</cp:revision>
  <dc:subject/>
  <dc:title>PowerPoint Presentation</dc:title>
</cp:coreProperties>
</file>