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3059-F026-4651-A47D-0BCB9B8EB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581120" y="303120"/>
            <a:ext cx="3686040" cy="276552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504720" y="3941640"/>
            <a:ext cx="58467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3031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504720" y="4316400"/>
            <a:ext cx="58546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413000" y="303120"/>
            <a:ext cx="4025880" cy="301968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504720" y="4065480"/>
            <a:ext cx="58485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413000" y="303120"/>
            <a:ext cx="4025880" cy="301968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504720" y="4065480"/>
            <a:ext cx="58485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413000" y="303120"/>
            <a:ext cx="4025880" cy="301968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504720" y="4065480"/>
            <a:ext cx="58485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581120" y="303120"/>
            <a:ext cx="3686040" cy="276552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504720" y="3941640"/>
            <a:ext cx="58467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581120" y="303120"/>
            <a:ext cx="3686040" cy="276552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504720" y="3941640"/>
            <a:ext cx="58467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581120" y="303120"/>
            <a:ext cx="3686040" cy="276552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504720" y="3941640"/>
            <a:ext cx="58467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438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Institute for Ecological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ee.umces.edu/~villa/swarmsme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Developing Understanding of Ecological Economic Systems</a:t>
            </a:r>
            <a:endParaRPr b="0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omas Maxwel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Costanza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University of Maryland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160" y="1058760"/>
            <a:ext cx="6951600" cy="527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54000" y="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STELLA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6120" y="74520"/>
            <a:ext cx="4937040" cy="6337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3760" y="2282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patial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odeling Framework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81280" y="327492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15000" y="1044720"/>
            <a:ext cx="3114720" cy="23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26200" y="4529160"/>
            <a:ext cx="1352520" cy="166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079960" y="4878360"/>
            <a:ext cx="1682640" cy="124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20580000">
            <a:off x="5968800" y="4012920"/>
            <a:ext cx="2071440" cy="12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136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vern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97480" y="4173480"/>
            <a:ext cx="18194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59228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67680" y="1393920"/>
            <a:ext cx="15415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97840" y="2368440"/>
            <a:ext cx="13935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312"/>
              </a:spcBef>
              <a:tabLst>
                <a:tab algn="l" pos="0"/>
                <a:tab algn="l" pos="534960"/>
                <a:tab algn="l" pos="896760"/>
                <a:tab algn="l" pos="949320"/>
                <a:tab algn="l" pos="1004760"/>
                <a:tab algn="l" pos="1063800"/>
                <a:tab algn="l" pos="1123920"/>
                <a:tab algn="l" pos="1190520"/>
                <a:tab algn="l" pos="1260360"/>
                <a:tab algn="l" pos="133344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210360" y="1393920"/>
            <a:ext cx="863640" cy="186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7080" y="6534000"/>
            <a:ext cx="2660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139"/>
              </a:spcBef>
              <a:tabLst>
                <a:tab algn="l" pos="0"/>
                <a:tab algn="l" pos="534960"/>
                <a:tab algn="l" pos="1068480"/>
                <a:tab algn="l" pos="1604880"/>
                <a:tab algn="l" pos="1698480"/>
                <a:tab algn="l" pos="1798560"/>
                <a:tab algn="l" pos="1903320"/>
                <a:tab algn="l" pos="2014560"/>
                <a:tab algn="l" pos="2131920"/>
                <a:tab algn="l" pos="2255760"/>
                <a:tab algn="l" pos="238752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GB" sz="900" spc="-1" strike="noStrike">
                <a:solidFill>
                  <a:srgbClr val="00279f"/>
                </a:solidFill>
                <a:latin typeface="Times New Roman"/>
              </a:rPr>
              <a:t>Environmental Hydrology Applications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590920" y="1295280"/>
            <a:ext cx="2474640" cy="173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93560" y="3762360"/>
            <a:ext cx="1256040" cy="245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3124080"/>
            <a:ext cx="1963800" cy="6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300"/>
              </a:spcBef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59228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58760" y="264780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80" y="1805040"/>
            <a:ext cx="2062080" cy="698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 algn="ctr"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890720"/>
                <a:tab algn="l" pos="200016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puts to multipl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300"/>
              </a:spcBef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890720"/>
                <a:tab algn="l" pos="200016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368440"/>
            <a:ext cx="704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69000" y="2438280"/>
            <a:ext cx="77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26200" y="3414600"/>
            <a:ext cx="0" cy="41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09840" y="250920"/>
            <a:ext cx="5716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57064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00"/>
                </a:solidFill>
                <a:latin typeface="Century Schoolbook"/>
              </a:rPr>
              <a:t>Environmental Modeling Workbench</a:t>
            </a:r>
            <a:r>
              <a:rPr b="0" lang="en-GB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700"/>
            </a:br>
            <a:endParaRPr b="0" lang="en-US" sz="37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0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124080"/>
            <a:ext cx="1918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grated 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sor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4160" y="236232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p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o-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0520" y="9144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atial Modeling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Two types of module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cological Module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No general theory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rimary focus on modeling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Examples: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Macrophytes, Epiphytes, Consumers, Phytoplankton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odules developed in Stella/SME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hysical Module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eory well known (e.g. Navier Stokes)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rimary focus on computation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Examples: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hydrodynamics, atmospheric dynamics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odules developed externally and linked to SME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151920"/>
            <a:ext cx="613584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entury Schoolbook"/>
              </a:rPr>
              <a:t>Spatial Modeling Environ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"/>
          <p:cNvSpPr/>
          <p:nvPr/>
        </p:nvSpPr>
        <p:spPr>
          <a:xfrm>
            <a:off x="2236680" y="250920"/>
            <a:ext cx="501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4640" y="984240"/>
            <a:ext cx="87271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Collaborative Spatial Modeling Workb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Includes integrated support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812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Icon-based unit modu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675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Module archiving and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Integration of multiple spatial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Web-based modeling &amp;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25"/>
              </a:spcAft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Schoolbook"/>
              </a:rPr>
              <a:t>Configuration, control, and visualization of remote sim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Data access and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Real-time links to other apps (e.g. Swar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57600" y="4343400"/>
            <a:ext cx="1523880" cy="12193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438280"/>
            <a:ext cx="1676520" cy="12193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patial Modeling Environmen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895480"/>
            <a:ext cx="12193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809880"/>
            <a:ext cx="129528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ower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876920"/>
            <a:ext cx="137160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M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886200"/>
            <a:ext cx="762120" cy="609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276720"/>
            <a:ext cx="83808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1911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00200" y="4419720"/>
            <a:ext cx="68580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65240" y="464832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86200" y="4648320"/>
            <a:ext cx="1066320" cy="685800"/>
            <a:chOff x="3886200" y="4648320"/>
            <a:chExt cx="1066320" cy="685800"/>
          </a:xfrm>
        </p:grpSpPr>
        <p:sp>
          <p:nvSpPr>
            <p:cNvPr id="111" name=""/>
            <p:cNvSpPr/>
            <p:nvPr/>
          </p:nvSpPr>
          <p:spPr>
            <a:xfrm>
              <a:off x="3886200" y="4648320"/>
              <a:ext cx="30456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4648320"/>
              <a:ext cx="30420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5029200"/>
              <a:ext cx="304560" cy="30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7960" y="4648320"/>
              <a:ext cx="30456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5029200"/>
              <a:ext cx="304200" cy="30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7960" y="5029200"/>
              <a:ext cx="304560" cy="30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81280" y="2590920"/>
            <a:ext cx="1371600" cy="837720"/>
            <a:chOff x="3581280" y="2590920"/>
            <a:chExt cx="1371600" cy="837720"/>
          </a:xfrm>
        </p:grpSpPr>
        <p:sp>
          <p:nvSpPr>
            <p:cNvPr id="118" name=""/>
            <p:cNvSpPr/>
            <p:nvPr/>
          </p:nvSpPr>
          <p:spPr>
            <a:xfrm>
              <a:off x="4647960" y="3124080"/>
              <a:ext cx="30492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440" y="3124080"/>
              <a:ext cx="30492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1280" y="3124080"/>
              <a:ext cx="30456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440" y="2590920"/>
              <a:ext cx="30492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885840" y="2895480"/>
              <a:ext cx="22860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2895480"/>
              <a:ext cx="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9360" y="2895480"/>
              <a:ext cx="22860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197160" y="56386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MML Modul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343400"/>
            <a:ext cx="60948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267080" y="3657600"/>
            <a:ext cx="7632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1080" y="838080"/>
            <a:ext cx="19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971800"/>
            <a:ext cx="762120" cy="609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971800"/>
            <a:ext cx="76176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352680"/>
            <a:ext cx="9144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4120" y="914400"/>
            <a:ext cx="144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24520" y="914400"/>
            <a:ext cx="196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6576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666880"/>
            <a:ext cx="1066680" cy="1752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42560" y="2940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5486400"/>
            <a:ext cx="1676520" cy="990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2800" y="19810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Uni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4440" y="20574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Spati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640" y="20574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Graph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Module Specification Languag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066680"/>
            <a:ext cx="6632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7080" y="1371600"/>
            <a:ext cx="912924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Decla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Fully visible structure &amp;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Supports encapsulation and 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Separate universal specs / site-specific conf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Platform and operating system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Facilitates extensive simul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Simulation Module Markup Languag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"/>
          <p:cNvSpPr/>
          <p:nvPr/>
        </p:nvSpPr>
        <p:spPr>
          <a:xfrm>
            <a:off x="581400" y="1066680"/>
            <a:ext cx="780192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XML-Based Declarative Langu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Simulation Module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Major Cl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odule: Reusabl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Variable: Simulation atomic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Action:  Performs computation or data 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Event:   Orders the execution of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Frame:  Defines a spatial top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9752040" cy="83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atom name="CONS_BIOM" id="CONS_BIOM" status="private"  type="state" 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input" name="CONS_INGEST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input" name="CONS_EGEST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input" name="CONS_MORT_BIOM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input" name="CONS_RESPIRATION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ynamic  event="integrate"  type="code" 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de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 ( ( CONS_INGEST-CONS_EGEST )-CONS_MORT_BIOM ) ) CONS_RESPIRATION 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cod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dynamic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input" name="P1_CONS_IC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input" name="CELL_SIZE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ynamic  event="init"  type="code" 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oc&gt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RBON BIOMASS OF AN AGGREGATED CONSUMER. (KG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UMERS EXCLUDE THE MICRO ORGANISMS WHICH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COUNTED  FOR IN THE RESPIRATION FLU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doc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de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 ( P1_CONS_IC*0.001 )*CELL_SIZ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cod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dynamic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818560"/>
                <a:tab algn="l" pos="9548640"/>
                <a:tab algn="l" pos="10096560"/>
                <a:tab algn="l" pos="1093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ato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28960" y="233280"/>
            <a:ext cx="2522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-7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MML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5240" y="1238400"/>
            <a:ext cx="89773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819000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560" y="266760"/>
            <a:ext cx="2522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9800"/>
                <a:tab algn="l" pos="4775040"/>
                <a:tab algn="l" pos="5570640"/>
                <a:tab algn="l" pos="6367320"/>
                <a:tab algn="l" pos="7162920"/>
                <a:tab algn="l" pos="7958160"/>
                <a:tab algn="l" pos="8755200"/>
                <a:tab algn="l" pos="9255240"/>
                <a:tab algn="l" pos="10096560"/>
                <a:tab algn="l" pos="10937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9800"/>
                <a:tab algn="l" pos="4775040"/>
                <a:tab algn="l" pos="5570640"/>
                <a:tab algn="l" pos="6367320"/>
                <a:tab algn="l" pos="7162920"/>
                <a:tab algn="l" pos="7958160"/>
                <a:tab algn="l" pos="8755200"/>
                <a:tab algn="l" pos="9255240"/>
                <a:tab algn="l" pos="10096560"/>
                <a:tab algn="l" pos="10937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9800"/>
                <a:tab algn="l" pos="4775040"/>
                <a:tab algn="l" pos="5570640"/>
                <a:tab algn="l" pos="6367320"/>
                <a:tab algn="l" pos="7162920"/>
                <a:tab algn="l" pos="7958160"/>
                <a:tab algn="l" pos="8755200"/>
                <a:tab algn="l" pos="9255240"/>
                <a:tab algn="l" pos="10096560"/>
                <a:tab algn="l" pos="10937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6600" y="992160"/>
            <a:ext cx="880812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!DOCTYPE compound SYSTEM "http://iee.umces.edu/SME/dtd/smml.dt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mpound id="PLMD_module" name="PLMD_module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mpound id="CONSUMERS_module" name="CONSUMERS_modul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="CONSUMERS_module.xml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output" name="CONS_EGEST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output" name="CONS_MORT_BIOM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port type="output" name="CI_DETR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compoun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link name="c__0"     origin = "GLOBALS_module.CELL_SIZ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tination =  "CONSUMERS_module.CELL_SIZE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link name="c__1"    origin = "DETRITUS_module.DET_AVAIL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tination =  "CONSUMERS_module.DET_AVAIL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link name="c__2"    origin = "DOM_module.DOM_C_AVAIL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tination =  "CONSUMERS_module.DOM_C_AVAIL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compoun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52680" y="152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MML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otivation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Unbridled expansion of human enterprise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Depletion of natural life support systems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source depletion </a:t>
            </a: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-&gt;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 global tensions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racting complex systems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remendous uncertainty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otentially disastrous consequences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Typical State Variable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524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amples of some typical state variables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(Dissolved Inorganic) Nitrogen, Phosphorus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Water (Saturated, Unsaturated, Surface, Snow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etritu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Macrophyte (Non)Photosynthetic Biomas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eposited Organic Matter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hytoplankton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piphyte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Agent Based Modeling in SM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warm agents can populate SME landscapes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ME-Swarm integration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1"/>
              </a:rPr>
              <a:t>http://iee.umces.edu/~villa/swarmsme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warm classes serve as wrappers for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ME model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ME grid layers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ME spatial variables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wo-way remote data transfer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Built on SNI simulation server architecture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iee.umces.edu/~villa/sni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73440" y="250920"/>
            <a:ext cx="2944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ulti-Grid Library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0" name=""/>
          <p:cNvSpPr/>
          <p:nvPr/>
        </p:nvSpPr>
        <p:spPr>
          <a:xfrm>
            <a:off x="211680" y="914400"/>
            <a:ext cx="8100360" cy="57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Integrates multiple spatial re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Implements space in S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ajor Component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ell: Spatially referenced area (or volume)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Grid: Distributed set of Cells + li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Frame: Hierarchy of distributed Gr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Link: Connection between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25"/>
              </a:spcAft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Schoolbook"/>
              </a:rPr>
              <a:t>Intra-Grid:  spatial contigu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25"/>
              </a:spcAft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Schoolbook"/>
              </a:rPr>
              <a:t>Inter-grid:   scaling relations or mapp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Activation Layer:   Subset of Cells in a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verage:  Mapping:: Activation Layer -&gt; flo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1760" y="1149480"/>
            <a:ext cx="2900520" cy="4989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60680" y="185760"/>
            <a:ext cx="46483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9800"/>
                <a:tab algn="l" pos="4775040"/>
                <a:tab algn="l" pos="5570640"/>
                <a:tab algn="l" pos="6367320"/>
                <a:tab algn="l" pos="7162920"/>
                <a:tab algn="l" pos="7958160"/>
                <a:tab algn="l" pos="87552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0760" y="1679400"/>
            <a:ext cx="547236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Spatial gr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partitioned over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Highly paralle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Recursive N-s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excellent load bal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Fully transparent to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Distributed Process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odel Calibration toolki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Built on MPE toolkit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http://iee.umces.edu/~villa/svp/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alculate performance measure (MPE)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stimate of match between model &amp; system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Weighted sum of tests (Bounds, Theil, Freq, etc)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arch parameter space to maximize MPE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volutionary and gradient searches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arams, tests, &amp; searches configured in SME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14560" y="258840"/>
            <a:ext cx="4809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ME Java Porta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9" name=""/>
          <p:cNvSpPr/>
          <p:nvPr/>
        </p:nvSpPr>
        <p:spPr>
          <a:xfrm>
            <a:off x="-131400" y="1025640"/>
            <a:ext cx="92088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Desktop access to remote supercomputing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Web-enabled ( using java servlet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Grid enabled ( using globus gram utility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Java applet &lt;-&gt; Java servlet &lt;-&gt; C++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Portal interfac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Workspa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odu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odel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Simulation initialization, control, &amp;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31200" cy="5286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033640" y="230040"/>
            <a:ext cx="4641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"/>
              </a:lnSpc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759120"/>
                <a:tab algn="l" pos="4511520"/>
                <a:tab algn="l" pos="5264280"/>
                <a:tab algn="l" pos="6014880"/>
                <a:tab algn="l" pos="6765840"/>
                <a:tab algn="l" pos="7520040"/>
                <a:tab algn="l" pos="827100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WorkSpace Manager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5549760" cy="6324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72320" y="5791320"/>
            <a:ext cx="3271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36000"/>
              </a:lnSpc>
              <a:spcAft>
                <a:spcPts val="488"/>
              </a:spcAft>
              <a:tabLst>
                <a:tab algn="l" pos="0"/>
                <a:tab algn="l" pos="501480"/>
                <a:tab algn="l" pos="1004760"/>
                <a:tab algn="l" pos="1506600"/>
                <a:tab algn="l" pos="2008080"/>
                <a:tab algn="l" pos="2536920"/>
                <a:tab algn="l" pos="2684520"/>
                <a:tab algn="l" pos="2841480"/>
                <a:tab algn="l" pos="3006720"/>
                <a:tab algn="l" pos="31827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-457200"/>
            <a:ext cx="3117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"/>
              </a:lnSpc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149640"/>
                <a:tab algn="l" pos="3780000"/>
                <a:tab algn="l" pos="397836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42120" y="1746360"/>
            <a:ext cx="387648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ocumentation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Document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lected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Model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Hierarchical View of model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Associated commands as 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mmand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tructure of selected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roperty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ommand 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57440" y="1519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nfigura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anager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724720" cy="6523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172200" y="-380880"/>
            <a:ext cx="247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"/>
              </a:lnSpc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19560" y="83808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Parameter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Editor</a:t>
            </a:r>
            <a:endParaRPr b="0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81" name=""/>
          <p:cNvSpPr/>
          <p:nvPr/>
        </p:nvSpPr>
        <p:spPr>
          <a:xfrm>
            <a:off x="6075720" y="2889360"/>
            <a:ext cx="304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Edit 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preadshee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05520" y="22824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imula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ntro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302440" cy="6116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638680" y="1752480"/>
            <a:ext cx="392760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43000"/>
              </a:lnSpc>
              <a:spcBef>
                <a:spcPts val="1074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ntrol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iew Mode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Trace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iew Mode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nfigure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Integrated Problem Solv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tate of the world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ossible future worlds (postitive &amp; negative)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at to tweak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xpected outcomes of policy adjustments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Hard problem science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Adaptive management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0360" y="1230480"/>
            <a:ext cx="4849920" cy="4351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84640" y="2185920"/>
            <a:ext cx="412776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72000"/>
              </a:lnSpc>
              <a:spcBef>
                <a:spcPts val="2324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3978360"/>
                <a:tab algn="l" pos="400068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47720" y="212760"/>
            <a:ext cx="58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98320" y="1539720"/>
            <a:ext cx="37465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Associates Data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with 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Creates 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anages 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34360" y="14436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ViewServer Control Pa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31760" y="1066680"/>
            <a:ext cx="3525840" cy="3479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0120" y="5019840"/>
            <a:ext cx="2722680" cy="955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289400" y="1895400"/>
            <a:ext cx="46069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3978360"/>
                <a:tab algn="l" pos="400068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79600" y="247680"/>
            <a:ext cx="3951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3040" y="3492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10200" y="22068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2D Animation Vie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42400" y="1371600"/>
            <a:ext cx="578556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2D Animat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Dynamic and manual re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ColorMap 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Data viewer (point/spreadshe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Export as GIF or 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75400" y="5362560"/>
            <a:ext cx="2722320" cy="955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240" y="1054080"/>
            <a:ext cx="5465520" cy="5302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699160" y="2151000"/>
            <a:ext cx="35211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57560" y="14436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3D Animation Vie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752480"/>
            <a:ext cx="35053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Dynamic Landsc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ariable1 -&gt; 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ariable2 -&gt;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Mouse controlled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74800" y="1243080"/>
            <a:ext cx="6894360" cy="3062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5840" y="4680000"/>
            <a:ext cx="8567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7958160"/>
                <a:tab algn="l" pos="800100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46360" y="276120"/>
            <a:ext cx="3346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Image Spreadshee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07" name=""/>
          <p:cNvSpPr/>
          <p:nvPr/>
        </p:nvSpPr>
        <p:spPr>
          <a:xfrm>
            <a:off x="162360" y="4572000"/>
            <a:ext cx="883692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Simultaneous display of variables at multiple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Useful for time series compa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nfigure: start time, time step, magnification, scal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8120" y="1585800"/>
            <a:ext cx="5403960" cy="4273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638680" y="2438280"/>
            <a:ext cx="3505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iew spat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Attach to vis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Follows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Export to Stat pack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83880" y="220680"/>
            <a:ext cx="52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Numerical Spread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3645000" cy="2666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43200" bIns="432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12120" indent="-31212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Links components: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76080" indent="-25992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irculation (OM3) 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76080" indent="-25992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Ecology (SME)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76080" indent="-259920">
              <a:lnSpc>
                <a:spcPct val="90000"/>
              </a:lnSpc>
              <a:spcAft>
                <a:spcPts val="774"/>
              </a:spcAft>
              <a:buClr>
                <a:srgbClr val="003aea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ea"/>
                </a:solidFill>
                <a:latin typeface="Century Schoolbook"/>
              </a:rPr>
              <a:t>Atmospheric coupling</a:t>
            </a:r>
            <a:r>
              <a:rPr b="0" lang="en-GB" sz="2800" spc="-1" strike="noStrike">
                <a:solidFill>
                  <a:srgbClr val="003aea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"/>
          <p:cNvSpPr/>
          <p:nvPr/>
        </p:nvSpPr>
        <p:spPr>
          <a:xfrm>
            <a:off x="82440" y="6521400"/>
            <a:ext cx="30718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920" rIns="25920" tIns="45360" bIns="45360" anchor="t">
            <a:noAutofit/>
          </a:bodyPr>
          <a:p>
            <a:pPr>
              <a:lnSpc>
                <a:spcPct val="25000"/>
              </a:lnSpc>
              <a:spcBef>
                <a:spcPts val="139"/>
              </a:spcBef>
              <a:tabLst>
                <a:tab algn="l" pos="0"/>
                <a:tab algn="l" pos="577800"/>
                <a:tab algn="l" pos="1154160"/>
                <a:tab algn="l" pos="1733400"/>
                <a:tab algn="l" pos="1790640"/>
                <a:tab algn="l" pos="1897200"/>
                <a:tab algn="l" pos="2008080"/>
                <a:tab algn="l" pos="2124000"/>
                <a:tab algn="l" pos="2247840"/>
                <a:tab algn="l" pos="2379600"/>
                <a:tab algn="l" pos="251928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GB" sz="900" spc="-1" strike="noStrike">
                <a:solidFill>
                  <a:srgbClr val="00279f"/>
                </a:solidFill>
                <a:latin typeface="Times New Roman"/>
              </a:rPr>
              <a:t>Environmental Hydrology Applications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426280" cy="412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34120" y="57150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513"/>
              </a:spcBef>
              <a:tabLst>
                <a:tab algn="l" pos="0"/>
                <a:tab algn="l" pos="534960"/>
                <a:tab algn="l" pos="1068480"/>
                <a:tab algn="l" pos="1604880"/>
                <a:tab algn="l" pos="1790640"/>
                <a:tab algn="l" pos="1897200"/>
                <a:tab algn="l" pos="2008080"/>
                <a:tab algn="l" pos="2124000"/>
                <a:tab algn="l" pos="2247840"/>
                <a:tab algn="l" pos="2379600"/>
                <a:tab algn="l" pos="251928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9760" y="206280"/>
            <a:ext cx="4597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79600"/>
                <a:tab algn="l" pos="2975040"/>
                <a:tab algn="l" pos="3570120"/>
                <a:tab algn="l" pos="3759120"/>
                <a:tab algn="l" pos="3780000"/>
                <a:tab algn="l" pos="3978360"/>
                <a:tab algn="l" pos="400068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hesapeake Bay Mode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2440" y="6521400"/>
            <a:ext cx="269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920" rIns="25920" tIns="45360" bIns="45360" anchor="t">
            <a:noAutofit/>
          </a:bodyPr>
          <a:p>
            <a:pPr>
              <a:lnSpc>
                <a:spcPct val="25000"/>
              </a:lnSpc>
              <a:spcBef>
                <a:spcPts val="139"/>
              </a:spcBef>
              <a:tabLst>
                <a:tab algn="l" pos="0"/>
                <a:tab algn="l" pos="577800"/>
                <a:tab algn="l" pos="1154160"/>
                <a:tab algn="l" pos="1733400"/>
                <a:tab algn="l" pos="1790640"/>
                <a:tab algn="l" pos="1897200"/>
                <a:tab algn="l" pos="2008080"/>
                <a:tab algn="l" pos="2124000"/>
                <a:tab algn="l" pos="2247840"/>
                <a:tab algn="l" pos="2379600"/>
                <a:tab algn="l" pos="251928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GB" sz="900" spc="-1" strike="noStrike">
                <a:solidFill>
                  <a:srgbClr val="00279f"/>
                </a:solidFill>
                <a:latin typeface="Times New Roman"/>
              </a:rPr>
              <a:t>Environmental Hydrology Applications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57840" cy="5105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90720" y="5562720"/>
            <a:ext cx="7521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437"/>
              </a:spcBef>
              <a:tabLst>
                <a:tab algn="l" pos="0"/>
                <a:tab algn="l" pos="534960"/>
                <a:tab algn="l" pos="1068480"/>
                <a:tab algn="l" pos="1604880"/>
                <a:tab algn="l" pos="2139840"/>
                <a:tab algn="l" pos="2673360"/>
                <a:tab algn="l" pos="3209760"/>
                <a:tab algn="l" pos="3747960"/>
                <a:tab algn="l" pos="4281480"/>
                <a:tab algn="l" pos="4815000"/>
                <a:tab algn="l" pos="4932360"/>
                <a:tab algn="l" pos="5095800"/>
                <a:tab algn="l" pos="5219640"/>
                <a:tab algn="l" pos="5394240"/>
                <a:tab algn="l" pos="5524560"/>
                <a:tab algn="l" pos="5708520"/>
                <a:tab algn="l" pos="5846760"/>
                <a:tab algn="l" pos="6041880"/>
                <a:tab algn="l" pos="6188040"/>
                <a:tab algn="l" pos="6394320"/>
                <a:tab algn="l" pos="6548400"/>
                <a:tab algn="l" pos="6765840"/>
                <a:tab algn="l" pos="6931080"/>
                <a:tab algn="l" pos="7161120"/>
                <a:tab algn="l" pos="733428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63720" y="268200"/>
            <a:ext cx="5245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14000"/>
              </a:lnSpc>
              <a:spcBef>
                <a:spcPts val="414"/>
              </a:spcBef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759120"/>
                <a:tab algn="l" pos="4511520"/>
                <a:tab algn="l" pos="5264280"/>
                <a:tab algn="l" pos="6014880"/>
                <a:tab algn="l" pos="6765840"/>
                <a:tab algn="l" pos="7520040"/>
                <a:tab algn="l" pos="827100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llaborative Virtual Environmen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22" name=""/>
          <p:cNvSpPr/>
          <p:nvPr/>
        </p:nvSpPr>
        <p:spPr>
          <a:xfrm>
            <a:off x="1130040" y="5676840"/>
            <a:ext cx="6903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Chesapeake Bay data in CVE with Cave5D/Virtual Dir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Example Application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verglades Landscape Mod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www.sfwmd.gov/org/erd/esr/elm/intro/welcome.htm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atuxent Landscape Mod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iee.umces.edu/PLM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Baltimore Ecosystem Study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baltimore.umbc.edu/lter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llinois TES Model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blizzard.gis.uiuc.edu/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2440" y="6521400"/>
            <a:ext cx="2925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920" rIns="25920" tIns="45360" bIns="45360" anchor="t">
            <a:noAutofit/>
          </a:bodyPr>
          <a:p>
            <a:pPr>
              <a:lnSpc>
                <a:spcPct val="25000"/>
              </a:lnSpc>
              <a:spcBef>
                <a:spcPts val="139"/>
              </a:spcBef>
              <a:tabLst>
                <a:tab algn="l" pos="0"/>
                <a:tab algn="l" pos="577800"/>
                <a:tab algn="l" pos="1154160"/>
                <a:tab algn="l" pos="1733400"/>
                <a:tab algn="l" pos="1790640"/>
                <a:tab algn="l" pos="1897200"/>
                <a:tab algn="l" pos="2008080"/>
                <a:tab algn="l" pos="2124000"/>
                <a:tab algn="l" pos="2247840"/>
                <a:tab algn="l" pos="2379600"/>
                <a:tab algn="l" pos="251928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GB" sz="900" spc="-1" strike="noStrike">
                <a:solidFill>
                  <a:srgbClr val="00279f"/>
                </a:solidFill>
                <a:latin typeface="Times New Roman"/>
              </a:rPr>
              <a:t>Environmental Hydrology Applications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157640" y="1025640"/>
            <a:ext cx="4656240" cy="3098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85760" y="2249640"/>
            <a:ext cx="4122720" cy="4073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00160" y="1087560"/>
            <a:ext cx="4444920" cy="1160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321080" y="4176720"/>
            <a:ext cx="1144800" cy="2124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483160" y="4164120"/>
            <a:ext cx="1146240" cy="2124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632640" y="4181400"/>
            <a:ext cx="1141200" cy="2114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2743200" y="1143000"/>
            <a:ext cx="4075200" cy="4071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82920" y="270000"/>
            <a:ext cx="45068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3978360"/>
                <a:tab algn="l" pos="400068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Environmental Hydrology</a:t>
            </a:r>
            <a:endParaRPr b="0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ME Distribution 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he SME home page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http://iee.umces.edu/SME3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Includes: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Overview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chnical documentation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ublications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ource code (C++ and java)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cience in Service of Society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mprehensive systems approach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ceptual pluralism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roblem driver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Multiscale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ntegrated modeling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Links with polic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Modeling as consensus building too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mmunicating uncertainty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llaborative (Visible) Model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alistic models require multiple team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odelers typically not computer scientist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take holders must be include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mmunication to a wide audien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Three Stage Modeling Proces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coping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ensus building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search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Understanding dynamic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anagement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xploring scenario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odeling Collaboratory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tructivist learning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aradigm expansion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(narrow,linear,static) -&gt;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(broad,nonlinear,dynamic)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flict resolution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ensus building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llective decision making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evelop management scenarios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60" name="PE01561_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25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upporting Collaborative Model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raphical modeling too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odular model develop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ransparent high performance computing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grated data ac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grated visualiza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Variety of formalisms and frame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904760" y="3805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Graphical Model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"/>
          <p:cNvSpPr/>
          <p:nvPr/>
        </p:nvSpPr>
        <p:spPr>
          <a:xfrm>
            <a:off x="2395440" y="204840"/>
            <a:ext cx="4170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400" y="1676520"/>
            <a:ext cx="855792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odel viewed and manipulated graph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Opens model development to non-program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Facilitates rapid development of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Enforces modeling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Facilitates collaboration in model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Graphical representation serves as a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7:29:16Z</dcterms:created>
  <dc:creator>Thomas P Maxwell</dc:creator>
  <dc:description/>
  <dc:language>en-US</dc:language>
  <cp:lastModifiedBy>Thomas P Maxwell</cp:lastModifiedBy>
  <dcterms:modified xsi:type="dcterms:W3CDTF">2000-09-29T18:10:19Z</dcterms:modified>
  <cp:revision>136</cp:revision>
  <dc:subject/>
  <dc:title>PowerPoint Presentation</dc:title>
</cp:coreProperties>
</file>