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8320" y="914040"/>
            <a:ext cx="8345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8320" y="3632760"/>
            <a:ext cx="8345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8320" y="914040"/>
            <a:ext cx="40723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4760" y="914040"/>
            <a:ext cx="40723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8320" y="3632760"/>
            <a:ext cx="40723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4760" y="3632760"/>
            <a:ext cx="40723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8320" y="914040"/>
            <a:ext cx="268704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0000" y="914040"/>
            <a:ext cx="268704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42040" y="914040"/>
            <a:ext cx="268704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8320" y="3632760"/>
            <a:ext cx="268704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0000" y="3632760"/>
            <a:ext cx="268704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42040" y="3632760"/>
            <a:ext cx="268704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8320" y="914040"/>
            <a:ext cx="834552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8320" y="914040"/>
            <a:ext cx="834552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8320" y="914040"/>
            <a:ext cx="407232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74760" y="914040"/>
            <a:ext cx="407232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455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8320" y="914040"/>
            <a:ext cx="40723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74760" y="914040"/>
            <a:ext cx="407232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8320" y="3632760"/>
            <a:ext cx="40723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8320" y="914040"/>
            <a:ext cx="834552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8320" y="914040"/>
            <a:ext cx="407232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914040"/>
            <a:ext cx="40723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74760" y="3632760"/>
            <a:ext cx="40723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8320" y="914040"/>
            <a:ext cx="40723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914040"/>
            <a:ext cx="40723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8320" y="3632760"/>
            <a:ext cx="8345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8320" y="914040"/>
            <a:ext cx="8345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8320" y="3632760"/>
            <a:ext cx="8345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8320" y="914040"/>
            <a:ext cx="40723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74760" y="914040"/>
            <a:ext cx="40723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8320" y="3632760"/>
            <a:ext cx="40723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74760" y="3632760"/>
            <a:ext cx="40723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8320" y="914040"/>
            <a:ext cx="268704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20000" y="914040"/>
            <a:ext cx="268704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42040" y="914040"/>
            <a:ext cx="268704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8320" y="3632760"/>
            <a:ext cx="268704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20000" y="3632760"/>
            <a:ext cx="268704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42040" y="3632760"/>
            <a:ext cx="268704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8320" y="914040"/>
            <a:ext cx="834552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8320" y="914040"/>
            <a:ext cx="407232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4760" y="914040"/>
            <a:ext cx="407232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455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8320" y="914040"/>
            <a:ext cx="40723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4760" y="914040"/>
            <a:ext cx="407232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8320" y="3632760"/>
            <a:ext cx="40723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8320" y="914040"/>
            <a:ext cx="407232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914040"/>
            <a:ext cx="40723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4760" y="3632760"/>
            <a:ext cx="40723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8320" y="914040"/>
            <a:ext cx="40723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914040"/>
            <a:ext cx="40723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8320" y="3632760"/>
            <a:ext cx="8345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596880" cy="5968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96880" y="0"/>
            <a:ext cx="8547120" cy="596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03200" y="198360"/>
            <a:ext cx="193680" cy="198360"/>
          </a:xfrm>
          <a:prstGeom prst="rect">
            <a:avLst/>
          </a:prstGeom>
          <a:solidFill>
            <a:srgbClr val="f0a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98320" y="914040"/>
            <a:ext cx="834552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360">
              <a:spcBef>
                <a:spcPts val="18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360">
              <a:spcBef>
                <a:spcPts val="1874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336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6336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6336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6336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3164040"/>
            <a:chOff x="0" y="0"/>
            <a:chExt cx="9144000" cy="316404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2805120" cy="31640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805120" y="0"/>
              <a:ext cx="6338880" cy="316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478240" y="1127160"/>
              <a:ext cx="326880" cy="35244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20600" y="485280"/>
            <a:ext cx="6124680" cy="1868760"/>
          </a:xfrm>
          <a:prstGeom prst="rect">
            <a:avLst/>
          </a:prstGeom>
          <a:noFill/>
          <a:ln w="0">
            <a:noFill/>
          </a:ln>
        </p:spPr>
        <p:txBody>
          <a:bodyPr lIns="36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29080" y="6356520"/>
            <a:ext cx="361476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72880" y="6022800"/>
            <a:ext cx="29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xecutive Responsib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6080" y="1765440"/>
            <a:ext cx="318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528920"/>
                <a:tab algn="l" pos="2004840"/>
                <a:tab algn="l" pos="2481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assification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ding</a:t>
            </a:r>
            <a:br>
              <a:rPr sz="1000"/>
            </a:b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tatus                                Board  Regional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12840" y="2332080"/>
          <a:ext cx="2993760" cy="2506680"/>
        </p:xfrm>
        <a:graphic>
          <a:graphicData uri="http://schemas.openxmlformats.org/drawingml/2006/table">
            <a:tbl>
              <a:tblPr/>
              <a:tblGrid>
                <a:gridCol w="1598400"/>
                <a:gridCol w="436680"/>
                <a:gridCol w="509760"/>
                <a:gridCol w="179280"/>
                <a:gridCol w="269640"/>
              </a:tblGrid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ro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AS Pe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onably Controll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t. disagre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 Scor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x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 New Findin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 New Findings Ra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304920" y="743040"/>
            <a:ext cx="8686800" cy="556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104760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74304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it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50480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12392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ontent: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(Mandatory in case of red traffic light – short explan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04920" y="1770120"/>
            <a:ext cx="86817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598176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24240" y="1504800"/>
            <a:ext cx="0" cy="446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54640" y="1515960"/>
            <a:ext cx="0" cy="446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15080" y="5970600"/>
            <a:ext cx="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0760" y="1530360"/>
            <a:ext cx="294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. Status G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06600" y="1530360"/>
            <a:ext cx="292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01920" y="1784520"/>
            <a:ext cx="193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dit Finding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01920" y="3003480"/>
            <a:ext cx="206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commenda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01920" y="5038560"/>
            <a:ext cx="335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sponsible: </a:t>
            </a:r>
            <a:br>
              <a:rPr sz="1200"/>
            </a:br>
            <a:br>
              <a:rPr sz="8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ference Implement. Shee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61040" y="5997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71800" y="60102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oc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63960" y="599616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di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10080" y="74304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74304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 of Audit: MM/J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848720" y="74304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924680" y="7430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age 1/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14880" y="5024520"/>
            <a:ext cx="56782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29440" y="5038560"/>
            <a:ext cx="291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sponsible: </a:t>
            </a:r>
            <a:br>
              <a:rPr sz="1200"/>
            </a:br>
            <a:br>
              <a:rPr sz="8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ference Implement. Shee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36840" y="2951280"/>
            <a:ext cx="56498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229440" y="1795320"/>
            <a:ext cx="200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dit Finding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29440" y="2978280"/>
            <a:ext cx="212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commenda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37360" y="153036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6080" y="1973160"/>
            <a:ext cx="1515960" cy="3445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9600" y="2317680"/>
            <a:ext cx="30146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9880" y="5662440"/>
            <a:ext cx="86932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14640" y="5958000"/>
            <a:ext cx="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840" y="5661000"/>
            <a:ext cx="56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E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1320" y="5761080"/>
            <a:ext cx="111240" cy="11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  <a:effectLst>
            <a:outerShdw dist="17819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7640" y="5707080"/>
            <a:ext cx="74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333333"/>
                </a:solidFill>
                <a:latin typeface="Arial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03520" y="5761080"/>
            <a:ext cx="110880" cy="11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  <a:effectLst>
            <a:outerShdw dist="17819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81280" y="5707080"/>
            <a:ext cx="60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333333"/>
                </a:solidFill>
                <a:latin typeface="Arial"/>
              </a:rPr>
              <a:t>Deci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44760" y="5761080"/>
            <a:ext cx="111240" cy="11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  <a:effectLst>
            <a:outerShdw dist="17819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22160" y="5707080"/>
            <a:ext cx="49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333333"/>
                </a:solidFill>
                <a:latin typeface="Arial"/>
              </a:rPr>
              <a:t>A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4480" y="5661000"/>
            <a:ext cx="56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E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82960" y="5761080"/>
            <a:ext cx="111240" cy="11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  <a:effectLst>
            <a:outerShdw dist="17819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59280" y="5707080"/>
            <a:ext cx="74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333333"/>
                </a:solidFill>
                <a:latin typeface="Arial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45160" y="5761080"/>
            <a:ext cx="110880" cy="11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  <a:effectLst>
            <a:outerShdw dist="17819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22920" y="5707080"/>
            <a:ext cx="60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333333"/>
                </a:solidFill>
                <a:latin typeface="Arial"/>
              </a:rPr>
              <a:t>Deci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5761080"/>
            <a:ext cx="111240" cy="11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  <a:effectLst>
            <a:outerShdw dist="17819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3800" y="5707080"/>
            <a:ext cx="49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333333"/>
                </a:solidFill>
                <a:latin typeface="Arial"/>
              </a:rPr>
              <a:t>A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37360" y="5661000"/>
            <a:ext cx="56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E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65840" y="5761080"/>
            <a:ext cx="111240" cy="11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  <a:effectLst>
            <a:outerShdw dist="17819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42160" y="5707080"/>
            <a:ext cx="74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333333"/>
                </a:solidFill>
                <a:latin typeface="Arial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8040" y="5761080"/>
            <a:ext cx="110880" cy="11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  <a:effectLst>
            <a:outerShdw dist="17819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705800" y="5707080"/>
            <a:ext cx="60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333333"/>
                </a:solidFill>
                <a:latin typeface="Arial"/>
              </a:rPr>
              <a:t>Deci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69280" y="5761080"/>
            <a:ext cx="111240" cy="11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  <a:effectLst>
            <a:outerShdw dist="17819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446680" y="5707080"/>
            <a:ext cx="49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333333"/>
                </a:solidFill>
                <a:latin typeface="Arial"/>
              </a:rPr>
              <a:t>A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117920" y="-2376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Overall Follow-up R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7902720" y="228240"/>
            <a:ext cx="1009440" cy="314280"/>
            <a:chOff x="7902720" y="228240"/>
            <a:chExt cx="1009440" cy="314280"/>
          </a:xfrm>
        </p:grpSpPr>
        <p:sp>
          <p:nvSpPr>
            <p:cNvPr id="141" name=""/>
            <p:cNvSpPr/>
            <p:nvPr/>
          </p:nvSpPr>
          <p:spPr>
            <a:xfrm rot="10800000">
              <a:off x="8310600" y="274320"/>
              <a:ext cx="209520" cy="228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0800000">
              <a:off x="8024760" y="274320"/>
              <a:ext cx="20952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0800000">
              <a:off x="7902720" y="227880"/>
              <a:ext cx="1009440" cy="314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0800000">
              <a:off x="8618400" y="274320"/>
              <a:ext cx="209520" cy="2286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5084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33"/>
                </a:solidFill>
                <a:latin typeface="Arial Black"/>
              </a:rPr>
              <a:t>GIAS – Follow-up Board Summary No. .... </a:t>
            </a:r>
            <a:br>
              <a:rPr sz="1400"/>
            </a:br>
            <a:r>
              <a:rPr b="0" lang="en-US" sz="1000" spc="-1" strike="noStrike">
                <a:solidFill>
                  <a:srgbClr val="003366"/>
                </a:solidFill>
                <a:latin typeface="Arial Black"/>
              </a:rPr>
              <a:t>Conducted in Accordance with the International Standards </a:t>
            </a:r>
            <a:br>
              <a:rPr sz="1000"/>
            </a:br>
            <a:r>
              <a:rPr b="0" lang="en-US" sz="1000" spc="-1" strike="noStrike">
                <a:solidFill>
                  <a:srgbClr val="003366"/>
                </a:solidFill>
                <a:latin typeface="Arial Black"/>
              </a:rPr>
              <a:t>for the Professional Practice of Internal Auditing</a:t>
            </a:r>
            <a:endParaRPr b="0" lang="en-US" sz="10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46" name=""/>
          <p:cNvSpPr/>
          <p:nvPr/>
        </p:nvSpPr>
        <p:spPr>
          <a:xfrm rot="1812000">
            <a:off x="5600880" y="2540160"/>
            <a:ext cx="2070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60240" indent="-660240">
              <a:lnSpc>
                <a:spcPct val="100000"/>
              </a:lnSpc>
              <a:spcBef>
                <a:spcPts val="1001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16840" y="5996160"/>
            <a:ext cx="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2880" y="5038560"/>
            <a:ext cx="178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verall Follow-up  R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738520" y="5111280"/>
            <a:ext cx="209520" cy="228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2452680" y="5111280"/>
            <a:ext cx="20952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0800000">
            <a:off x="2329920" y="5065560"/>
            <a:ext cx="100980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0800000">
            <a:off x="3046320" y="5111280"/>
            <a:ext cx="209520" cy="2286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0800000">
            <a:off x="2720520" y="3877920"/>
            <a:ext cx="198360" cy="228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0800000">
            <a:off x="2450880" y="3877920"/>
            <a:ext cx="19836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0800000">
            <a:off x="2335320" y="3831840"/>
            <a:ext cx="9554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0800000">
            <a:off x="3012840" y="3877920"/>
            <a:ext cx="198360" cy="2286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330280" y="4454280"/>
            <a:ext cx="1009440" cy="326520"/>
            <a:chOff x="2330280" y="4454280"/>
            <a:chExt cx="1009440" cy="326520"/>
          </a:xfrm>
        </p:grpSpPr>
        <p:sp>
          <p:nvSpPr>
            <p:cNvPr id="158" name=""/>
            <p:cNvSpPr/>
            <p:nvPr/>
          </p:nvSpPr>
          <p:spPr>
            <a:xfrm rot="10800000">
              <a:off x="2738160" y="4502520"/>
              <a:ext cx="209520" cy="237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0800000">
              <a:off x="2452320" y="4502520"/>
              <a:ext cx="209520" cy="23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0800000">
              <a:off x="2330280" y="4454280"/>
              <a:ext cx="100944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0800000">
              <a:off x="3045960" y="4502520"/>
              <a:ext cx="209520" cy="2376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4T15:52:12Z</dcterms:created>
  <dc:creator/>
  <dc:description/>
  <dc:language>en-US</dc:language>
  <cp:lastModifiedBy>D047510</cp:lastModifiedBy>
  <dcterms:modified xsi:type="dcterms:W3CDTF">2007-10-09T13:28:16Z</dcterms:modified>
  <cp:revision>6</cp:revision>
  <dc:subject/>
  <dc:title>GIAS – Follow-up Board Summary No. ....  Conducted in Accordance with the International Standards  for the Professional Practice of Internal Auditing</dc:title>
</cp:coreProperties>
</file>