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455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8320" y="914040"/>
            <a:ext cx="8345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8320" y="3632760"/>
            <a:ext cx="8345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455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8320" y="914040"/>
            <a:ext cx="40723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4760" y="914040"/>
            <a:ext cx="40723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8320" y="3632760"/>
            <a:ext cx="40723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4760" y="3632760"/>
            <a:ext cx="40723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455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8320" y="914040"/>
            <a:ext cx="268704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20000" y="914040"/>
            <a:ext cx="268704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2040" y="914040"/>
            <a:ext cx="268704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8320" y="3632760"/>
            <a:ext cx="268704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20000" y="3632760"/>
            <a:ext cx="268704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2040" y="3632760"/>
            <a:ext cx="268704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455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8320" y="914040"/>
            <a:ext cx="834552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 algn="ctr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455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8320" y="914040"/>
            <a:ext cx="834552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455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8320" y="914040"/>
            <a:ext cx="407232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4760" y="914040"/>
            <a:ext cx="407232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455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3360" y="114480"/>
            <a:ext cx="834552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455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8320" y="914040"/>
            <a:ext cx="40723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4760" y="914040"/>
            <a:ext cx="407232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8320" y="3632760"/>
            <a:ext cx="40723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455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8320" y="914040"/>
            <a:ext cx="407232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4760" y="914040"/>
            <a:ext cx="40723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4760" y="3632760"/>
            <a:ext cx="40723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455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8320" y="914040"/>
            <a:ext cx="40723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4760" y="914040"/>
            <a:ext cx="40723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8320" y="3632760"/>
            <a:ext cx="8345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751800"/>
            <a:chOff x="0" y="0"/>
            <a:chExt cx="9144000" cy="67518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596880" cy="59688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96880" y="0"/>
              <a:ext cx="8547120" cy="596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03200" y="198360"/>
              <a:ext cx="193680" cy="198360"/>
            </a:xfrm>
            <a:prstGeom prst="rect">
              <a:avLst/>
            </a:prstGeom>
            <a:solidFill>
              <a:srgbClr val="f0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98320" y="6656400"/>
              <a:ext cx="3573720" cy="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46160" indent="-146160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455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 Black"/>
              </a:rPr>
              <a:t>Click to edit the title text format</a:t>
            </a: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598320" y="914040"/>
            <a:ext cx="834552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3360" indent="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360">
              <a:spcBef>
                <a:spcPts val="18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360">
              <a:spcBef>
                <a:spcPts val="1874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336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6336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6336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6336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69600" y="87120"/>
            <a:ext cx="8397720" cy="4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33"/>
                </a:solidFill>
                <a:latin typeface="Arial Black"/>
              </a:rPr>
              <a:t>GIAS – Board Summary No. ....</a:t>
            </a:r>
            <a:br>
              <a:rPr sz="1800"/>
            </a:br>
            <a:r>
              <a:rPr b="0" lang="en-US" sz="1100" spc="-1" strike="noStrike">
                <a:solidFill>
                  <a:srgbClr val="003366"/>
                </a:solidFill>
                <a:latin typeface="Arial Black"/>
              </a:rPr>
              <a:t>Conducted in Accordance with the International Standards 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Arial Black"/>
              </a:rPr>
              <a:t>for the Professional Practice of Internal Auditing</a:t>
            </a:r>
            <a:endParaRPr b="0" lang="en-US" sz="11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723960"/>
            <a:ext cx="8686800" cy="556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028880"/>
            <a:ext cx="8686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72396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Titl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1486080"/>
            <a:ext cx="8686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104840"/>
            <a:ext cx="800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ontent 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1790640"/>
            <a:ext cx="8686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5934240"/>
            <a:ext cx="8686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33800" y="1486080"/>
            <a:ext cx="0" cy="4435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134040" y="1476360"/>
            <a:ext cx="0" cy="444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86040" y="5937120"/>
            <a:ext cx="0" cy="34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913200" y="5938920"/>
            <a:ext cx="0" cy="34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156204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33800" y="1562040"/>
            <a:ext cx="259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34040" y="1562040"/>
            <a:ext cx="281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3114720"/>
            <a:ext cx="8686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1790640"/>
            <a:ext cx="274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udit Finding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33800" y="1790640"/>
            <a:ext cx="290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udit Finding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134040" y="179064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udit Finding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3114720"/>
            <a:ext cx="277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ecommendatio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33800" y="3114720"/>
            <a:ext cx="296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ecommendatio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34040" y="3114720"/>
            <a:ext cx="29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ecommendatio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5025960"/>
            <a:ext cx="2801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esponsible:</a:t>
            </a:r>
            <a:br>
              <a:rPr sz="1200"/>
            </a:br>
            <a:br>
              <a:rPr sz="8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eference Implement. Shee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33800" y="5025960"/>
            <a:ext cx="3002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esponsible: </a:t>
            </a:r>
            <a:br>
              <a:rPr sz="1200"/>
            </a:br>
            <a:br>
              <a:rPr sz="8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eference Implement. Shee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134040" y="5025960"/>
            <a:ext cx="2819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esponsible: </a:t>
            </a:r>
            <a:br>
              <a:rPr sz="1200"/>
            </a:br>
            <a:br>
              <a:rPr sz="8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eference Implement. Shee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2840" y="59626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32120" y="59626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oc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5962680"/>
            <a:ext cx="259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udit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10080" y="72396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15000" y="72396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e of Audit: MM/J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848720" y="72396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924680" y="723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/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4984920"/>
            <a:ext cx="8686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5638680"/>
            <a:ext cx="8686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12840" y="5641920"/>
            <a:ext cx="56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E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41320" y="5742000"/>
            <a:ext cx="111240" cy="11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  <a:effectLst>
            <a:outerShdw dist="17819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7640" y="5688000"/>
            <a:ext cx="743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333333"/>
                </a:solidFill>
                <a:latin typeface="Arial"/>
              </a:rPr>
              <a:t>Inform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703520" y="5742000"/>
            <a:ext cx="110880" cy="11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  <a:effectLst>
            <a:outerShdw dist="17819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81280" y="5688000"/>
            <a:ext cx="605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333333"/>
                </a:solidFill>
                <a:latin typeface="Arial"/>
              </a:rPr>
              <a:t>Decis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444760" y="5742000"/>
            <a:ext cx="111240" cy="11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  <a:effectLst>
            <a:outerShdw dist="17819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522160" y="5688000"/>
            <a:ext cx="497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333333"/>
                </a:solidFill>
                <a:latin typeface="Arial"/>
              </a:rPr>
              <a:t>A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154320" y="5641920"/>
            <a:ext cx="56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E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683160" y="5742000"/>
            <a:ext cx="110880" cy="11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  <a:effectLst>
            <a:outerShdw dist="17819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59120" y="5688000"/>
            <a:ext cx="743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333333"/>
                </a:solidFill>
                <a:latin typeface="Arial"/>
              </a:rPr>
              <a:t>Inform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45000" y="5742000"/>
            <a:ext cx="111240" cy="11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  <a:effectLst>
            <a:outerShdw dist="17819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23120" y="5688000"/>
            <a:ext cx="605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333333"/>
                </a:solidFill>
                <a:latin typeface="Arial"/>
              </a:rPr>
              <a:t>Decis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286240" y="5742000"/>
            <a:ext cx="111240" cy="11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  <a:effectLst>
            <a:outerShdw dist="17819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63640" y="5688000"/>
            <a:ext cx="497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333333"/>
                </a:solidFill>
                <a:latin typeface="Arial"/>
              </a:rPr>
              <a:t>A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32600" y="5641920"/>
            <a:ext cx="56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E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61080" y="5742000"/>
            <a:ext cx="111240" cy="11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  <a:effectLst>
            <a:outerShdw dist="17819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737400" y="5688000"/>
            <a:ext cx="743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333333"/>
                </a:solidFill>
                <a:latin typeface="Arial"/>
              </a:rPr>
              <a:t>Inform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523280" y="5742000"/>
            <a:ext cx="110880" cy="11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  <a:effectLst>
            <a:outerShdw dist="17819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01040" y="5688000"/>
            <a:ext cx="605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333333"/>
                </a:solidFill>
                <a:latin typeface="Arial"/>
              </a:rPr>
              <a:t>Decis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264520" y="5742000"/>
            <a:ext cx="111240" cy="11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  <a:effectLst>
            <a:outerShdw dist="17819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341920" y="5688000"/>
            <a:ext cx="497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333333"/>
                </a:solidFill>
                <a:latin typeface="Arial"/>
              </a:rPr>
              <a:t>A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272000" y="-14400"/>
            <a:ext cx="191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Overall Audit Stat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7902720" y="228240"/>
            <a:ext cx="1009440" cy="314280"/>
            <a:chOff x="7902720" y="228240"/>
            <a:chExt cx="1009440" cy="314280"/>
          </a:xfrm>
        </p:grpSpPr>
        <p:sp>
          <p:nvSpPr>
            <p:cNvPr id="100" name=""/>
            <p:cNvSpPr/>
            <p:nvPr/>
          </p:nvSpPr>
          <p:spPr>
            <a:xfrm rot="10800000">
              <a:off x="8310600" y="274320"/>
              <a:ext cx="209520" cy="228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10800000">
              <a:off x="8024760" y="274320"/>
              <a:ext cx="20952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10800000">
              <a:off x="7902720" y="227880"/>
              <a:ext cx="1009440" cy="314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10800000">
              <a:off x="8618400" y="274320"/>
              <a:ext cx="209520" cy="2286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4T14:48:24Z</dcterms:created>
  <dc:creator/>
  <dc:description/>
  <dc:language>en-US</dc:language>
  <cp:lastModifiedBy>D047510</cp:lastModifiedBy>
  <dcterms:modified xsi:type="dcterms:W3CDTF">2007-10-09T13:15:36Z</dcterms:modified>
  <cp:revision>5</cp:revision>
  <dc:subject/>
  <dc:title/>
</cp:coreProperties>
</file>