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838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41008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838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93A277-DA48-416B-9B75-96755431F27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960" y="835200"/>
            <a:ext cx="51152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835200"/>
            <a:ext cx="24368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ate of Audit: MM/J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835200"/>
            <a:ext cx="112212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Page 1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960" y="1127160"/>
            <a:ext cx="86788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96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4560" y="1585800"/>
            <a:ext cx="28922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7680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96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84560" y="1903320"/>
            <a:ext cx="289224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7680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4560" y="3797280"/>
            <a:ext cx="289224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7680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1960" y="5918040"/>
            <a:ext cx="17748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Date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2360" y="5918040"/>
            <a:ext cx="37670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f. Impl. Report  (if applicable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6760" y="5918040"/>
            <a:ext cx="314352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Audi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960" y="835200"/>
            <a:ext cx="8693280" cy="5513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600" y="87120"/>
            <a:ext cx="8397720" cy="4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 Black"/>
              </a:rPr>
              <a:t>Global Internal Audit Services – Priority Board Issue no. ....</a:t>
            </a:r>
            <a:r>
              <a:rPr b="0" lang="de-DE" sz="1900" spc="-1" strike="noStrike">
                <a:solidFill>
                  <a:srgbClr val="333333"/>
                </a:solidFill>
                <a:latin typeface="Arial Black"/>
              </a:rPr>
              <a:t> </a:t>
            </a: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Conducted in Accordance with the International Standards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for the Professional Practice of Internal Auditing</a:t>
            </a:r>
            <a:endParaRPr b="0" lang="en-US" sz="11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5:16:14Z</dcterms:created>
  <dc:creator/>
  <dc:description/>
  <dc:language>en-US</dc:language>
  <cp:lastModifiedBy>D047510</cp:lastModifiedBy>
  <dcterms:modified xsi:type="dcterms:W3CDTF">2007-10-09T13:19:13Z</dcterms:modified>
  <cp:revision>6</cp:revision>
  <dc:subject/>
  <dc:title>Global Internal Audit Services – Priority Board Issue no. .... Conducted in Accordance with the International Standards  for the Professional Practice of Internal Auditing</dc:title>
</cp:coreProperties>
</file>