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61E4-84C2-4FC5-BBBE-CF563626B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EB2C-721A-4352-B573-07F63F71A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3D55-50A2-4220-9DC7-8CD3A51AA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B790-58B1-4F06-837C-0F760F18A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83245-3E97-44EF-AE1C-6C22FE98F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08137-6233-4F71-98DA-90F025792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03A7A-A663-4A1A-8AC8-A0FD86058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B2F13-E6AC-468C-AB88-C17BE3922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E0F01-16D3-43CE-B6C5-17AAEFA3A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7E0F1-1CD8-4101-BC91-FA86D447E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05135-4F20-424B-8A85-0A57C294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675A-FB7B-4C82-B446-A4CBED160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B95D3-CA8B-49B9-8FB5-DAC572C5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85D00-83BA-43FA-8B5E-D7118BB0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3529F-4361-4D9A-ABD8-BFF3D72E2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DBD6E-B497-468D-B532-A35D9E442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4B689-5D1C-473A-A08C-A04E8C70E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E96E-CFCA-47CF-8ED7-33AD6124E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E4B6-B5E1-4CB9-8159-F4AFB1DB6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284A-D78F-4268-8C23-85F2EB52A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5666-A658-4FC8-B9C2-377D9BF7C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0BE2-70D3-4B03-BD9E-2979FB2E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FCC2-3C69-40A0-944F-D2561592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AC8C-34FE-40C8-BC2E-2CC3754C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8BD82-1814-44CC-9C20-BD410E8543B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7F345-9D96-466C-9746-F86EC0DC92C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ssion Pla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apter Nin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tail and Office properties as an investment alternativ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scuss two retail and two office cas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ni-Case on the DC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es of Retail Propert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anchored Cen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retail strip center which is smaller than a neighborhood center: does not have a primary tena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nk of some of near camp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utparc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parate tract of land at front of shopping cent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ypically includes a restaurant, bank, or movie theat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es of Retail Propert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gional Cen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large mall containing 400,000 square feet of leasable space (and abov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ually has one to three major department sto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se types of properties are typically too large for the average real estate invest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so require a lot of maintenance and property management due to the size of the proper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arious Shopping Cent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838080" y="2362320"/>
          <a:ext cx="7693200" cy="3724200"/>
        </p:xfrm>
        <a:graphic>
          <a:graphicData uri="http://schemas.openxmlformats.org/drawingml/2006/table">
            <a:tbl>
              <a:tblPr/>
              <a:tblGrid>
                <a:gridCol w="2935440"/>
                <a:gridCol w="1819080"/>
                <a:gridCol w="1573200"/>
                <a:gridCol w="1365480"/>
              </a:tblGrid>
              <a:tr h="782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Primary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Type of Shopping Center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Size (Sq. Ft.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Anchor Ratio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Trade Are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20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eighborhood Center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0,000-150,00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0-50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 mile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ashion/Specialty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0,000-250,00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0-50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-15 mile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20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mmunity Center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0,000-350,00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0-60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-6 mile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gional Center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00,000-800,00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0-70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-10 mile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ower Center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50,000-600,00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0-90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-10 mile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20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per-Regional Center (Mall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00,000 +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0-70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-25 mile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hanges in Shopping Center Retur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ey Factor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petition entering marke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utdated design and layou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hanges in trade area income leve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hanges in population dens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hanges in highway construction/traffic patter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jecting Retail Dema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imary Trading Area:  Measure of potential revenue of tenants in property from geographic boundary where 60-80% of sales in a given area origina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ased on property size, goods/services offered, population density, &amp; transportation facilit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re competition equals lower possible revenu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ood for choosing locations in a given mark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cation of Retail Propert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ould be near residential neighborhood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uilding should be facing the road vs. perpendicular to the ro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ould be located at an interse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top light is a big plu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ould be convenient to major highway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r both consumers and product deliveri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oing Home side of the road (grocerie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oing to Work side of road (coffee, bakerie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mon Area Maintenance (CAM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ypically landlords require their retail tenants to pay for their own utilities, and tenants typically will pay for taxes, insurance, and maintenance of the property on a pro-rata basi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landlord pays for these expenses, and then is reimbursed by the tena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l of this is spelled out in the leas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cond Story Retail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8150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s is very hard to lea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ustomers do not want to climb stairs or take elevators in most ca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metimes what was supposed to be second story retail space is converted into office space or possibly apart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some metro locations, two story retail space is successfu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rt Lee, NJ examp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. Catherine’s Street in Montre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tail Tenant Mix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nants vary from grocery store chains, drug stores, dollar stores, restaurants, hobby stores, et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ich drug stores will survive?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would you find out about the financial strength of the tenant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en would be a crucial time to find this ou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ember QQD here…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enant Improvements &amp; Leasing Commissions in DCF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nant Improvement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stimate probability of renewal vs. new lease and the costs per square foot for ea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lculate weighted average of above x sq ft of spa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clude inflation/growth factor depending on when in holding period expense is estimated to occu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ffice Vs. Retai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ustomers of tenants in office space visit the property due to having appoint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tail customers typically are spur of the moment visitors so the location is much more important for retail vs. off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gress: Entrance into the proper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gress: Exit from the proper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oth should be clear, visible from the road, and located near major roads and other retail shopping cent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enant Improvements &amp; Leasing Commissions in DCF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asing Commission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stimate probability of renewal vs. new lease and the costs as % of EGI for spa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alculate weighted average of above x % of EGI of space x length of leas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o inflation/growth factor as this is included in DCF estimation of EGI for a given yea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ould survey market averages for inputs to include cost of renewal and new lease and length of leas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d of Session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ffice Characteristic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ass A, B, &amp; C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pecifies features based on construction materials used, floor and roof structures, fireproofing, quality of interior finish/amenities, and loc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ass A is typically skyscraper qua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inforced concrete framing, superior location and access, good condition and professional manage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ass B is typically suburban office buildings, with brick façade, and professionally landscap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ass C is typically older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15-25 years),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block walls, notable physical deterioration (or converted retail spac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ther Office Characteristic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uld be a medical office build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ould be located near the hospit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uld be a professional office build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ould be located in office park or in neighborhoods of similar quality and uti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ould be located near residential areas where employees of the tenants liv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uld be a downtown office build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ould have adequate parking, be near hotels, restaurants, and have good access from major highway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ffice Defini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oss Building Are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otal square footage of the building, measuring from outside wall to outside wal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t Rentable Are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actual useable area.  The gross area less areas not rented by tenant (restrooms, public corridors, janitor closets, etc.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bsorp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net amount of additional office space that is leased in a year’s time.  Can be positive or negative (if new product is built but not leased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ffice Considera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bestos has been a major problem in attaining financing by commercial ban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hould consider the age and condition of the elevato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age and efficiency of the HVAC, roof, and the utili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se terms are typically 3-5 yea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nants include doctors, lawyers, insurance, banks, other service sector employ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tail Propert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 mentioned earlier, retail properties are more dependent on the whims of the customers (rather than appointment oriented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thing like that appointment at McDonald’s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chor tena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ational or regional chain store that is the primary draw for customers to the proper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-Line tena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upporting players relative to the ancho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omino Claus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st retail leases will specify that if the anchor tenant leaves, the other supporting tenants have the ability to break their leases early (for a fe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so known as a “Go Dark Clause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ales per square foo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s is a key measure of performance for retail tenants.  Investors can request last few years of sales history to gauge success at location (and the probability that a tenant will renew their leas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es of Retail Propert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ighborhood Cen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opping center containing up to 150,000 sq.ft. of leasable spa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ypically will have an anchor (Food Lion), strong supporting players (Dollar General), and local mom &amp; pop tenants (local nail salon or local restauran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re are many of these in most communit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ould determine if the property is experiencing a positive trend line or a negative trend lin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6T02:03:39Z</dcterms:created>
  <dc:creator>leila</dc:creator>
  <dc:description/>
  <dc:language>en-US</dc:language>
  <cp:lastModifiedBy>G Jason Goddard</cp:lastModifiedBy>
  <dcterms:modified xsi:type="dcterms:W3CDTF">2012-03-12T13:33:45Z</dcterms:modified>
  <cp:revision>48</cp:revision>
  <dc:subject/>
  <dc:title>Tonight’s Plan</dc:title>
</cp:coreProperties>
</file>