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C79-4177-4B6D-BCD4-D2047340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984-07CD-488C-BFA4-6DB49C63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6DA-A656-416E-A081-5726FBB3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543-511C-4CBA-83FF-CF0FDC47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12BD-6761-46E6-8441-70CD6696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2AA7-D2FE-4488-9AED-1A039B84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D4B5-D837-4152-99BB-BECCBAC4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79D8-66F3-47EB-BDE7-4C6B83BF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8C18-FCA0-4068-A058-CC2B5705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3FF8-9399-4FA2-A606-6070C7DA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C4C3-A48E-4E8B-A274-C7E10153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51F-BA6D-414B-91D0-461C9739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D2AC-777E-4385-A4CC-F709EFE3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BA29-0457-44F3-B599-2232E841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7081-FFC6-4BCF-9AAA-A3D3865B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0052-BC83-4E91-839C-BDD246FF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8381-FBB4-40AF-9624-30735E90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42A-95CE-44B3-A0D8-CCE321CD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49F-BCCF-44A7-A83A-2E319203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7BA-7F25-49D4-88A0-F6F5F9BE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CFF-2F22-4525-A727-18FA5C32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3C6-30B3-40C3-8469-BE1264BE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1BF-86EF-43FF-9838-6A3772CE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F6D-37D9-462D-8D5A-1DE95E3C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DADB-0F1A-4F10-BCDD-583F6B95F10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9E57-F0C2-4F3D-8FB9-2A0181E5D3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Five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ortance of Market Rese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natomy of a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-case on reading a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L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ex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t and operating expenses tied to index (CP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duated Rental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t can move up or down during term of l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calator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sor pays first year operating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see pays overage for remaining yea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aluation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riodic rent adjustments based on revaluation of prope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ood for properties in flux (redevelopmen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M and NNN L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819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leases provide for tenants reimbursing owners for various expen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ly for the maintenance of the common areas of a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could be for repairs, taxes, insurance, and utilities as negotiated by the owner and ten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 Area Maintenance (CAM) must be paid by the owner for any space in property that is vacan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Area Maintenance (CAM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440" y="2361960"/>
            <a:ext cx="6248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M is typically for repairs, maintenance, and utilities but can be for any expense depending on how the lease is structu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ch tenant would typically reimburse the owner for their proportionate share of the expense being sha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ider the following rent roll and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4419720"/>
          <a:ext cx="5028840" cy="2100240"/>
        </p:xfrm>
        <a:graphic>
          <a:graphicData uri="http://schemas.openxmlformats.org/drawingml/2006/table">
            <a:tbl>
              <a:tblPr/>
              <a:tblGrid>
                <a:gridCol w="2176920"/>
                <a:gridCol w="285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Sq. Ft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ena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cle Bobby's Toy &amp; Hobb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,0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rvelous Marvin'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0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p and Ro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5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e Eate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553080" y="4419720"/>
          <a:ext cx="2282760" cy="2132640"/>
        </p:xfrm>
        <a:graphic>
          <a:graphicData uri="http://schemas.openxmlformats.org/drawingml/2006/table">
            <a:tbl>
              <a:tblPr/>
              <a:tblGrid>
                <a:gridCol w="1400400"/>
                <a:gridCol w="882360"/>
              </a:tblGrid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ax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suran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pair/Mai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tiliti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,5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on Area Maintenance (CAM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2362320"/>
          <a:ext cx="7693200" cy="3740040"/>
        </p:xfrm>
        <a:graphic>
          <a:graphicData uri="http://schemas.openxmlformats.org/drawingml/2006/table">
            <a:tbl>
              <a:tblPr/>
              <a:tblGrid>
                <a:gridCol w="939960"/>
                <a:gridCol w="2581200"/>
                <a:gridCol w="939960"/>
                <a:gridCol w="941400"/>
                <a:gridCol w="1350720"/>
                <a:gridCol w="939960"/>
              </a:tblGrid>
              <a:tr h="90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Sq. Ft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ena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ax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Insu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pair/Mai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Utiliti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cle Bobby's Toy &amp; Hobb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,2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12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,62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rvelous Marvin'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,2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,2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p and Rob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2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4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8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e Eater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7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87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6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77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663560" y="63612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o pays if there is a vacancy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other CAM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u own a 20,000 sq. ft. retail strip center.  There are currently four tenants.  The leases allow for the taxes, insurance, utilities, repairs and maintenance to be paid by the tenants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much in $ per square foot would each tenant reimburse the landlord for the current year if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xes are $20,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surance is $4,5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tilities are $7,5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pairs &amp; maintenance is $20,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much would each tenant pay annually if each tenant occupied 5,000 square feet of spac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f a tenant vacates?  Who pays the expenses the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of an expense sto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tenant has an expense stop of $5 per square foot based on expenses during the first year of the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enses are currently $7 per square foot and the tenant has 15,000 sq. ft. of rentable are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uch does the owner and tenant pay in expenses for this tenant’s spa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wner pays: $5 x 15,000= $75,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nant pays: $2 x 15,000= $30,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Lease 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ce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ase will disclose amount of free rent, if tenant improvements will be paid by the owner, and other discou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When would these be more likely: Low or High Vacancy market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on-compete clau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ase will specify if cannot lease adjacent space to a competi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on-dilution/radius clau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r if tenant cannot lease another location within a certain radiu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mon for retail leas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omino (or “Go Dark”) Clau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f anchor tenant vacates, in-line (or supporting) tenants may have the ability to break their leases for a specified fe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se Contents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der approval of major le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both changes to existing tenant mix and for any new ten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ad Fa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d to pro-rate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ntable area per floor divided by useable area per flo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se Addendums: S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bordina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ease is subordinate to all provisions of loan including renewals, modifications and exten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n-Disturbanc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event of foreclosure, tenant can stay in property as long as they are paying rent as ag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ttornment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enant agrees to be tenant for any subsequent landlord (bank or otherwis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se Rollover Ri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tion of % of leases maturing in same peri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ted maturity vs. business risk iss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a concern for both investors and len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fic property may be performing well but others in portfolio could cause repayment 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cation &amp; Tena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Househol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ek to avoid transportation costs, want to locate close to economic cen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ek proximity to customers, suppliers, and work fo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 Pr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ce of land decreases with further distance from economic activity cente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ffective R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 value of the expected income stream from the lease minus any expen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ed to compare leasing alterna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tract out any expenses landlord must p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Panera Bread leases 2,000 sq. ft. in a retail strip center in Winston-Salem.  They are paying $20 per square foot for the next five years, absolute net.  Each year, the rent will increase by 5%.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rmine the effective rent for this lease assuming a 10% discount ra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nera Bread Effective R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2362320"/>
          <a:ext cx="8305920" cy="2649240"/>
        </p:xfrm>
        <a:graphic>
          <a:graphicData uri="http://schemas.openxmlformats.org/drawingml/2006/table">
            <a:tbl>
              <a:tblPr/>
              <a:tblGrid>
                <a:gridCol w="1600200"/>
                <a:gridCol w="1425600"/>
                <a:gridCol w="1319040"/>
                <a:gridCol w="1319400"/>
                <a:gridCol w="1322280"/>
                <a:gridCol w="1319400"/>
              </a:tblGrid>
              <a:tr h="51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nual R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 40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42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44,1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46,30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48,62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scou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2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33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46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6105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V of R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36,363.64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34,710.74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33,132.98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31,629.1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30,189.19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P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166,025.6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990720" y="5181480"/>
            <a:ext cx="64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o then calculate effective rent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=5, I=10, PV= (166,025.65), FV=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lve for PMT=  $43,797.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member: Set your calculator to 1 P/Yr!!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thumbnail"/>
          <p:cNvPicPr/>
          <p:nvPr/>
        </p:nvPicPr>
        <p:blipFill>
          <a:blip r:embed="rId1"/>
          <a:stretch/>
        </p:blipFill>
        <p:spPr>
          <a:xfrm>
            <a:off x="1828800" y="2362320"/>
            <a:ext cx="5029200" cy="3276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2057400" y="762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round Lease Decis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90720" y="52578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How many different owners could there be in a ground leas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Which portion of the property would you want to own and wh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76720" y="804960"/>
            <a:ext cx="806688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und Leases: Bank’s Perspecti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le and Lease Back of Land creates a ground lease between the purchaser of the land, and the owner of the buil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banks will not want to loan against a property that has a ground lease, unless that ground lease has a substantial period of time left on the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e Rule of Thumb is that lease should exceed the amortization of the loan by at least 25 yea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ce the ground lease expires, the building improvements may revert back to the owner of the land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S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581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xt Se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ket Research Mini-C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438280"/>
            <a:ext cx="3810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cal Market Stud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l Estate Brokers typically have regional or sub-market related information available for their customers (for a fee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l appraisers can also be hired to conduct market studies for an inves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udy vacancy, rental, and expense rates in ar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level of new construction approved or under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analysis of demographic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is similar to your WFU Off-Campus Student Housing Occupancy Stud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ick the Tires Yoursel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hing beats visiting the property yourself, obtaining pictures of the property, and assessing the neighborhood and overall location of the property being considered as an invest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ctures in broker packages often represent the “best case” view of a property, so as an investor, seeing is believin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ortance of L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e represents the “duration” of the income stream for an investment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e is an agreement between the lessor (owner) and lessee (tena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e Terms can vary depending on property typ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partment: monthly to annu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fice/retail: monthly up to five yea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tel/motel: dai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rehouse/industrial: much longer terms (20 yea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Price of Rent is Determin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et Rates for Comparable Sp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k brokers, appraisers, other market particip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ew additional rent relative to IRR and NP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otiation between lessor and less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natomy of a Lea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ies to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ngth of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roved use &amp; legal description of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ponsibility for maintenance and repa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d by negotiating power of landlord and tena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y Limitations on expen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 area maintenance (CA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 rent plus any escal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newal op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atomy of a Lease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uld be set over entire term of l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uld rise with a certain index (CPI for examp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ex should not be something controlled by the landlor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rcentage/Overage R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 retail properties.  Have a base rent and then additional rent once tenant’s sales surpass a certain benchmar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 example: Tenant pays $20 per square foot annually, but could also pay 1% annually for sales over $400,000 at the Panera Bread located on Miller Stree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f rent is fixed over entire term of lease, who bears the risk if rental rates rise over the perio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L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e of lease: Gross, Modified Gross, or 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ross/Full Servi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owner pays all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odified Gros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nant pays for some expenses (possibly utilities for an office build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bsolute Ne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tenant pays all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iple Ne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tenant pays for taxes, insurance, and maintenance of prope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ense Stops:  owner pays for expenses up to a certain (stop) point.  Above this level, the tenant pa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penses are passed through to the tenan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2:03:39Z</dcterms:created>
  <dc:creator>leila</dc:creator>
  <dc:description/>
  <dc:language>en-US</dc:language>
  <cp:lastModifiedBy>G Jason Goddard</cp:lastModifiedBy>
  <dcterms:modified xsi:type="dcterms:W3CDTF">2012-03-12T13:15:02Z</dcterms:modified>
  <cp:revision>77</cp:revision>
  <dc:subject/>
  <dc:title>Tonight’s Plan</dc:title>
</cp:coreProperties>
</file>