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0AB6-5837-4A14-AD7F-1854664C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C84E-23BB-4AEA-9520-6A891B18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7910-CB7A-4FB2-9759-1557AE36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10B3-5D4A-4334-84C8-CEADF3DF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9359-8439-4D9C-BF2C-1DCEE5D01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4DD0-D42D-49BE-AD27-8D5778E3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0C48-DAA0-4777-A997-D9A74F2E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49D9-2125-45E3-A123-04E7C52D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5CB1-C8F0-4CD8-9A07-1FAC563F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46AB-DF7F-42DC-9787-A9F915B3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38A6-DFC8-4BE3-9CE7-7FF1B934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E1BB-A0F6-4A27-AC58-0AAC95C4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7B2F-1921-424D-BA9D-7FB308F3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7570-FD47-4250-85A9-DE5D5926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B566-A448-4C78-9CF8-D023AC78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FAFD-2E46-45B5-85D9-506AB9B7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1DDF-3443-410D-B3D4-86A632B15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AAA9-F8DD-4272-AB6E-CAF83C38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C0AC-E41C-4837-97A7-70686985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95C3-94D4-4B4D-8B65-D6B240A2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376D-6E90-44D2-B6B6-BBF3AEA1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E31B-4511-4FF9-B0C6-D160F1A2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DEEC-41AE-4F0E-97FE-C8A672DA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C4AE-D6CD-4D13-890C-F83DF059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E36B-93A4-4569-92B5-DADD9865165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C548-E5F8-4A8D-AC79-8C3AF1FBA46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ssion 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pter Five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mportance of Market Resear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Anatomy of a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-case on reading a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Le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dex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nt and operating expenses tied to index (CPI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raduated Rental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nt can move up or down during term of le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calator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ssor pays first year operating expen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ssee pays overage for remaining yea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valuation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eriodic rent adjustments based on revaluation of proper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ood for properties in flux (redevelopmen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M and NNN Le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28191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 leases provide for tenants reimbursing owners for various expen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ypically for the maintenance of the common areas of a prop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so could be for repairs, taxes, insurance, and utilities as negotiated by the owner and ten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mon Area Maintenance (CAM) must be paid by the owner for any space in property that is vacant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Area Maintenance (CAM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440" y="2361960"/>
            <a:ext cx="6248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M is typically for repairs, maintenance, and utilities but can be for any expense depending on how the lease is structur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ach tenant would typically reimburse the owner for their proportionate share of the expense being shar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sider the following rent roll and expen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14400" y="4419720"/>
          <a:ext cx="5028840" cy="2100240"/>
        </p:xfrm>
        <a:graphic>
          <a:graphicData uri="http://schemas.openxmlformats.org/drawingml/2006/table">
            <a:tbl>
              <a:tblPr/>
              <a:tblGrid>
                <a:gridCol w="2176920"/>
                <a:gridCol w="2851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Sq. Ft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ena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00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ncle Bobby's Toy &amp; Hobb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,000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rvelous Marvin'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000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op and Rob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500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he Eater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6553080" y="4419720"/>
          <a:ext cx="2282760" cy="2132640"/>
        </p:xfrm>
        <a:graphic>
          <a:graphicData uri="http://schemas.openxmlformats.org/drawingml/2006/table">
            <a:tbl>
              <a:tblPr/>
              <a:tblGrid>
                <a:gridCol w="1400400"/>
                <a:gridCol w="882360"/>
              </a:tblGrid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ax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,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suranc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pair/Mai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4,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tiliti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,5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mon Area Maintenance (CAM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38080" y="2362320"/>
          <a:ext cx="7693200" cy="3740040"/>
        </p:xfrm>
        <a:graphic>
          <a:graphicData uri="http://schemas.openxmlformats.org/drawingml/2006/table">
            <a:tbl>
              <a:tblPr/>
              <a:tblGrid>
                <a:gridCol w="939960"/>
                <a:gridCol w="2581200"/>
                <a:gridCol w="939960"/>
                <a:gridCol w="941400"/>
                <a:gridCol w="1350720"/>
                <a:gridCol w="939960"/>
              </a:tblGrid>
              <a:tr h="909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Sq. Ft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ena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ax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Insu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Repair/Mai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Utiliti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ncle Bobby's Toy &amp; Hobb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,25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,125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,625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rvelous Marvin'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,25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,25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op and Rob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25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4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85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5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he Eater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,75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875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,6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775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tal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4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,5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663560" y="636120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ho pays if there is a vacancy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nother CAM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u own a 20,000 sq. ft. retail strip center.  There are currently four tenants.  The leases allow for the taxes, insurance, utilities, repairs and maintenance to be paid by the tenants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w much in $ per square foot would each tenant reimburse the landlord for the current year if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axes are $20,0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surance is $4,5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tilities are $7,5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pairs &amp; maintenance is $20,0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w much would each tenant pay annually if each tenant occupied 5,000 square feet of spac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f a tenant vacates?  Who pays the expenses then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of an expense sto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tenant has an expense stop of $5 per square foot based on expenses during the first year of the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enses are currently $7 per square foot and the tenant has 15,000 sq. ft. of rentable are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much does the owner and tenant pay in expenses for this tenant’s spac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wner pays: $5 x 15,000= $75,0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nant pays: $2 x 15,000= $30,0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Lease Cont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cess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ase will disclose amount of free rent, if tenant improvements will be paid by the owner, and other discoun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When would these be more likely: Low or High Vacancy markets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on-compete clau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ase will specify if cannot lease adjacent space to a competit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on-dilution/radius clau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r if tenant cannot lease another location within a certain radiu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mmon for retail leas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omino (or “Go Dark”) Clau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f anchor tenant vacates, in-line (or supporting) tenants may have the ability to break their leases for a specified fe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se Contents 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nder approval of major le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both changes to existing tenant mix and for any new ten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ad Fac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d to pro-rate sp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ntable area per floor divided by useable area per flo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se Addendums: S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ubordinatio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ease is subordinate to all provisions of loan including renewals, modifications and extens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on-Disturbanc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event of foreclosure, tenant can stay in property as long as they are paying rent as agre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ttornment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enant agrees to be tenant for any subsequent landlord (bank or otherwise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se Rollover Ri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aluation of % of leases maturing in same peri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ted maturity vs. business risk iss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is a concern for both investors and lend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fic property may be performing well but others in portfolio could cause repayment iss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cation &amp; Tena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ividual Househol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ek to avoid transportation costs, want to locate close to economic cen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ek proximity to customers, suppliers, and work for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d Pr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ce of land decreases with further distance from economic activity center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ffective R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ent value of the expected income stream from the lease minus any expens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sed to compare leasing alternativ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tract out any expenses landlord must p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: Panera Bread leases 2,000 sq. ft. in a retail strip center in Winston-Salem.  They are paying $20 per square foot for the next five years, absolute net.  Each year, the rent will increase by 5%.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termine the effective rent for this lease assuming a 10% discount ra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nera Bread Effective R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85800" y="2362320"/>
          <a:ext cx="8305920" cy="2649240"/>
        </p:xfrm>
        <a:graphic>
          <a:graphicData uri="http://schemas.openxmlformats.org/drawingml/2006/table">
            <a:tbl>
              <a:tblPr/>
              <a:tblGrid>
                <a:gridCol w="1600200"/>
                <a:gridCol w="1425600"/>
                <a:gridCol w="1319040"/>
                <a:gridCol w="1319400"/>
                <a:gridCol w="1322280"/>
                <a:gridCol w="1319400"/>
              </a:tblGrid>
              <a:tr h="51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Year 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Year 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Year 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Year 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nnual Re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      40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     42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     44,1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     46,305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     48,62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scou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acto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2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33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46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6105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513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V of Re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  36,363.64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34,710.74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33,132.98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31,629.1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30,189.19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518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tal P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166,025.65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990720" y="5181480"/>
            <a:ext cx="647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o then calculate effective rent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=5, I=10, PV= (166,025.65), FV=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lve for PMT=  $43,797.1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member: Set your calculator to 1 P/Yr!!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thumbnail"/>
          <p:cNvPicPr/>
          <p:nvPr/>
        </p:nvPicPr>
        <p:blipFill>
          <a:blip r:embed="rId1"/>
          <a:stretch/>
        </p:blipFill>
        <p:spPr>
          <a:xfrm>
            <a:off x="1828800" y="2362320"/>
            <a:ext cx="5029200" cy="3276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2057400" y="762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Ground Lease Decis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990720" y="525780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How many different owners could there be in a ground leas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Which portion of the property would you want to own and why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76720" y="804960"/>
            <a:ext cx="8066880" cy="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und Leases: Bank’s Perspecti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ale and Lease Back of Land creates a ground lease between the purchaser of the land, and the owner of the build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st banks will not want to loan against a property that has a ground lease, unless that ground lease has a substantial period of time left on the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e Rule of Thumb is that lease should exceed the amortization of the loan by at least 25 year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ce the ground lease expires, the building improvements may revert back to the owner of the land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Se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581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xt Ses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pter 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rket Research Mini-C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438280"/>
            <a:ext cx="38102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cal Market Stud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al Estate Brokers typically have regional or sub-market related information available for their customers (for a fee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cal appraisers can also be hired to conduct market studies for an inves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udy vacancy, rental, and expense rates in are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level of new construction approved or underw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vide analysis of demographic inform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is similar to your WFU Off-Campus Student Housing Occupancy Stud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ick the Tires Yoursel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hing beats visiting the property yourself, obtaining pictures of the property, and assessing the neighborhood and overall location of the property being considered as an invest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ictures in broker packages often represent the “best case” view of a property, so as an investor, seeing is believing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ortance of Le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se represents the “duration” of the income stream for an investment prop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se is an agreement between the lessor (owner) and lessee (tenan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se Terms can vary depending on property typ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partment: monthly to annual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fice/retail: monthly up to five yea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tel/motel: dai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rehouse/industrial: much longer terms (20 year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Price of Rent is Determin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rket Rates for Comparable Sp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k brokers, appraisers, other market particip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ew additional rent relative to IRR and NP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gotiation between lessor and less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Anatomy of a Lea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ties to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ngth of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roved use &amp; legal description of prop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ponsibility for maintenance and repai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d by negotiating power of landlord and tena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y Limitations on expen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mon area maintenance (CAM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se rent plus any escal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newal op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atomy of a Lease 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uld be set over entire term of le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uld rise with a certain index (CPI for examp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dex should not be something controlled by the landlor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ercentage/Overage R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r retail properties.  Have a base rent and then additional rent once tenant’s sales surpass a certain benchmar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r example: Tenant pays $20 per square foot annually, but could also pay 1% annually for sales over $400,000 at the Panera Bread located on Miller Stree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If rent is fixed over entire term of lease, who bears the risk if rental rates rise over the perio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Le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ype of lease: Gross, Modified Gross, or 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Gross/Full Servic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owner pays all expen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odified Gros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enant pays for some expenses (possibly utilities for an office build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bsolute Ne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tenant pays all expen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riple Ne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tenant pays for taxes, insurance, and maintenance of proper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pense Stops:  owner pays for expenses up to a certain (stop) point.  Above this level, the tenant pay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penses are passed through to the tenan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02:03:39Z</dcterms:created>
  <dc:creator>leila</dc:creator>
  <dc:description/>
  <dc:language>en-US</dc:language>
  <cp:lastModifiedBy>G Jason Goddard</cp:lastModifiedBy>
  <dcterms:modified xsi:type="dcterms:W3CDTF">2012-03-12T13:15:02Z</dcterms:modified>
  <cp:revision>77</cp:revision>
  <dc:subject/>
  <dc:title>Tonight’s Plan</dc:title>
</cp:coreProperties>
</file>