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8499-D89F-4C2D-B592-57ADBC89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D8E-4F38-4D21-AB18-28F23B2A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144-17EC-4FCA-AD95-390C7DDB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FE4-CC04-4D16-B9DB-4EC079DF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4FC6-0A1A-4C22-A594-7B78460E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1EF3-41C0-4319-9827-8D73BAD1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FC9D-9C39-443C-9E51-40CCB22B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78D9-4998-4056-BF7E-2A5B73E9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CB50-2A7E-434A-9704-BE0B8C12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3A1F-07C7-4EED-9327-A77B4FD4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1331-6438-457D-B6F8-F3F0BC39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6C9-815D-40FF-A3A7-15D5602E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53CD-E4D9-444C-9F5F-178851BF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99F3-EFB4-41B0-AD01-C695B7D8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2D62-75CB-47BD-BDA8-13D8596C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21C0-42E0-4CD9-9D43-EEA06949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78C7-A28A-4993-BB3E-34C0A171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9ED-2C23-4A1E-9062-50022F46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6B54-6237-42FB-A879-A361CF56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3CE-C644-4A0F-AFBE-9414141A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92B-EA16-42ED-A91E-10DE9E7C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632-5809-45D3-B710-984404A8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269F-3723-47F1-A422-E8FAAD39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4E37-9788-4EED-9449-FD65A7DC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DACA-EBD2-49FD-9A40-98918021BFF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9076-B827-464F-BB21-CCECAE3E706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x.TpSRJoIYAAZ.JzbkF;_ylu=X3oDMTBrcHJ2Z3FsBHBvcwMyMzIEc2VjA3NyBHZ0aWQD/SIG=1m4vkhdtf/EXP=1227224851/**http%3A//images.search.yahoo.com/images/view%3Fback=http%253A%252F%252Fimages.search.yahoo.com%252Fsearch%252Fimages%253Fp%253Dfriedrich%252Bnietzsche%2526ni%253D20%2526ei%253DUTF-8%2526fr%253Dyfp-t-501-s%2526fr2%253Dtab-web%2526xargs%253D0%2526pstart%253D1%2526b%253D221%26w=720%26h=895%26imgurl=www.wyldeart.com%252FGalleries%252FExpressionist%252FEdvard_Munch%252FImages%252FFriedrichNietzsche4Up.jpg%26rurl=http%253A%252F%252Fwww.wyldeart.com%252FGalleries%252FExpressionist%252FEdvard_Munch%252Findex.shtml%26size=46.4kB%26name=FriedrichNietzsche4Up.jpg%26p=friedrich%2Bnietzsche%26type=JPG%26oid=484a7f99017f7b4e%26no=232%26tt=14,908%26sigr=128kodgf9%26sigi=12mplu2l3%26sigb=143idje6p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ssion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pter Twelv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ITs as investment alterna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QD of RE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IT Valuation Techniq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end-Of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IT Historical Perform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4880" y="6172200"/>
            <a:ext cx="82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s you can see, mortgage REITs are historically more volatile than equity REI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79360" y="2362320"/>
            <a:ext cx="70106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rtfolio Mix”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467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s can review annual reports of REIT mutual funds to obtain information for how they allocate their investment dollar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27160" y="5943600"/>
            <a:ext cx="750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 looks like REIT 1 has more confidence in the office market but much less in retail than does REIT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666880" y="3657600"/>
          <a:ext cx="4191120" cy="2274840"/>
        </p:xfrm>
        <a:graphic>
          <a:graphicData uri="http://schemas.openxmlformats.org/drawingml/2006/table">
            <a:tbl>
              <a:tblPr/>
              <a:tblGrid>
                <a:gridCol w="1698480"/>
                <a:gridCol w="1246320"/>
                <a:gridCol w="12463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IT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IT 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88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ffi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ustri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6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9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rtmen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tai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6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antity”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467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strategy involves maximizing the gross potential income by keeping overall portfolio vacancy rates as low as possi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743200" y="3657600"/>
          <a:ext cx="4267080" cy="2817720"/>
        </p:xfrm>
        <a:graphic>
          <a:graphicData uri="http://schemas.openxmlformats.org/drawingml/2006/table">
            <a:tbl>
              <a:tblPr/>
              <a:tblGrid>
                <a:gridCol w="1989000"/>
                <a:gridCol w="1138320"/>
                <a:gridCol w="11397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IT 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IT 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ff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tai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ustri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rtment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ighted Avg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ality”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0106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other portfolio diversification strategy is to concentrate on properties that have high quality, nationally known companies as tenants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3886200"/>
          <a:ext cx="8001000" cy="2344680"/>
        </p:xfrm>
        <a:graphic>
          <a:graphicData uri="http://schemas.openxmlformats.org/drawingml/2006/table">
            <a:tbl>
              <a:tblPr/>
              <a:tblGrid>
                <a:gridCol w="2198880"/>
                <a:gridCol w="3311280"/>
                <a:gridCol w="2490840"/>
              </a:tblGrid>
              <a:tr h="3373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p 5 Tenants by Square Footage for REIT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Industri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Offi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tai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al-Mar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HP Petroleum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ublix Supermarke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loitte &amp; Touch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ck’s Sporting Good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gal Wes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owell &amp; Mor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al-Mar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storation Hardwar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ank of NY Mell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oss Dress for Les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uehne &amp; Nage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crosof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elk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2123280" y="6361200"/>
            <a:ext cx="37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e any problem companies her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urability”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t’s see how REIT 1 looks in terms of the durability of the lease inco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5880" y="6213600"/>
            <a:ext cx="68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or Retail: low percentage of portfolio but long lea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3429000"/>
          <a:ext cx="7848360" cy="2657520"/>
        </p:xfrm>
        <a:graphic>
          <a:graphicData uri="http://schemas.openxmlformats.org/drawingml/2006/table">
            <a:tbl>
              <a:tblPr/>
              <a:tblGrid>
                <a:gridCol w="1412640"/>
                <a:gridCol w="952200"/>
                <a:gridCol w="952560"/>
                <a:gridCol w="952200"/>
                <a:gridCol w="952920"/>
                <a:gridCol w="952200"/>
                <a:gridCol w="1673640"/>
              </a:tblGrid>
              <a:tr h="930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6 &amp; Beyon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ffi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.9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8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tai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9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6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6.6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ustri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.9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4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2.1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2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ographic Dispersion”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6858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ITs (or wealthy investors) have the ability to reduce local market risk via diversific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low is how REIT 1 is diversified in this way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447920" y="4038480"/>
          <a:ext cx="6400800" cy="2276640"/>
        </p:xfrm>
        <a:graphic>
          <a:graphicData uri="http://schemas.openxmlformats.org/drawingml/2006/table">
            <a:tbl>
              <a:tblPr/>
              <a:tblGrid>
                <a:gridCol w="1355760"/>
                <a:gridCol w="1008000"/>
                <a:gridCol w="1011240"/>
                <a:gridCol w="1006560"/>
                <a:gridCol w="1010880"/>
                <a:gridCol w="1008360"/>
              </a:tblGrid>
              <a:tr h="55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Eas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Wes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Sout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Midwes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Foreig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ffi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4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7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rtm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6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4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ustri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1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tai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9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4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ora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ographic Dispersion” Strategy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other method of viewing this type of portfolio risk smoothing is by Metropolitan Statistical Area (MSA)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14400" y="4495680"/>
          <a:ext cx="7504200" cy="2009880"/>
        </p:xfrm>
        <a:graphic>
          <a:graphicData uri="http://schemas.openxmlformats.org/drawingml/2006/table">
            <a:tbl>
              <a:tblPr/>
              <a:tblGrid>
                <a:gridCol w="493560"/>
                <a:gridCol w="5727960"/>
                <a:gridCol w="12826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S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% of Tot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ashington-Arlington-Alexandria-DC-VA-MD-W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6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oston-Quincy M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s Angeles-Long Beach-Glendale C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4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an Francisco-San Mateo-Redwood City C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ouston-Bay Town-Sugar Land T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&amp; The QQD Frame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antity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rong dividends, maximize GPI, growth orientation purchased at discou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cus strategy:  less diversifi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versified: higher expens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ality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ationally known tenants, NNN REITs, Blue Chip REI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rability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nant rollover risk, length of leases, geographic disper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&amp; The QQD Frame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se Rollover Ri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empt to diversify via the duration of the income stream on associated properti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so based on the lack of a high concentration on any particular tenant for the total reven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siness Ri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empt to diversify via the region or type of property in an effort to reduce concentration on one area or property typ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IT Valuation Techni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rdon Dividend Growth Mod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nds from Operations (FFO) Multi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 Asset Value (NAV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gins of RE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ssachusetts Trust (19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entury until 193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lled void for corporations owning 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federal tax, &amp; no distributions tax for shareholders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vestment Company Act of 194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osed end mutual funds lobbied for equal treatment until tax law was amended in 196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ternal management structure was required until 198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ordon Dividend Growth Mod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tilizes future dividend per share expected next year to calculate stock price as the present value of expected future dividen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tant dividend growth is assum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gin with DCF based on projected revenue and expenses to estimate FFO for an assumed holding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d in reversion to obtain PV of fir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vide by # of outstanding shares to obtain D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035760"/>
            <a:ext cx="2073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 = D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k-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6477120"/>
            <a:ext cx="762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64560" y="613260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$50.00 =     $3.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0.10-0.0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6400800"/>
            <a:ext cx="1447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10000" y="810360"/>
            <a:ext cx="78282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O Multi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ilar to the Price to Earnings Rat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FO:  Net income (GAAP) excluding gains or losses from sales of property or debt restructuring adding back RE deprec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lue = FFO/share * FFO Multi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:  Historical multiple for REIT or peer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ly as good as the comparables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t Asset Value (NAV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lue = Aggregate Stabilized NO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ended Cap Rat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lended cap rate is difficult for diversified asse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ther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nd value of specific properties and divide by property specific cap rates to obtain value of portfoli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ce find value, subtract out debt to obtain NA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ares quoted in terms of Net Asset Value (NAV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olding Period Return=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NAV</a:t>
            </a:r>
            <a:r>
              <a:rPr b="1" lang="en-US" sz="1400" spc="-1" strike="noStrike" baseline="-25000">
                <a:solidFill>
                  <a:srgbClr val="003366"/>
                </a:solidFill>
                <a:latin typeface="Arial"/>
              </a:rPr>
              <a:t>now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–NAV</a:t>
            </a:r>
            <a:r>
              <a:rPr b="1" lang="en-US" sz="1400" spc="-1" strike="noStrike" baseline="-25000">
                <a:solidFill>
                  <a:srgbClr val="003366"/>
                </a:solidFill>
                <a:latin typeface="Arial"/>
              </a:rPr>
              <a:t>prior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+ Div</a:t>
            </a:r>
            <a:r>
              <a:rPr b="1" lang="en-US" sz="1400" spc="-1" strike="noStrike" baseline="-25000">
                <a:solidFill>
                  <a:srgbClr val="003366"/>
                </a:solidFill>
                <a:latin typeface="Arial"/>
              </a:rPr>
              <a:t>holding perio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                                          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NAV</a:t>
            </a:r>
            <a:r>
              <a:rPr b="1" lang="en-US" sz="1400" spc="-1" strike="noStrike" baseline="-25000">
                <a:solidFill>
                  <a:srgbClr val="003366"/>
                </a:solidFill>
                <a:latin typeface="Arial"/>
              </a:rPr>
              <a:t>prior</a:t>
            </a:r>
            <a:r>
              <a:rPr b="1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2819520"/>
            <a:ext cx="3124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5410080"/>
            <a:ext cx="2666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t Asset Value (NAV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4265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Valuation Issu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fferent classifications of recurring expenses for FF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nant Improvements, Leasing Commis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categorize as expense, subtract from FF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categorize as capital improvement, amortized on balance she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justed FFO (AFF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justs FFO for expenses, while capitalized, which do not enhance property val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iminates straight lining of ren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ASB 13: Free rent or increases must be equalized (straight-lined) over term of lea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International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1629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ternational RE Investment is becoming more of an area of stud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istorically International RE Investment focused on Blue Chip properties in well known cit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 Investment becoming more frequent in Emerging Marke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 Investment in Developing Countries typically centers around Tier I cit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ITs have been embraced by Islamic Finance given the verifiable nature of the assets included in the investment poo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 initial requirement for external management still exists in many countries…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66880" y="5181480"/>
            <a:ext cx="3276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erging Market Property Righ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38080" y="2682720"/>
          <a:ext cx="7693200" cy="308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82720"/>
                    <a:ext cx="7693200" cy="30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repays a teacher badly if one always remains a pupil…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hus Spoke Zarathustra, On the Gift Giving Virtue, pg. 78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 forth and invest in Real Estate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2590920"/>
            <a:ext cx="2743200" cy="3124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626440" y="597996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riedrich Nietzsch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5780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al Estate Investment Trusts (REITs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rst established in US in 196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1 Australia, 1985 Turkey, Canada 1993, Singapore 1999, Japan 2000, Hong Kong &amp; France 2003, Germany in 200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 Minimum Requir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0 sharehold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5% of value of REIT assets in RE, cash, or gov’t securi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5% of gross income from dividends, interest, rents, or gains from sale of REIT asse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hareholder distributions at least 90% of REIT taxable income annual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ditional European Requir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verage is limited (50% in Germany, France, Spain; 20% for most Austrian REITs, a coverage ratio of 1.25x EBIT/Int in UK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imits for size of any one property (15% in G-REIT, 40% in UK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U REIT Strategies: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re/nuclea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low risk),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re-Plus/Value Adde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medium risk) and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pportunit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high risk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14680" y="8150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Organizational Structur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REIT:  Umbrella Partnership RE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ablished in 1992 to allow existing RE operating companies to bring property already owned under umbrella of REIT w/o capital gains ta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IT owns controlling interest in limited partnership that owns the real est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wners of limited partnership can convert operating units into REIT shares, vote, &amp; receive dividen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19720" y="82008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Organizational Structur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wn REIT: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ed after REIT goes publ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own numerous partnerships at the same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wn REIT owns property directly in REIT, but holds some properties in partnership with oth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tax liability until partnership units are converted into stock or sol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Incentive Issu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REIT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agement could be reluctant to sell if they own operating units rather than REIT sha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ubject to tax when sol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wn REI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management does not own operating units, could become “trigger happy” with sales given the lack of tax consequences from s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IT Tax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areholders pay taxes on dividends received via form 109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21 Exchange:  Like Kind Exchange for RE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mited Partners of Up and Down REITs can exchange partnership units for interests in other RE via like kind exchan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ust be investment grade proper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vestors receive operating units rather than proper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p and Down REITs have advantages for tax sensitive sell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RE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tgage RE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yday in 1970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quity RE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 common form tod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ybrid RE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 in both mortgages and equ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tual Fund RE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on for personal invest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utual Fund RE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st mutual fund in Netherlands in 177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rn mutual funds began in US in 19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s truly “mutual” as it was organized, operated, &amp; managed by its own truste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pha Fund: shareholders own funds which own management compa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mega Fund: Mgmt company shareholders own mgmt company which controls mutual fund owned by mutual fund sharehold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gmt company shareholder interests are introduc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igher costs typically given competing goals of shareholder wealth creation &amp; profit for external mgmt compan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15:36:10Z</dcterms:created>
  <dc:creator>leila</dc:creator>
  <dc:description/>
  <dc:language>en-US</dc:language>
  <cp:lastModifiedBy>G Jason Goddard</cp:lastModifiedBy>
  <dcterms:modified xsi:type="dcterms:W3CDTF">2012-03-12T13:43:49Z</dcterms:modified>
  <cp:revision>125</cp:revision>
  <dc:subject/>
  <dc:title>Slide 1</dc:title>
</cp:coreProperties>
</file>