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78A-8871-4DBE-A362-2629DDB0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819-FB4E-4DA9-8A13-366FB150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8D7-A175-463D-8A0E-4A26BD25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754-0282-43A2-99FB-C19B9245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91EE-967F-46F8-A75F-195223C0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66C1-353A-43AF-928A-E919D221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7067-A2CD-449F-BABC-96EEBD62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4BE-A28B-4E0E-8775-960A7CB5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460E-809E-4C93-8E3F-D49720E8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FE39-67EA-4334-9B0E-6EA6FC0F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BD58-2CB7-4F4D-BECC-C8799999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D87-036E-445D-A303-988D9B5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551C-9675-4105-9B15-97EBA3A6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7F59-CF83-495A-8211-27D70BB1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16D2-AE8E-4EEB-89E5-3A5EAD24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75AC-6A65-45FC-B795-381F25E0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8C1-A895-4987-9920-C4C550E1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CE3-1FDA-4CD6-BD39-675F9BC9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1EE-B330-420C-A5A5-45396F0A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C05-E13F-4CC8-8B43-7D9059F6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47B-A73F-485B-AD39-31792E3A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BD4-C3CC-4B9A-AF37-9AB8E09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759-E6FC-40EA-B0B5-F4A7EE7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7D2-C7EE-4B4A-8CEC-3F822BE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E8FE-A7AE-4CA6-8029-3F63838695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A250-47EB-46EA-AA12-5B57C3318B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Eigh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Occupancy Study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artments as an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Apartment case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ndard Vs. Luxury Apt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xury units are typically newer and of much higher quality than lower priced un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a general rule, the luxury apartments do not compete with standard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, the more amenities in a property, the higher the rent per square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always consider the supply and demand of COMPETING units when deciding on the viability of an apartment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acement Rese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direct capitalization spreadsheet contains one expense item that will not be given to you; replacement reserv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s an estimate of items which will need to be replaced each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ke roof, structural repairs, HVAC, appliance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es depending on age and condition of the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artments: From $100 to $250 per un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ffice/Retail/Industrial:  From 1-3% of EG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ors used to have to place this amount of money in an escrow account each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 most lenders look to make sure investor has cash on hand in case something goes bump in the night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igher the Bet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apartments higher than two floors will have an elev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any areas of the country this is requi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n elevator exists, should always inquire about its age and condi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subject property has a third floor with stair access, it may be harder to lease those un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ight you try to get those units lea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-Campus Student Hou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er properties have better ame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 them ready in time for Fall semester…or els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N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st one to market in saturated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ters to students and the general publ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27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ff-Campus Student Housing Market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l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just student apart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y need to include rental hou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university officials for on campus un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regional/city officials for future construction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an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tal enrollment minus on-campus and commu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University officials for on-campus proj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appraiser if need occupancy study (good for approx. one ye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01200" y="753120"/>
            <a:ext cx="80179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ults of Off-Campus Occupancy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verall Current Market Vacancy:  __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ree Year Average Vacancy: __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per Square Foot:  $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Monthly Rental Rate: $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Monthly Rent per Bed: $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Age of Complex: ____ years 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 Different Apartment Complexes Survey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otal of ____ apartment unit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will use these to compare our case studies to see if the rental rates are within the market averages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Role as Le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gratulations!  You are now employed as a senior commercial lender at a large commercial bank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pefully a solvent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you will be looking at these investments from the perspective of a lender, it will be helpful to get familiar with your lending guideli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will provide you the lending criteria (loan amount, interest rate, amortization period, cap rate), you will do the res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Apartment Slide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maining Te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we have covered the bulk of the textbook material, the course moves into the “real world” application ph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erous properties will be discussed in chapters 8-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 of Case Stud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case study will contain a one or two page summary of the cas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discuss values that you have determined for the following it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oss Potential Income (GP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fective Gross Income (EG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t Operating Income (NO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nual Debt Service &amp; Debt Coverag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perty Life Cy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h Flow Fundament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nt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lease income per month (historical/projected)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arison to market rental rates per square foot for similar proper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versification (number of tenan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financial strength (internal information or Business Credit Report when applicab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ngth of leases relative to term of lo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gmt Experience with property (or similar properti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401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iew of Apartment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e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features of a particular unit (fireplace, vaulted ceilings, etc.) or of the complex as a whole (swimming pools, tennis court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partment without a separate bedro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den Un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unit all on one fl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wn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unit on two fl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Apar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lk-up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 to 5 floors, patio on first floor, balcony on 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d-rise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 to 9 stories, will have an elevator to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-rise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l rule is one elevator for every 8 fl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ical Apartment Complexes Contain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ed leases with terms of one year or l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imity to places of employment, shopping centers, churches, schools, and public transpor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be located in a residential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imity to parks, lakes, etc. is desi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not be located too close to industrial fac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have adequate amount of par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 of Constr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rick exterior is typically more desirable than a wood or other exter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er &amp; Dryer hook-ups are a p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not need access to laundry fac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ntral Air Conditioning is desi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opposed to window a/c un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ition of roof, siding, entrances, parking lot etc. affect the effective age of the prope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ior quality also affects desi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0:56Z</dcterms:modified>
  <cp:revision>57</cp:revision>
  <dc:subject/>
  <dc:title>Tonight’s Plan</dc:title>
</cp:coreProperties>
</file>