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DC6-EF97-417F-A99F-FEB8DE51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08E-E7DA-4D66-9CC8-A1390F9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14E-564D-4AF7-A9C1-181CA244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950-0FA0-4412-BAE3-9DFF364F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2922-0272-4AD6-85DD-20A575EE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4DA2-008A-452C-ACED-7F401A1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49FD-0BEE-4B98-A47A-10E100FC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8FA8-7286-4732-AC32-DB777479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AE5-3E2F-4444-8584-8D79A2C4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8B9C-68FB-4EDE-946B-07EB1735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1FB6-FD71-4259-8944-13657F5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526-3B88-4625-91FB-A1A39B1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767-C1EE-4024-80C8-1AACEDE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6EB5-6C31-475C-B1A6-0BF54F58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3100-40DA-4AC3-BBC5-EABE7594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013C-2FB7-409F-9889-C84A3E3B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0C3C-956A-48DC-9532-F5338FBF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D51-4092-495C-8E58-4036E2CA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8C6-8448-4C60-BC44-B1E1AAA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B4B-BCFE-4D17-8B4F-44DCC231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0E9-9A3C-49B1-84BF-CA00C0A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615-5DFD-41FC-8FB0-437CED2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2D7-FCC7-4CBA-8553-D321B27C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020-D0B6-422B-AF49-E667F6D8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65C1-61DD-45B2-889B-C2EFCEFAF9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6267-8D8E-4348-A1A2-B9AC630B065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igh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Occupancy Study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artment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Apartment case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ndard Vs. Luxury Apt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xury units are typically newer and of much higher quality than lower priced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a general rule, the luxury apartments do not compete with standard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, the more amenities in a property, the higher the rent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always consider the supply and demand of COMPETING units when deciding on the viability of an apartment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ment Rese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direct capitalization spreadsheet contains one expense item that will not be given to you; replacement reser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an estimate of items which will need to be replaced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ke roof, structural repairs, HVAC, appliance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es depending on age and condition of th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artments: From $100 to $250 per un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ffice/Retail/Industrial:  From 1-3% of EG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ors used to have to place this amount of money in an escrow account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 most lenders look to make sure investor has cash on hand in case something goes bump in the nigh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gher the Bet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apartments higher than two floors will have an elev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any areas of the country this is requi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n elevator exists, should always inquire about its age and condi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subject property has a third floor with stair access, it may be harder to lease those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ight you try to get those units lea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-Campus Student 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er properties have better ame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 them ready in time for Fall semester…or els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N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st one to market in saturated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ters to students and the general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27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ff-Campus Student Housing Market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l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just student apart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 need to include rental hou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 campus un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regional/city officials for future construction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an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tal enrollment minus on-campus and commu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-campus proj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appraiser if need occupancy study (good for approx. one ye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01200" y="753120"/>
            <a:ext cx="80179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 of Off-Campus Occupancy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verall Current Market Vacancy: 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ree Year Average Vacancy: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per Square Foot: 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al Rate: $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 per Bed: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Age of Complex: ____ years 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 Different Apartment Complexes Survey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otal of ____ apartment unit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will use these to compare our case studies to see if the rental rates are within the market averages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Role as Le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atulations!  You are now employed as a senior commercial lender at a large commercial bank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pefully a solvent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you will be looking at these investments from the perspective of a lender, it will be helpful to get familiar with your lending guideli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will provide you the lending criteria (loan amount, interest rate, amortization period, cap rate), you will do the res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Apartment Slide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maining Te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we have covered the bulk of the textbook material, the course moves into the “real world” application ph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erous properties will be discussed in chapters 8-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 of Case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case study will contain a one or two page summary of the cas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values that you have determined for the following it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ss Potential Income (GP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ective Gross Income (EG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t Operating Income (NO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nual Debt Service &amp; Debt Coverag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perty Life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h Flow Fundament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nt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lease income per month (historical/projected)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rison to market rental rates per square foot for similar proper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ersification (number of tenan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financial strength (internal information or Business Credit Report when applicab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ngth of leases relative to term of lo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gmt Experience with property (or similar properti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40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iew of Apartment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e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features of a particular unit (fireplace, vaulted ceilings, etc.) or of the complex as a whole (swimming pools, tennis cour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partment without a separate bed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den Un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all on one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wn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on two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Apar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lk-up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 to 5 floors, patio on first floor, balcony on 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d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 to 9 stories, will have an elevator to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 rule is one elevator for every 8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ical Apartment Complexes Contain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ed leases with terms of one year or l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laces of employment, shopping centers, churches, schools, and public transpor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be located in a residential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arks, lakes, etc.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not be located too close to industrial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have adequate amount of pa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 of Constr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rick exterior is typically more desirable than a wood or other exter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er &amp; Dryer hook-ups are a p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not need access to laundry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ral Air Conditioning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opposed to window a/c un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ition of roof, siding, entrances, parking lot etc. affect the effective age of the prope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ior quality also affects desi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0:56Z</dcterms:modified>
  <cp:revision>57</cp:revision>
  <dc:subject/>
  <dc:title>Tonight’s Plan</dc:title>
</cp:coreProperties>
</file>