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6A7-0275-4985-94B8-B6F8947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339-D334-4FF7-9EEF-0C8448D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509-E314-4476-8F56-CE1D79D8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1B3-75BD-407C-BCDF-21062B12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0EBC-2348-4826-91E6-A6DD20D7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B6D-8B35-4DEA-8E9C-5513CAD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53A4-B069-4EC3-B28A-A2F98D3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7E8A-57BD-480F-BCC7-087E0F6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B85-0C0B-4F97-8DA7-7C5E6D3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D11-5839-4FB1-B9AA-F42E61D8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8DEA-6225-4C3F-8170-1A061A1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8B5-248B-4F62-A156-A140C126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127-FB0B-48DC-9C64-AD7D13B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104-C7EE-445C-B518-869E703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125-1B31-474C-ACB2-075EAEE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C641-31AA-4474-A7CE-FEC37954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F9C0-A706-4A8A-8F30-892B0266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AFA-9DE9-44D6-A0E7-F3FD841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9CF-94FF-4F58-A401-7092417C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8BB-8506-41A3-9703-7A163F6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8B1-D2AF-4076-91E9-D9F4BDD6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597-82BC-4AB6-8A2B-6766D05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0A9-E474-40D9-ABC8-4D336F0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E15-3DC9-4A9D-9AEC-949D852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293C-2066-449F-A4D1-566BF9BDBB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BBDC-35A4-4631-A1D8-4856277620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lev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s of real estate securit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ncy Guarantees vs. Private 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Os and R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&amp; QQ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SE’s have slightly higher credit risk as they are backed by an agency guarantee and not explicitly by the US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backed securities lowered the cost of home financing by lowering transaction costs, increasing liquidity,&amp; improving the standardization of contr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arantees also promoted acceptability of these inves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tgage Conform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nnie Mae and Freddie Mac mortgage conformability standards are set by Office of Federal Housing Enterprise Oversight (OFH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HEO sets size limit for conforming loans (i.e. no jumbo mortgag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“super-conforming” loans in areas where prices are higher than the aver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E’s may only purchase conforming &amp; super-conforming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rrowers outside of conformability standards, their borrowing expenses are hig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sued by banks, insurance companies, savings institutions (known as underwrit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encouraged private label development given size of agency guarant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conduit buys loans from originators &amp; creates pools for sal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without guarante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2006 private label issuances &gt; agency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esidential mortgages have the option to prepay, the uncertainty of timing and the magnitude of the cash flows received by the investor are uncert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rates drop below the contract rate, prepayment is more lik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the interest rates on LT bonds falls, homeowner is more likely to prepay the mort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payment can occur for other reasons such as selling the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 as the reinvestment rate drops, the RMBS investor is more likely to get paid ear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will have to reinvest their money at a low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vexity:  Non-linearity in a financial model; the relationship of bond price with respect to interest ra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reases as interest rates fall (&amp; prepayments rise) and as interest rates rise ( &amp; prepayments fal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bility of prepayment is inversely related to the prevailing mortgage r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ce prepayment rates fall as mortgage rates rise, prepayments slow down for RMBS investors just as they desire them to pick up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uld have reinvested cash flows at a high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yment risk is the lynchpin to pricing RM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fall: pool pays quick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loses interest income &amp; gets principal back in a low rat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rise: pool pays slow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earns relatively lower rate for a longer period of time (harms their yiel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teralized Mortgage Obligation (C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was by Freddie Mac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s of a multi-class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classes (tranches) have different maturities, interest rates, &amp; prepayment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from 2 to 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ranche has an estimated first and last payment 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arn a higher coupon rate, investor must bear more prepaymen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 Estate Mortgage Investment Condu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&amp;I Payments are divided into various payment streams to create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C avoids double tax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C is tax exem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pay tax on dividends recei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most all CMOs are issued as RE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quential Pay (Plain Vanill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are paid in stric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n as “waterfalls” as cash flows down to lower rated tra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Amortization Class (PAC) C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s support or companion tranche to provide protection for PAC or “main” tran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s investors in main tranche to receive more certain cash flows soo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 yield, average life, &amp; lockout periods are more closely tied to original estim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ned Amortization Class (PAC) CMO Contin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repayment is different than expected, the support tranche absorbs the variable portion of the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different levels of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YPE I PAC, Type II PAC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yields are offered for riskier, more variable support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ization: Process of pooling individual assets that are used as collateral, for the issuance of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dential Mortgage Backed Securities (R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Mortgage Obligations (CM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Debt Obligations (CD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ercial Mortgage Backed Securities (C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Amortization Class (TA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ed like PACs, but investor is protected from rise in prepayment rate (as interest rates f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AC &amp; TAC are in same CMO, PAC receives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 is inferior to PAC as investor is only protected from unexpected increase in pre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Tranches (Z Bonds, Accretion Bonds, Accrual Bon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eives no interest until lockout period ends and begins to receive princip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kout period ends when all other tranches have been paid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ing lockout period, tranche is credited with accrued interest that is taxable (although not receiv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re best for tax deferred retirement accou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terms of 18-22 yea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 Only (P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receives principal only, buys at a steep discount from fac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fall, prepayments rise which lowers the effective term of th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rise, PO investor yield suffers (gets paid slow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Only (I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CMO offering PO will also offer 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is sold at steep discount to notional principal (no par or face val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principal in pool is paid down, notional value of tranche declines, as do the interest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Strips lose value rapidly as interest rates fall and as prepayments r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 Agency backing allows for any asset to be included in the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4357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Purpose Vehicle (SP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s collateral, collects P&amp;I payments, &amp; passes them on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wri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, investment banks, brokers that price and market MBS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it Ag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credit enhancements requi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 may only hold investment grade M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ody’s Baa3 or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&amp;P and Fitch BBB- and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dit Enhancement is a process to lower risk of entire security within a securitized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credit enhancement marketing of private label MBS is difficu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of enhancement is determined b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rrower’s credit quality, incentives to default, size &amp; variability of potential loss, &amp; diversification of loans in the asset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rnal Credit Enhanc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line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“credit wraps’ to bolster ra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 assumes default risk by reimbursing SPV in cas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 common given banking issues these day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quidity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s short term temporary pay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mon in international securitiz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al Credit Enhanc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tor provides protection to cover potential lo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h, assets, or profits into transaction while taking a lower priority b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nterest/Spread or Prof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est rate paid by borrowers on loans used as collateral is not coupon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t also deduct for trustee &amp; servicer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duct more from borrower interest payment to enhanc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Collater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ol of collateral loans has 5-10% higher par value than the issued secur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sh Collateral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losses occur, cash is withdra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ermination remaining funds are returned to origin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al Credit Enhanc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ior/Subordinated Structures: lower credit rated classes provide protection for senior cla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Housing Administration (FHA) in 19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 foreclosures were peaking, RE values dropped to 50% of 1927-1928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pse of mortgage banking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HA was to insure mortgages against default &amp; to require standard 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mortgages to become practicable investments for thrifts and insurance compa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ls of Commercial Real Estat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payments are not a significant issue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e to Lockout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asance: penalty for early term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oans are heterogene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mortgage styles, maturities, property types, covenants, tenant and location qu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ack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set up as REMIC with tranches like for R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-piece investor vs. B-piece inv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passes payment to trustee for disburs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monitors changes in payment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default, servicer contacts borrower &amp; may pursue fore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ter Servicer: servicing all loans not in defa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s payment, compiles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 same as original under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ability to modify loan or obtain alternative collat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ing alternative collateral could impact REMIC tax exempt stat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ing loans in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med at issuance, usually affiliated with B-piece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-Piece: face higher risk so should be most familiar with pool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Servicing Confli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default in  depressed mark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may be in “A-piece” investors’ interest to forecl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piece” may not get anything so special servicer may wait longer than is prudent for borrower to become current on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suance of CMBS (in Billion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Chart 1"/>
          <p:cNvGraphicFramePr/>
          <p:nvPr/>
        </p:nvGraphicFramePr>
        <p:xfrm>
          <a:off x="990720" y="2514600"/>
          <a:ext cx="73152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31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2.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eaking system to generate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tranches now than bef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-piece” investors now more likely to appoint 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liminate perception that investment grade tranches give up economic value at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 more authority to “A-piece” in defining commitments made by issu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es “B-piece” buyers from selling their part to a CDO (per Dodd-Fran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&amp; QQ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arency is needed to revive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losure of Debt Coverage Ratio for each loan in pool so investor can better assess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nd Better information should reduce price volat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blem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ch of perceived bloom taken off of securitization r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is good and bad in innovation: autos and electricity exa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prime Mortg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high as 22% of total mortgages, but 80% of these were securit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ltdown after “Yes Era” given higher leverage, poor underwriting, government intervention in markets, and extremely low interest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o’s to Blam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te to Distribu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t potato approach vs. originate to hold on balance sh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ngs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underestimated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sked for i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pside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ered cost of capital for investors and cost of funds for borrow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ten better terms than for on-balance sheet loan (non-recourse, 30 year amor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consistent funds avail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ed liquidity &amp; higher origination fees for lenders and investment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ne correctly: diversification of investment options &amp; good return on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National Mortgage Assoc (FNMA) in 1938 “Fannie Ma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liquidity to market, but still no homes were being built….led to 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teran’s Administration (V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s mortgage funds for veterans at interest rates equal or less than F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s mortgage insurance &amp; avoids down payment requir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 Next Ses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chapter 12 on Real Estate Investment Trusts (RE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NMA restructured as government sponsored, private corporation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National Mortgage Assoc (GNMA) chartered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nnie Mae” had explicit government guarantee and was to carry out FNMA’s prior support of FHA, VA, and Farmer Home Admin. (FmHA)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’t guarantee was the spark that ignited the secondary mortgage market in the United St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Mortgage Backed Security (MBS) was in 19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ed by GNMA with VA and FHA loans as collat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ould purchase securities backed by conventional hom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70 Federal Home Loan Mortgage Company (“Freddie Mac”) was created to compete with FNMA &amp; to boost liqu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ary Mortgage Market Enhancement Act of 198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stly expanded number of financial institutions that could hold mortgage related secu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s of Securitization was the creation of Ginnie Mae, Fannie Mae, and Freddie Mac which provided implicit and explicit guarantees necessary to ease investor unease with mortga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guaranteed MBS allowed for viable secondary mortgage market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NMA secured with “full faith and credit of the US Treasur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dered to be free of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do not underwrite or issue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guarantee those provided private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nnie Mae &amp; Freddie Mac are Government Sponsored Ent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mortgages, issue securities using poo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only the timely repayment of interest and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lly 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timely payment of principal, interest &amp;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eddie offers both kinds, Fannie offers “fully” on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6:39Z</dcterms:modified>
  <cp:revision>75</cp:revision>
  <dc:subject/>
  <dc:title>Tonight’s Plan</dc:title>
</cp:coreProperties>
</file>