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D7C-E523-41B6-A248-D3B3DAC5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686-0DCC-4F57-8BEB-14F495D2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BC8-ACDA-4377-9BE6-9BFCD3F8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EFF-666F-42BF-A79B-BCBA3670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3838-5044-4AF3-B959-8E34F930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20D8-FE02-4F80-A9BC-72479AA9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50B6-F78E-4BDE-9A79-2F49D71B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2D7F-ABCA-4C48-862A-B1C58D6A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3E5B-F7F3-408A-A42C-51060CBB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771D-BACA-49EB-BE66-1D81793A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E4DE-C618-4EAE-9549-5914CC73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7DE-2846-4CDF-A1D4-AA03149C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8D21-BAF1-4470-8FD4-8D04014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E884-A0C4-4131-B69E-43F60FE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4EEE-617D-4D0C-981C-C741261D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5DCC-EAD1-4F34-AC78-B26B7DBC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948F-457E-4079-9D78-764E5F30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980-0493-4FC1-82E7-248AC04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87E-A2E6-4AB8-A423-A002561B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BA0-035D-49D9-B88F-9C06BB6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E2B-522D-4B7D-8690-C297DED3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3F2-1AB5-4D57-B548-70CD130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F2E-B68F-456E-83B9-FE8D047A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C7D-8CA9-47E1-AFA8-329BAF4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6A5D-3C87-41AB-8E8F-AA2A4F44E2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E877-EC7A-4567-97CC-A8A685FDA4D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Ni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tail and Office properties as an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 two retail and two office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-Case on the DC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nchored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etail strip center which is smaller than a neighborhood center: does not have a primary ten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nk of some of near cam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arc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 tract of land at front of shopping c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includes a restaurant, bank, or movie theat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onal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arge mall containing 400,000 square feet of leasable space (and abov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has one to three major department s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types of properties are typically too large for the average real estate inve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require a lot of maintenance and property management due to the size of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ous Shopping Cen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2935440"/>
                <a:gridCol w="1819080"/>
                <a:gridCol w="1573200"/>
                <a:gridCol w="1365480"/>
              </a:tblGrid>
              <a:tr h="78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ype of Shopping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ize (Sq. Ft.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Anchor Rati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rade Are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ighborhood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,000-1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shion/Special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,000-2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5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munity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,000-3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-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6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gional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,000-80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-7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0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wer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0,000-60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-9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0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er-Regional Center (Mall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0,000 +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-7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25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nges in Shopping Center Retur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Fac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etition entering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dated design and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trade area income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population den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highway construction/traffic patte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ing Retail De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y Trading Area:  Measure of potential revenue of tenants in property from geographic boundary where 60-80% of sales in a given area origin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property size, goods/services offered, population density, &amp; transportation fac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competition equals lower possible reven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for choosing locations in a given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tion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near residential neighborho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ing should be facing the road vs. perpendicular to the r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at an inters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op light is a big pl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convenient to major high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both consumers and product delive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ing Home side of the road (groce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ing to Work side of road (coffee, bake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landlords require their retail tenants to pay for their own utilities, and tenants typically will pay for taxes, insurance, and maintenance of the property on a pro-rata bas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andlord pays for these expenses, and then is reimbursed by the ten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of this is spelled out in the le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ond Story Retai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150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very hard to l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ers do not want to climb stairs or take elevators in most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imes what was supposed to be second story retail space is converted into office space or possibly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ome metro locations, two story retail space is 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t Lee, NJ 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. Catherine’s Street in Montre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ail Tenant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s vary from grocery store chains, drug stores, dollar stores, restaurants, hobby stor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drug stores will surviv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would you find out about the financial strength of the tenan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would be a crucial time to find this o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QQD here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ant Improvements &amp; Leasing Commissions in DC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 Improvemen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imate probability of renewal vs. new lease and the costs per square foot for 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weighted average of above x sq ft of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 inflation/growth factor depending on when in holding period expense is estimated to occ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Vs.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ers of tenants in office space visit the property due to having appoin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ail customers typically are spur of the moment visitors so the location is much more important for retail vs.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gress: Entrance into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gress: Exit from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th should be clear, visible from the road, and located near major roads and other retail shopping cen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ant Improvements &amp; Leasing Commissions in DC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ing Commiss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imate probability of renewal vs. new lease and the costs as % of EGI for 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culate weighted average of above x % of EGI of space x length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inflation/growth factor as this is included in DCF estimation of EGI for a given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survey market averages for inputs to include cost of renewal and new lease and length of le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Sess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Character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A, B, &amp; 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es features based on construction materials used, floor and roof structures, fireproofing, quality of interior finish/amenities, and lo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A is typically skyscraper qu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nforced concrete framing, superior location and access, good condition and professional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B is typically suburban office buildings, with brick façade, and professionally landscap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C is typically old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5-25 years)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lock walls, notable physical deterioration (or converted retail spa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Office Character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medical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near the hospit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professional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in office park or in neighborhoods of similar quality and ut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near residential areas where employees of the tenants l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downtown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have adequate parking, be near hotels, restaurants, and have good access from major high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ss Building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tal square footage of the building, measuring from outside wall to outside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 Rentable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ctual useable area.  The gross area less areas not rented by tenant (restrooms, public corridors, janitor closet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or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et amount of additional office space that is leased in a year’s time.  Can be positive or negative (if new product is built but not leas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bestos has been a major problem in attaining financing by 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consider the age and condition of the elev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ge and efficiency of the HVAC, roof, and the ut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se terms are typically 3-5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s include doctors, lawyers, insurance, banks, other service sector emplo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entioned earlier, retail properties are more dependent on the whims of the customers (rather than appointment orient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hing like that appointment at McDonald’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chor ten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onal or regional chain store that is the primary draw for customers to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Line ten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rting players relative to the anch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mino Cla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retail leases will specify that if the anchor tenant leaves, the other supporting tenants have the ability to break their leases early (for a fe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known as a “Go Dark Claus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les per square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a key measure of performance for retail tenants.  Investors can request last few years of sales history to gauge success at location (and the probability that a tenant will renew their le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ighborhood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pping center containing up to 150,000 sq.ft. of leasa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will have an anchor (Food Lion), strong supporting players (Dollar General), and local mom &amp; pop tenants (local nail salon or local restaura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many of these in most comm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determine if the property is experiencing a positive trend line or a negative trend 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3:45Z</dcterms:modified>
  <cp:revision>48</cp:revision>
  <dc:subject/>
  <dc:title>Tonight’s Plan</dc:title>
</cp:coreProperties>
</file>