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3D3-3A94-40D7-9792-3013627D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B2E-3BD0-4104-8359-596248C5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63C-EBA2-4C97-B412-F439CB41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BF7-BD54-4806-A567-C3B3279D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897C-B331-4DBB-8A5D-2C931813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8956-5B0C-4CD9-B685-04B6F567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80C4-2A28-430F-9BC2-DAEFC1AF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0202-6E00-4FF1-B8DF-419BA990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5711-33A2-4CD6-AC57-898A487E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BD1E-A6CF-4D51-AEEE-BE266ACD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91C1-9FBA-4963-A6F9-F3692FA3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8B4-6B99-44E0-9F88-FB2DCB4D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E445-C487-4D42-AA3C-5A8962F9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DE11-A66D-4DD1-A507-3054CC3C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513C-4401-4B1F-A168-55BB5975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F567-F8B2-4D6B-B94B-9056FEB8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AD45-E3EB-4E1F-9AC9-19A8857B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A0B-18A5-4C6A-9925-550EE281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943-E786-47A4-9BF4-F075DFD9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BFC-30CB-467A-A2A3-1E0D3991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C2C-56D4-4F75-852C-D90C95DA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0F9-7133-4175-89B4-09509650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E76-054D-457C-9C61-88ADFFA1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CF9-7AE8-4465-AB08-877F9C5A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D4E5-B594-4626-81C6-4653D7435B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28E7-4A5A-43B8-8CCB-EB425F34BA1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Fiv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ortance of Market Re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natomy of a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-case on reading a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ex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 and operating expenses tied to index (CP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duated Rental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 can move up or down during term of l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calator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sor pays first year operating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see pays overage for remaining y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aluation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riodic rent adjustments based on revaluation of prope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ood for properties in flux (redevelopm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M and NNN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819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leases provide for tenants reimbursing owners for various expen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for the maintenance of the common areas of a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could be for repairs, taxes, insurance, and utilities as negotiated by the owner and ten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Area Maintenance (CAM) must be paid by the owner for any space in property that is vacan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Area Maintenance (CAM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2361960"/>
            <a:ext cx="6248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M is typically for repairs, maintenance, and utilities but can be for any expense depending on how the lease is structu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ch tenant would typically reimburse the owner for their proportionate share of the expense being sha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ider the following rent roll and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4419720"/>
          <a:ext cx="5028840" cy="2100240"/>
        </p:xfrm>
        <a:graphic>
          <a:graphicData uri="http://schemas.openxmlformats.org/drawingml/2006/table">
            <a:tbl>
              <a:tblPr/>
              <a:tblGrid>
                <a:gridCol w="2176920"/>
                <a:gridCol w="285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q. Ft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ena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cle Bobby's Toy &amp; Hobb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0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rvelous Marvin'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p and Ro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50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Eate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553080" y="4419720"/>
          <a:ext cx="2282760" cy="2132640"/>
        </p:xfrm>
        <a:graphic>
          <a:graphicData uri="http://schemas.openxmlformats.org/drawingml/2006/table">
            <a:tbl>
              <a:tblPr/>
              <a:tblGrid>
                <a:gridCol w="1400400"/>
                <a:gridCol w="882360"/>
              </a:tblGrid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x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suran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pair/Mai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,0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tiliti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,5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on Area Maintenance (CAM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2362320"/>
          <a:ext cx="7693200" cy="3740040"/>
        </p:xfrm>
        <a:graphic>
          <a:graphicData uri="http://schemas.openxmlformats.org/drawingml/2006/table">
            <a:tbl>
              <a:tblPr/>
              <a:tblGrid>
                <a:gridCol w="939960"/>
                <a:gridCol w="2581200"/>
                <a:gridCol w="939960"/>
                <a:gridCol w="941400"/>
                <a:gridCol w="1350720"/>
                <a:gridCol w="939960"/>
              </a:tblGrid>
              <a:tr h="90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q. Ft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ena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ax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Insu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pair/Mai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Utiliti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cle Bobby's Toy &amp; Hobb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12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,62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rvelous Marvin'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p and Rob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2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4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8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Eater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7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87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,6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77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,5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663560" y="63612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o pays if there is a vacanc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other CAM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own a 20,000 sq. ft. retail strip center.  There are currently four tenants.  The leases allow for the taxes, insurance, utilities, repairs and maintenance to be paid by the tenants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uch in $ per square foot would each tenant reimburse the landlord for the current year if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xes are $20,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surance is $4,5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tilities are $7,5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pairs &amp; maintenance is $20,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uch would each tenant pay annually if each tenant occupied 5,000 square feet of spac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f a tenant vacates?  Who pays the expenses the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of an expense sto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tenant has an expense stop of $5 per square foot based on expenses during the first year of the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enses are currently $7 per square foot and the tenant has 15,000 sq. ft. of rentable are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does the owner and tenant pay in expenses for this tenant’s spa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wner pays: $5 x 15,000= $75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pays: $2 x 15,000= $30,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Lease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ce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ase will disclose amount of free rent, if tenant improvements will be paid by the owner, and other discou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When would these be more likely: Low or High Vacancy market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on-compete clau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ase will specify if cannot lease adjacent space to a competi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on-dilution/radius clau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r if tenant cannot lease another location within a certain radi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on for retail leas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omino (or “Go Dark”) Clau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f anchor tenant vacates, in-line (or supporting) tenants may have the ability to break their leases for a specified f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se Contents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der approval of major le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both changes to existing tenant mix and for any new ten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ad Fa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to pro-rat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ntable area per floor divided by useable area per flo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se Addendums: S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bordina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ease is subordinate to all provisions of loan including renewals, modifications and exten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-Disturbanc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event of foreclosure, tenant can stay in property as long as they are paying rent as ag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ttornment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enant agrees to be tenant for any subsequent landlord (bank or otherwis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se Rollover Ri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ion of % of leases maturing in same peri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ted maturity vs. business risk iss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a concern for both investors and len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ic property may be performing well but others in portfolio could cause repayment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cation &amp; Tena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Househol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ek to avoid transportation costs, want to locate close to economic cen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ek proximity to customers, suppliers, and work fo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 Pr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ce of land decreases with further distance from economic activity cente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fective R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 value of the expected income stream from the lease minus any expen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ed to compare leasing alterna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tract out any expenses landlord must p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Panera Bread leases 2,000 sq. ft. in a retail strip center in Winston-Salem.  They are paying $20 per square foot for the next five years, absolute net.  Each year, the rent will increase by 5%.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e the effective rent for this lease assuming a 10% discount ra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nera Bread Effective R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2362320"/>
          <a:ext cx="8305920" cy="2649240"/>
        </p:xfrm>
        <a:graphic>
          <a:graphicData uri="http://schemas.openxmlformats.org/drawingml/2006/table">
            <a:tbl>
              <a:tblPr/>
              <a:tblGrid>
                <a:gridCol w="1600200"/>
                <a:gridCol w="1425600"/>
                <a:gridCol w="1319040"/>
                <a:gridCol w="1319400"/>
                <a:gridCol w="1322280"/>
                <a:gridCol w="1319400"/>
              </a:tblGrid>
              <a:tr h="51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ar 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nual 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 40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2,0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4,10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6,30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   48,62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cou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cto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33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46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6105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V of 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  36,363.64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4,710.74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3,132.98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1,629.1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30,189.19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P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$166,025.65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990720" y="5181480"/>
            <a:ext cx="64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o then calculate effective rent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=5, I=10, PV= (166,025.65), FV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lve for PMT=  $43,797.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member: Set your calculator to 1 P/Yr!!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thumbnail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276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2057400" y="762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round Lease Decis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52578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How many different owners could there be in a ground leas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Which portion of the property would you want to own and wh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6720" y="804960"/>
            <a:ext cx="80668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und Leases: Bank’s Perspect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le and Lease Back of Land creates a ground lease between the purchaser of the land, and the owner of the buil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banks will not want to loan against a property that has a ground lease, unless that ground lease has a substantial period of time left on the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e Rule of Thumb is that lease should exceed the amortization of the loan by at least 25 yea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ce the ground lease expires, the building improvements may revert back to the owner of the land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S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581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xt Se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ket Research Mini-C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3810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cal Market Stud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l Estate Brokers typically have regional or sub-market related information available for their customers (for a fe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l appraisers can also be hired to conduct market studies for an inves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y vacancy, rental, and expense rates in ar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level of new construction approved or under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analysis of demographic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is similar to your WFU Off-Campus Student Housing Occupancy Stud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ick the Tires Your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hing beats visiting the property yourself, obtaining pictures of the property, and assessing the neighborhood and overall location of the property being considered as an invest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ctures in broker packages often represent the “best case” view of a property, so as an investor, seeing is believin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ortance of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e represents the “duration” of the income stream for an investment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e is an agreement between the lessor (owner) and lessee (tena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se Terms can vary depending on property typ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partment: monthly to annu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fice/retail: monthly up to five y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tel/motel: dai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rehouse/industrial: much longer terms (20 yea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Price of Rent is Determin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et Rates for Comparable Sp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k brokers, appraisers, other market particip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ew additional rent relative to IRR and NP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otiation between lessor and less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natomy of a Le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ies to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ngth of L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roved use &amp; legal description of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ponsibility for maintenance and repa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d by negotiating power of landlord and tena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Limitations on expen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area maintenance (CA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 rent plus any escal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newal op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atomy of a Lease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uld be set over entire term of l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uld rise with a certain index (CPI for examp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ex should not be something controlled by the landlo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rcentage/Overage R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 retail properties.  Have a base rent and then additional rent once tenant’s sales surpass a certain benchmar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 example: Tenant pays $20 per square foot annually, but could also pay 1% annually for sales over $400,000 at the Panera Bread located on Miller Stree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f rent is fixed over entire term of lease, who bears the risk if rental rates rise over the perio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L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e of lease: Gross, Modified Gross, or 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ross/Full Servi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owner pays all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odified Gros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nant pays for some expenses (possibly utilities for an office build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bsolute Ne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enant pays all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iple Ne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enant pays for taxes, insurance, and maintenance of prope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ense Stops:  owner pays for expenses up to a certain (stop) point.  Above this level, the tenant pa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enses are passed through to the tenan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15:02Z</dcterms:modified>
  <cp:revision>77</cp:revision>
  <dc:subject/>
  <dc:title>Tonight’s Plan</dc:title>
</cp:coreProperties>
</file>