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6B0-64E8-4435-9941-53F2B259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DB0-8713-4CE4-AC48-F1346592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06A-D24D-4EB7-8B3E-3A2B12D4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DB0-40AA-4A91-AA5A-600EAE93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5500-1239-4C8B-9CF3-204154E6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FFA4-2940-4177-A884-F5BD98EA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4D44-3062-4777-BA84-1932911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18DD-22F7-4500-97EE-E4375616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A3DE-B1F1-450F-99E3-B7DC934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6695-B6E4-4170-8B00-E731918A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D30-0029-45F9-AAC1-A7BCD4B7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842-8493-4338-8A79-8036A7C3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6AE1-F47C-437C-B6BC-C0E628AF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E562-4265-4FAE-8D2A-B3A4871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795-051E-4A63-ACDB-E60C354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0FD-69F9-4BD0-A30F-A74AF191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43D1-AEF5-4619-9880-17E590DB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E37-7BF7-4814-B7F1-ABFFB56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98B-B1D7-4A04-92DC-9D1DAE38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826-527F-4A3F-9B67-6AC5657C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5E9-708E-4CE9-8C07-18417A22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995-4450-4243-988C-B4C942A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A59-8EDB-43FF-8902-E68B495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D19-396F-45E8-875E-450BBE5B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675F-1A0A-48F2-B16E-D91A94DD2F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940C-CD2B-407E-A5C7-3BCBF7B5EC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.TpSRJoIYAAZ.JzbkF;_ylu=X3oDMTBrcHJ2Z3FsBHBvcwMyMzIEc2VjA3NyBHZ0aWQD/SIG=1m4vkhdtf/EXP=1227224851/**http%3A//images.search.yahoo.com/images/view%3Fback=http%253A%252F%252Fimages.search.yahoo.com%252Fsearch%252Fimages%253Fp%253Dfriedrich%252Bnietzsche%2526ni%253D20%2526ei%253DUTF-8%2526fr%253Dyfp-t-501-s%2526fr2%253Dtab-web%2526xargs%253D0%2526pstart%253D1%2526b%253D221%26w=720%26h=895%26imgurl=www.wyldeart.com%252FGalleries%252FExpressionist%252FEdvard_Munch%252FImages%252FFriedrichNietzsche4Up.jpg%26rurl=http%253A%252F%252Fwww.wyldeart.com%252FGalleries%252FExpressionist%252FEdvard_Munch%252Findex.shtml%26size=46.4kB%26name=FriedrichNietzsche4Up.jpg%26p=friedrich%2Bnietzsche%26type=JPG%26oid=484a7f99017f7b4e%26no=232%26tt=14,908%26sigr=128kodgf9%26sigi=12mplu2l3%26sigb=143idje6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Twel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s as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QD of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Valuation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end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Historical Perform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880" y="617220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 you can see, mortgage REITs are historically more volatile than equity RE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79360" y="2362320"/>
            <a:ext cx="7010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folio Mix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an review annual reports of REIT mutual funds to obtain information for how they allocate their investment dolla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160" y="5943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looks like REIT 1 has more confidence in the office market but much less in retail than does REI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3657600"/>
          <a:ext cx="4191120" cy="2274840"/>
        </p:xfrm>
        <a:graphic>
          <a:graphicData uri="http://schemas.openxmlformats.org/drawingml/2006/table">
            <a:tbl>
              <a:tblPr/>
              <a:tblGrid>
                <a:gridCol w="1698480"/>
                <a:gridCol w="1246320"/>
                <a:gridCol w="1246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nt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strategy involves maximizing the gross potential income by keeping overall portfolio vacancy rates as low as possi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3657600"/>
          <a:ext cx="4267080" cy="2817720"/>
        </p:xfrm>
        <a:graphic>
          <a:graphicData uri="http://schemas.openxmlformats.org/drawingml/2006/table">
            <a:tbl>
              <a:tblPr/>
              <a:tblGrid>
                <a:gridCol w="1989000"/>
                <a:gridCol w="1138320"/>
                <a:gridCol w="1139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ghted Av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01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portfolio diversification strategy is to concentrate on properties that have high quality, nationally known companies as tenant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3886200"/>
          <a:ext cx="8001000" cy="2344680"/>
        </p:xfrm>
        <a:graphic>
          <a:graphicData uri="http://schemas.openxmlformats.org/drawingml/2006/table">
            <a:tbl>
              <a:tblPr/>
              <a:tblGrid>
                <a:gridCol w="2198880"/>
                <a:gridCol w="3311280"/>
                <a:gridCol w="249084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 5 Tenants by Square Footage for 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HP Petroleu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ublix Supermarke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oitte &amp; Tou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ck’s Sporting Goo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al 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owell &amp; Mor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oration Hardwa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k of NY Mell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ss Dress for L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ehne &amp; Nage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crosof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k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123280" y="6361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e any problem companies her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urabi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’s see how REIT 1 looks in terms of the durability of the lease inco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5880" y="621360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Retail: low percentage of portfolio but long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429000"/>
          <a:ext cx="7848360" cy="2657520"/>
        </p:xfrm>
        <a:graphic>
          <a:graphicData uri="http://schemas.openxmlformats.org/drawingml/2006/table">
            <a:tbl>
              <a:tblPr/>
              <a:tblGrid>
                <a:gridCol w="1412640"/>
                <a:gridCol w="952200"/>
                <a:gridCol w="952560"/>
                <a:gridCol w="952200"/>
                <a:gridCol w="952920"/>
                <a:gridCol w="952200"/>
                <a:gridCol w="1673640"/>
              </a:tblGrid>
              <a:tr h="93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6 &amp; Beyo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ITs (or wealthy investors) have the ability to reduce local market risk via diversific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low is how REIT 1 is diversified in this way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4038480"/>
          <a:ext cx="6400800" cy="2276640"/>
        </p:xfrm>
        <a:graphic>
          <a:graphicData uri="http://schemas.openxmlformats.org/drawingml/2006/table">
            <a:tbl>
              <a:tblPr/>
              <a:tblGrid>
                <a:gridCol w="1355760"/>
                <a:gridCol w="1008000"/>
                <a:gridCol w="1011240"/>
                <a:gridCol w="1006560"/>
                <a:gridCol w="1010880"/>
                <a:gridCol w="1008360"/>
              </a:tblGrid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Ea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Mid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Foreig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method of viewing this type of portfolio risk smoothing is by Metropolitan Statistical Area (MSA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4495680"/>
          <a:ext cx="7504200" cy="2009880"/>
        </p:xfrm>
        <a:graphic>
          <a:graphicData uri="http://schemas.openxmlformats.org/drawingml/2006/table">
            <a:tbl>
              <a:tblPr/>
              <a:tblGrid>
                <a:gridCol w="493560"/>
                <a:gridCol w="5727960"/>
                <a:gridCol w="1282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S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% of To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shington-Arlington-Alexandria-DC-VA-MD-W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ston-Quincy 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s Angeles-Long Beach-Glendale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n Francisco-San Mateo-Redwood City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uston-Bay Town-Sugar Land T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nt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ong dividends, maximize GPI, growth orientation purchased at discou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cus strategy:  less diversif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versified: higher expen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ionally known tenants, NNN REITs, Blue Chip RE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rabi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rollover risk, length of leases, geographic disper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Rollov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duration of the income stream on associated propert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based on the lack of a high concentration on any particular tenant for the total reven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region or type of property in an effort to reduce concentration on one area or property ty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Valuatio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don Dividend Growth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ds from Operations (FFO) Mult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Asset Value (NA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sachusetts Trust (19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until 193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led void for corporations owning 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federal tax, &amp; no distributions tax for shareholder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ment Company Act of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d end mutual funds lobbied for equal treatment until tax law was amended in 19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management structure was required until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ordon Dividend Growth Mod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ilizes future dividend per share expected next year to calculate stock price as the present value of expected futur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 dividend growth is assum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gin with DCF based on projected revenue and expenses to estimate FFO for an assumed holding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in reversion to obtain PV of fi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ide by # of outstanding shares to obtain D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035760"/>
            <a:ext cx="2073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 = 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k-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647712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64560" y="613260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$50.00 =     $3.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0.10-0.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400800"/>
            <a:ext cx="1447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0000" y="8103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O Multi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the Price to Earnings Rat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FO:  Net income (GAAP) excluding gains or losses from sales of property or debt restructuring adding back RE depre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FFO/share * FFO Mu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:  Historical multiple for REIT or peer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as good as the comparable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Aggregate Stabilized NO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ended Cap Ra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lended cap rate is difficult for diversified asse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he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d value of specific properties and divide by property specific cap rates to obtain value of portfol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ce find value, subtract out debt to obtain NA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s quoted in terms of Net Asset Value (NA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olding Period Return=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now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–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+ Di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holding perio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</a:t>
            </a: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3124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410080"/>
            <a:ext cx="2666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265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Valuation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classifications of recurring expenses for F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Improvements, Leasing Com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expense, subtract from FF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capital improvement, amortized on balance she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justed FFO (AFF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s FFO for expenses, while capitalized, which do not enhance property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iminates straight lining of r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SB 13: Free rent or increases must be equalized (straight-lined) over term of le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ternation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162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tional RE Investment is becoming more of an area of stud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istorically International RE Investment focused on Blue Chip properties in well known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becoming more frequent in Emerging Mark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in Developing Countries typically centers around Tier I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ITs have been embraced by Islamic Finance given the verifiable nature of the assets included in the investment poo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initial requirement for external management still exists in many countries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327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erging Market Property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682720"/>
          <a:ext cx="7693200" cy="30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82720"/>
                    <a:ext cx="76932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repays a teacher badly if one always remains a pupil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us Spoke Zarathustra, On the Gift Giving Virtue, pg. 7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forth and invest in Real Estate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590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26440" y="597996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iedrich Nietzs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l Estate Investment Trusts (REIT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established in US in 196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1 Australia, 1985 Turkey, Canada 1993, Singapore 1999, Japan 2000, Hong Kong &amp; France 2003, Germany in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 Minimum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sharehol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% of value of REIT assets in RE, cash, or gov’t secur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% of gross income from dividends, interest, rents, or gains from sale of REIT asse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areholder distributions at least 90% of REIT taxable income annu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itional European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verage is limited (50% in Germany, France, Spain; 20% for most Austrian REITs, a coverage ratio of 1.25x EBIT/Int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mits for size of any one property (15% in G-REIT, 40%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U REIT Strategies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/nuclea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low risk)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-Plus/Value Adde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edium risk) an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portun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high ris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 Umbrella Partnership RE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92 to allow existing RE operating companies to bring property already owned under umbrella of REIT w/o capital gains t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owns controlling interest in limited partnership that owns the real es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wners of limited partnership can convert operating units into REIT shares, vote, &amp; receiv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9720" y="8200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ed after REIT goes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own numerous partnership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wn REIT owns property directly in REIT, but holds some properties in partnership with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tax liability until partnership units are converted into stock or so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centive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could be reluctant to sell if they own operating units rather than REIT sh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to tax when s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management does not own operating units, could become “trigger happy” with sales given the lack of tax consequences from s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Tax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holders pay taxes on dividends received via form 10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21 Exchange:  Like Kind Exchange for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mited Partners of Up and Down REITs can exchange partnership units for interests in other RE via like kind excha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be investment grad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vestors receive operating units rather than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 and Down REITs have advantages for tax sensitive sell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tgage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yday in 1970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ty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common form 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ybri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 in both mortgages and equ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tual Fun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for personal inves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tual Fund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mutual fund in Netherlands in 177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rn mutual funds began in US in 19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truly “mutual” as it was organized, operated, &amp; managed by its own trust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pha Fund: shareholders own funds which own management comp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mega Fund: Mgmt company shareholders own mgmt company which controls mutual fund owned by mutual fund sharehold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mt company shareholder interests are introduc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gher costs typically given competing goals of shareholder wealth creation &amp; profit for external mgmt compa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36:10Z</dcterms:created>
  <dc:creator>leila</dc:creator>
  <dc:description/>
  <dc:language>en-US</dc:language>
  <cp:lastModifiedBy>G Jason Goddard</cp:lastModifiedBy>
  <dcterms:modified xsi:type="dcterms:W3CDTF">2012-03-12T13:43:49Z</dcterms:modified>
  <cp:revision>125</cp:revision>
  <dc:subject/>
  <dc:title>Slide 1</dc:title>
</cp:coreProperties>
</file>