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8E38F-6ABA-4EDA-8046-2DA83154A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0798B-4990-4102-B3A6-5327BB31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38999-0566-4684-8E3E-13A5DA91B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8BB76-79D8-47A6-A7BD-E96945E0B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D7973-4E54-49E9-8BF7-B55A8FE2B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3005-9915-4794-93C1-0312555DE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70BE6-62C5-4D29-882B-F3F18ED9D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B780-7076-43FA-A6A6-450A17A19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2F711-98F9-4AD9-A574-7CA2AFA3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D5237-CB81-4387-AD99-8BCDED042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9F0C-155B-4527-A340-96984E8E9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DF22-B4CB-404D-B589-EAF03EEB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A56D-A14B-4262-B80C-4FC2DE7C9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EF4E6-41FA-4A1C-9171-19EEA873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88F56-04F0-4570-A0C6-E53EF851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ECE30-5F86-44CF-906C-4DCD708CB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6E1FD-5511-4EE0-BF24-95BC8E504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E3B0-C23A-45B1-A5BA-226533F40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0679B-B77E-4C3A-B279-D551B8F2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2ADD-A810-44D0-B228-97825A08E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31558-18C8-4C01-A0C0-994131513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BBBC-C5D1-4F54-9BC3-09DF70DFC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4F30-DFDF-47F2-9DF9-2703D4C7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9E3A-AC64-40F9-A181-7E4D80FEE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5C9E-0FA8-4F88-878A-E061820CC47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B389-AA97-402E-A4CE-12FD68B15C6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ev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xation of Incom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Good the Bad and 1031 Ex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 Exampl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Case: Sensitivity Analysis Revisit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 Pass-Through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Vic and Sal Tyan own Tyan Investments, LLC on a 50/50 ba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 taxable income from Tyan Investments, LLC for 2011 was $410,00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Vic and Sal own 50% of the partnership, each will report taxable income of $205,000 on their personal tax returns for 201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2011, this would place both Vic and Sal in the 28% marginal tax bracket, ceteris parib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53240" y="834120"/>
            <a:ext cx="816120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ersonal Tax Returns</a:t>
            </a:r>
            <a:br>
              <a:rPr sz="3200"/>
            </a:br>
            <a:r>
              <a:rPr b="1" lang="en-US" sz="3200" spc="-1" strike="noStrike">
                <a:solidFill>
                  <a:srgbClr val="006666"/>
                </a:solidFill>
                <a:latin typeface="Arial"/>
              </a:rPr>
              <a:t> “Lettered Schedules”</a:t>
            </a:r>
            <a:endParaRPr b="1" lang="en-US" sz="3200" spc="-1" strike="noStrike">
              <a:solidFill>
                <a:srgbClr val="006666"/>
              </a:solidFill>
              <a:latin typeface="Arial"/>
            </a:endParaRPr>
          </a:p>
        </p:txBody>
      </p:sp>
      <p:sp>
        <p:nvSpPr>
          <p:cNvPr id="11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A</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te and local taxes, itemized deduction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B</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rest &amp; Dividends (both active and passiv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C</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ole Proprietor profit and loss statement</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D</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pital Gains and Losse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E</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vestment Real Estate, Royalties, &amp; Pass-through income</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F</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arming Profit and Loss</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 K</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inks with Corporate Return: shareholder capital contributions and draw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hedule K-1 for each individual or entity with ownership interest in corporation</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04960" y="804960"/>
            <a:ext cx="7838280" cy="5994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Heck is a K-1?</a:t>
            </a:r>
            <a:endParaRPr b="1" lang="en-US" sz="3600" spc="-1" strike="noStrike">
              <a:solidFill>
                <a:srgbClr val="006666"/>
              </a:solidFill>
              <a:latin typeface="Arial"/>
            </a:endParaRPr>
          </a:p>
        </p:txBody>
      </p:sp>
      <p:sp>
        <p:nvSpPr>
          <p:cNvPr id="119" name="PlaceHolder 1"/>
          <p:cNvSpPr>
            <a:spLocks noGrp="1"/>
          </p:cNvSpPr>
          <p:nvPr>
            <p:ph/>
          </p:nvPr>
        </p:nvSpPr>
        <p:spPr>
          <a:xfrm>
            <a:off x="685440" y="2361960"/>
            <a:ext cx="792468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 K is on a corporate return</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owner files one (K-1) to show amount of taxable income from a passthrough entity (LLC, Partnership,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shows bank how much capital was contributed and drawn by the owner for each fiscal yea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33680" y="810360"/>
            <a:ext cx="836172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terplay of Personal and Business Tax Returns</a:t>
            </a:r>
            <a:endParaRPr b="1" lang="en-US" sz="2800" spc="-1" strike="noStrike">
              <a:solidFill>
                <a:srgbClr val="006666"/>
              </a:solidFill>
              <a:latin typeface="Arial"/>
            </a:endParaRPr>
          </a:p>
        </p:txBody>
      </p:sp>
      <p:pic>
        <p:nvPicPr>
          <p:cNvPr id="121" name="" descr=""/>
          <p:cNvPicPr/>
          <p:nvPr/>
        </p:nvPicPr>
        <p:blipFill>
          <a:blip r:embed="rId1"/>
          <a:stretch/>
        </p:blipFill>
        <p:spPr>
          <a:xfrm>
            <a:off x="762120" y="2514600"/>
            <a:ext cx="815328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Forms of Taxable Income</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ss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ome/losses from trade or business where investor does not actively participate in management of the company</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tal Income is considered passiv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ve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or materially participate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real estate: hotels and nursing home ownership is considered active income (if they materially participate), the rest is considered passiv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laries, wages, bonuses, &amp; commissions</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Incom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vestment income (interest &amp; dividends) where investor does not control majority ownership in the property/company</a:t>
            </a:r>
            <a:endParaRPr b="0" lang="en-US" sz="18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62120"/>
            <a:ext cx="815328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pital Gains &amp; Losses</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gured on Net Sales Proceed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Capital Gains/Losses= Gross sales price- selling expenses-adjusted basi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ling expenses</a:t>
            </a:r>
            <a:r>
              <a:rPr b="0" lang="en-US" sz="2000" spc="-1" strike="noStrike">
                <a:solidFill>
                  <a:srgbClr val="003366"/>
                </a:solidFill>
                <a:latin typeface="Arial"/>
              </a:rPr>
              <a:t> are legal fees, recording fees, and brokerage fe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djusted basis</a:t>
            </a:r>
            <a:r>
              <a:rPr b="0" lang="en-US" sz="2000" spc="-1" strike="noStrike">
                <a:solidFill>
                  <a:srgbClr val="003366"/>
                </a:solidFill>
                <a:latin typeface="Arial"/>
              </a:rPr>
              <a:t> is its original basis (cost of land, improvements, acquisition and installation fees) plus the cost of any capital improvement, alterations, or additions made during the period of ownership, less accumulated depreciation taken by the time of sal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taxes on the amount of gain on sale of real estate of up to 25% for 2010</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less you use those proceeds from the sale to purchase another similar proper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31 Exchange (or Like Kind Exchang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y sold and new property must be classified either business or investment propert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5 days to identify a qualified intermedia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ve a 45 day inspection period once initial sale goes through</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have up to 180 days to find a new investment and close on the purchas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is is accomplished, the investor does not have to pay taxes on the capital gains associated with the sale of the initial property</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14680" y="815040"/>
            <a:ext cx="7818840" cy="7322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ultaneou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layed/Deferr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vers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ment</a:t>
            </a:r>
            <a:endParaRPr b="0" lang="en-US" sz="2000" spc="-1" strike="noStrike">
              <a:solidFill>
                <a:srgbClr val="003366"/>
              </a:solidFill>
              <a:latin typeface="Arial"/>
            </a:endParaRPr>
          </a:p>
        </p:txBody>
      </p:sp>
      <p:sp>
        <p:nvSpPr>
          <p:cNvPr id="13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fica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1031 defini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verage*</a:t>
            </a:r>
            <a:endParaRPr b="0" lang="en-US" sz="2000" spc="-1" strike="noStrike">
              <a:solidFill>
                <a:srgbClr val="003366"/>
              </a:solidFill>
              <a:latin typeface="Arial"/>
            </a:endParaRPr>
          </a:p>
        </p:txBody>
      </p:sp>
      <p:sp>
        <p:nvSpPr>
          <p:cNvPr id="131" name=""/>
          <p:cNvSpPr/>
          <p:nvPr/>
        </p:nvSpPr>
        <p:spPr>
          <a:xfrm>
            <a:off x="1371600" y="480060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oot</a:t>
            </a:r>
            <a:r>
              <a:rPr b="0" lang="en-US" sz="1800" spc="-1" strike="noStrike">
                <a:solidFill>
                  <a:srgbClr val="003366"/>
                </a:solidFill>
                <a:latin typeface="Arial"/>
              </a:rPr>
              <a:t>:  Money, Debt relief, fair market value of other propert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lower equity position, will be taxed for differen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rade for property of lower market value, will more than likely be taxed for the difference in form of boo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3" name="PlaceHolder 1"/>
          <p:cNvSpPr>
            <a:spLocks noGrp="1"/>
          </p:cNvSpPr>
          <p:nvPr>
            <p:ph/>
          </p:nvPr>
        </p:nvSpPr>
        <p:spPr>
          <a:xfrm>
            <a:off x="4343040" y="2361960"/>
            <a:ext cx="44197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balance equi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 loan by $100M</a:t>
            </a:r>
            <a:endParaRPr b="0" lang="en-US" sz="20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B</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 $100M in cash</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down mortgage by $100M</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ach represents boot and will be taxed</a:t>
            </a:r>
            <a:endParaRPr b="0" lang="en-US" sz="2800" spc="-1" strike="noStrike">
              <a:solidFill>
                <a:srgbClr val="003366"/>
              </a:solidFill>
              <a:latin typeface="Arial"/>
            </a:endParaRPr>
          </a:p>
        </p:txBody>
      </p:sp>
      <p:graphicFrame>
        <p:nvGraphicFramePr>
          <p:cNvPr id="134" name=""/>
          <p:cNvGraphicFramePr/>
          <p:nvPr/>
        </p:nvGraphicFramePr>
        <p:xfrm>
          <a:off x="990720" y="2438280"/>
          <a:ext cx="3276360" cy="3326040"/>
        </p:xfrm>
        <a:graphic>
          <a:graphicData uri="http://schemas.openxmlformats.org/drawingml/2006/table">
            <a:tbl>
              <a:tblPr/>
              <a:tblGrid>
                <a:gridCol w="1123560"/>
                <a:gridCol w="1076400"/>
                <a:gridCol w="1076400"/>
              </a:tblGrid>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A</a:t>
                      </a:r>
                      <a:endParaRPr b="0" lang="en-US" sz="1400" spc="-1" strike="noStrike">
                        <a:solidFill>
                          <a:srgbClr val="003366"/>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Investor B</a:t>
                      </a:r>
                      <a:endParaRPr b="0" lang="en-US" sz="14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7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Office</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Retail</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Market Valu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2,0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9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Loans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Equity (=)</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4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384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Difference</a:t>
                      </a:r>
                      <a:endParaRPr b="0" lang="en-US" sz="14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endParaRPr b="0" lang="en-US" sz="1400" spc="-1" strike="noStrike">
                        <a:solidFill>
                          <a:srgbClr val="003366"/>
                        </a:solidFill>
                        <a:latin typeface="Arial"/>
                      </a:endParaRPr>
                    </a:p>
                  </a:txBody>
                  <a:tcPr anchor="b" marL="90000" marR="90000">
                    <a:lnL>
                      <a:noFill/>
                    </a:lnL>
                    <a:lnR>
                      <a:noFill/>
                    </a:lnR>
                    <a:lnT>
                      <a:no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1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Balance</a:t>
                      </a:r>
                      <a:endParaRPr b="0" lang="en-US" sz="14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a:noFill/>
                    </a:lnR>
                    <a:lnT>
                      <a:noFill/>
                    </a:lnT>
                    <a:lnB w="5760">
                      <a:solidFill>
                        <a:srgbClr val="000000"/>
                      </a:solid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Times New Roman"/>
                        </a:rPr>
                        <a:t>     </a:t>
                      </a:r>
                      <a:r>
                        <a:rPr b="0" lang="en-US" sz="1400" spc="-1" strike="noStrike">
                          <a:solidFill>
                            <a:srgbClr val="003366"/>
                          </a:solidFill>
                          <a:latin typeface="Arial"/>
                          <a:ea typeface="Times New Roman"/>
                        </a:rPr>
                        <a:t>500,000 </a:t>
                      </a:r>
                      <a:endParaRPr b="0" lang="en-US" sz="14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031 Exchange</a:t>
            </a:r>
            <a:endParaRPr b="1" lang="en-US" sz="3600" spc="-1" strike="noStrike">
              <a:solidFill>
                <a:srgbClr val="006666"/>
              </a:solidFill>
              <a:latin typeface="Arial"/>
            </a:endParaRPr>
          </a:p>
        </p:txBody>
      </p:sp>
      <p:sp>
        <p:nvSpPr>
          <p:cNvPr id="136" name="PlaceHolder 1"/>
          <p:cNvSpPr>
            <a:spLocks noGrp="1"/>
          </p:cNvSpPr>
          <p:nvPr>
            <p:ph/>
          </p:nvPr>
        </p:nvSpPr>
        <p:spPr>
          <a:xfrm>
            <a:off x="533520" y="2362320"/>
            <a:ext cx="799776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ero Capital Gains Tax wh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ash from sale is used to purchase replacement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lacement property purchased for at least as much as price of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or obtains same amount of financing on replacement property as was paid out on relinquished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th properties meet like-kind definitions and timefram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quity for the properties exchanged is balanc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l Estate Tax Benefits</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reciation R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Expense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sible Points Dedu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eferred Ex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duction of Federal Taxes to obtain ATIR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 Due on Sa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et Sales Proceeds</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justed Basi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tal Taxable Gain</a:t>
            </a:r>
            <a:endParaRPr b="0" lang="en-US" sz="2400" spc="-1" strike="noStrike">
              <a:solidFill>
                <a:srgbClr val="003366"/>
              </a:solidFill>
              <a:latin typeface="Arial"/>
            </a:endParaRPr>
          </a:p>
          <a:p>
            <a:pPr marL="343080" indent="-34308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tion Recapture </a:t>
            </a:r>
            <a:r>
              <a:rPr b="0" lang="en-US" sz="1800" spc="-1" strike="noStrike">
                <a:solidFill>
                  <a:srgbClr val="003366"/>
                </a:solidFill>
                <a:latin typeface="Arial"/>
              </a:rPr>
              <a:t>(if used accelerated method)</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apital Ga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apital Gain Tax</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epreciation Recapture Tax </a:t>
            </a:r>
            <a:r>
              <a:rPr b="0" lang="en-US" sz="1800" spc="-1" strike="noStrike">
                <a:solidFill>
                  <a:srgbClr val="003366"/>
                </a:solidFill>
                <a:latin typeface="Arial"/>
              </a:rPr>
              <a:t>(if necessary)</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ax Due on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Cash Flow From Sale</a:t>
            </a:r>
            <a:endParaRPr b="1" lang="en-US" sz="36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Gross Sales Pr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ling Expens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Net Proceeds from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aining Mortgage Bal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Tax Equity Revers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Due on Sa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Tax Equity Rever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tability Index</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to compare the present value of the before tax cash flows relative to the initial equity invest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PV BTCF &gt; Initial Equity Investment, the investment is “profitable” at the desired internal rate of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d much in practi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derwriting Income Producing Properties</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will follow the following proces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appli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description of property and legal aspect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sh Flow Estimat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Appraisal report and market feasibility study if necessa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ally related to an investor, a bank will typically requir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tting a Package Togethe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Prospective Rent Ro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pies of Leases &amp; Purchase Contra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Years Business Tax Returns (including K-1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Years Personal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Personal Financial Stat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P&amp;L (if not broken out in tax retur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ent on Management Ability &amp;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Appraisal, Phase I, and Survey (if availa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nk Underwriting Proces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tain necessary financial information concern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storical property income and expens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et vacancy, rental and expense ra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credit his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ividual financial strength (liquidity and net wor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chovia performs direct capitalization and/or discounted cash flow analysis to determine how much they would consider lending on a given property and custom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ronger the individuals, the more the lender might want to fin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761760"/>
            <a:ext cx="84582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in RE Investment </a:t>
            </a:r>
            <a:br>
              <a:rPr sz="3600"/>
            </a:br>
            <a:r>
              <a:rPr b="1" lang="en-US" sz="3600" spc="-1" strike="noStrike">
                <a:solidFill>
                  <a:srgbClr val="006666"/>
                </a:solidFill>
                <a:latin typeface="Arial"/>
              </a:rPr>
              <a:t>Risk Analysis</a:t>
            </a:r>
            <a:endParaRPr b="1" lang="en-US" sz="3600" spc="-1" strike="noStrike">
              <a:solidFill>
                <a:srgbClr val="006666"/>
              </a:solidFill>
              <a:latin typeface="Arial"/>
            </a:endParaRPr>
          </a:p>
        </p:txBody>
      </p:sp>
      <p:sp>
        <p:nvSpPr>
          <p:cNvPr id="150" name="PlaceHolder 2"/>
          <p:cNvSpPr>
            <a:spLocks noGrp="1"/>
          </p:cNvSpPr>
          <p:nvPr>
            <p:ph/>
          </p:nvPr>
        </p:nvSpPr>
        <p:spPr>
          <a:xfrm>
            <a:off x="533520" y="2437920"/>
            <a:ext cx="8610480" cy="3953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Diligence is the process of discovering information needed to assess whether an investment risk is suitable given the objectives of the investor &amp; the le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ue Diligence period is similar to fundamental analysis for stock inves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sure that the investment vehicle has the adequate engine for growth &amp; no flat ti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2" name="PlaceHolder 2"/>
          <p:cNvSpPr>
            <a:spLocks noGrp="1"/>
          </p:cNvSpPr>
          <p:nvPr>
            <p:ph/>
          </p:nvPr>
        </p:nvSpPr>
        <p:spPr>
          <a:xfrm>
            <a:off x="457200" y="2209320"/>
            <a:ext cx="807408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erty Rent Ro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certain tenant mix strength and durability of income</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ies of all lease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rder to assess who pays what &amp; is needed for income approach valuation</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ical Profit and Loss on Proper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rvice &amp; Maintenance Contract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itle Insurance &amp; Deed Documents</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ure seller has legal right to convey owner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676800" y="524520"/>
            <a:ext cx="8399160" cy="9313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member to Review Those Leases!</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ss/Full Service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wner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ed Gross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some expenses (a negotiation)</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olute Net Lease (or just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all expense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 Net Lease</a:t>
            </a:r>
            <a:endParaRPr b="0" lang="en-US" sz="2400" spc="-1" strike="noStrike">
              <a:solidFill>
                <a:srgbClr val="003366"/>
              </a:solidFill>
              <a:latin typeface="Arial"/>
            </a:endParaRPr>
          </a:p>
          <a:p>
            <a:pPr lvl="1" marL="683280" indent="-2628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nant pays for taxes, insurance, and maintenance</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would have the highest rent per square foot?</a:t>
            </a:r>
            <a:endParaRPr b="0" lang="en-US" sz="24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urvey of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any encroachments exist</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zoning and government compliance issues are satisfactory</a:t>
            </a:r>
            <a:endParaRPr b="0" lang="en-US" sz="28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ly inspect propert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kick the tires” but also hire a professional property inspector </a:t>
            </a:r>
            <a:endParaRPr b="0" lang="en-US" sz="2400" spc="-1" strike="noStrike">
              <a:solidFill>
                <a:srgbClr val="003366"/>
              </a:solidFill>
              <a:latin typeface="Arial"/>
            </a:endParaRPr>
          </a:p>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duct Engineering Study</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pecially if investor has issues concerning structural soundness of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preciation Defined</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i="1" lang="en-US" sz="2800" spc="-1" strike="noStrike">
                <a:solidFill>
                  <a:srgbClr val="003366"/>
                </a:solidFill>
                <a:latin typeface="Arial"/>
              </a:rPr>
              <a:t>A reasonable allowance for the exhaustion, wear and tear (including a reasonable allowance for obsolescence) of property used in trade or business and of property held for the production of income</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S IRC Title 26, Section 4.2.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e Diligence Review Items</a:t>
            </a:r>
            <a:endParaRPr b="1" lang="en-US" sz="3600" spc="-1" strike="noStrike">
              <a:solidFill>
                <a:srgbClr val="006666"/>
              </a:solidFill>
              <a:latin typeface="Arial"/>
            </a:endParaRPr>
          </a:p>
        </p:txBody>
      </p:sp>
      <p:sp>
        <p:nvSpPr>
          <p:cNvPr id="158" name="PlaceHolder 2"/>
          <p:cNvSpPr>
            <a:spLocks noGrp="1"/>
          </p:cNvSpPr>
          <p:nvPr>
            <p:ph/>
          </p:nvPr>
        </p:nvSpPr>
        <p:spPr>
          <a:xfrm>
            <a:off x="837720" y="2285640"/>
            <a:ext cx="80010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ket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ess future trends in supply and demand in area &amp; economic trends in reg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easibility Stud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construction or turn-around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re appraiser to determine if demand for tenant space is high or low in the are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ny Pending Legal Mat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ax &amp; Insurance History on Proper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IRR Chapter Example</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pecific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erty worth $2 million, $1.8MM building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LTV, loan at 6% for 5 years for 240 month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origination fee, 5 year term/holding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ed year 1 NOI $175M, 3% annual grow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 tax marginal tax bracket, 20% capital gai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ion at end of 5 years, 3% selling cost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 6 NOI ($203M), 9% terminal cap ra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0"/>
            <a:ext cx="86868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nvestor Cash Flow vs. Taxable Income</a:t>
            </a:r>
            <a:endParaRPr b="1" lang="en-US" sz="3200" spc="-1" strike="noStrike">
              <a:solidFill>
                <a:srgbClr val="006666"/>
              </a:solidFill>
              <a:latin typeface="Arial"/>
            </a:endParaRPr>
          </a:p>
        </p:txBody>
      </p:sp>
      <p:pic>
        <p:nvPicPr>
          <p:cNvPr id="101" name="" descr=""/>
          <p:cNvPicPr/>
          <p:nvPr/>
        </p:nvPicPr>
        <p:blipFill>
          <a:blip r:embed="rId1"/>
          <a:stretch/>
        </p:blipFill>
        <p:spPr>
          <a:xfrm>
            <a:off x="1600200" y="243828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 Assessed Values</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unty governments have tax info for residential and investment property on the tax assessor’s websi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arcel and improvement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purchase and sale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if owner is current on ta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ew Tax Value and annual tax requirements for property</a:t>
            </a:r>
            <a:endParaRPr b="0" lang="en-US" sz="2400" spc="-1" strike="noStrike">
              <a:solidFill>
                <a:srgbClr val="003366"/>
              </a:solidFill>
              <a:latin typeface="Arial"/>
            </a:endParaRPr>
          </a:p>
        </p:txBody>
      </p:sp>
      <p:sp>
        <p:nvSpPr>
          <p:cNvPr id="104" name=""/>
          <p:cNvSpPr/>
          <p:nvPr/>
        </p:nvSpPr>
        <p:spPr>
          <a:xfrm>
            <a:off x="2288880" y="6019920"/>
            <a:ext cx="443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maps2.co.forsyth.nc.us/geodata_08/</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480"/>
            <a:ext cx="84582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xation of Income Producing Real Estate</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 federal taxes from cash fl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so deduct interest and depreciation from the pro-forma in order to arrive at taxable income from the propert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educt the total interest paid to a lender during a given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ints are deducted equally over the holding period (relates to length of balloon period for mortgag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axable income= NOI- Interest-Depreciation Allowan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nual Depreciation Deduction</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nual depreci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ble basis ÷ cost recovery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st Recovery Perio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idential income property (27.5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commercial income property (39 ye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onal Property (3-15 yea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xation Issue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ive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rate on the specific propert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unting for depreciation and interest add-back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rginal tax rat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x bracket of investor including all sources of incom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property is held in a real estate holding company, and that company is classified as either an S-Corporation or as a partnership, federal taxes are not paid at the corporate level, but in essence are passed-through to the investor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011 Marginal Tax Rates</a:t>
            </a:r>
            <a:endParaRPr b="1" lang="en-US" sz="3600" spc="-1" strike="noStrike">
              <a:solidFill>
                <a:srgbClr val="006666"/>
              </a:solidFill>
              <a:latin typeface="Arial"/>
            </a:endParaRPr>
          </a:p>
        </p:txBody>
      </p:sp>
      <p:sp>
        <p:nvSpPr>
          <p:cNvPr id="112" name="Text Box 4"/>
          <p:cNvSpPr/>
          <p:nvPr/>
        </p:nvSpPr>
        <p:spPr>
          <a:xfrm>
            <a:off x="1905120" y="6095880"/>
            <a:ext cx="567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arried Filing Jointly</a:t>
            </a:r>
            <a:endParaRPr b="0" lang="en-US" sz="2400" spc="-1" strike="noStrike">
              <a:solidFill>
                <a:srgbClr val="003366"/>
              </a:solidFill>
              <a:latin typeface="Arial"/>
            </a:endParaRPr>
          </a:p>
        </p:txBody>
      </p:sp>
      <p:graphicFrame>
        <p:nvGraphicFramePr>
          <p:cNvPr id="113" name=""/>
          <p:cNvGraphicFramePr/>
          <p:nvPr/>
        </p:nvGraphicFramePr>
        <p:xfrm>
          <a:off x="1981080" y="2666880"/>
          <a:ext cx="4572000" cy="2971800"/>
        </p:xfrm>
        <a:graphic>
          <a:graphicData uri="http://schemas.openxmlformats.org/drawingml/2006/table">
            <a:tbl>
              <a:tblPr/>
              <a:tblGrid>
                <a:gridCol w="2665440"/>
                <a:gridCol w="1906560"/>
              </a:tblGrid>
              <a:tr h="433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Income Bracket</a:t>
                      </a:r>
                      <a:endParaRPr b="0" lang="en-US" sz="2000" spc="-1" strike="noStrike">
                        <a:solidFill>
                          <a:srgbClr val="003366"/>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Marginal Tax</a:t>
                      </a:r>
                      <a:endParaRPr b="0" lang="en-US" sz="2000" spc="-1" strike="noStrike">
                        <a:solidFill>
                          <a:srgbClr val="003366"/>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p to $17,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4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001-$69,0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9,001-$139,3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5%</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9,351-$212,30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2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12,301-$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a:t>
                      </a:r>
                      <a:endParaRPr b="0" lang="en-US" sz="2000" spc="-1" strike="noStrike">
                        <a:solidFill>
                          <a:srgbClr val="003366"/>
                        </a:solidFill>
                        <a:latin typeface="Arial"/>
                      </a:endParaRPr>
                    </a:p>
                  </a:txBody>
                  <a:tcPr anchor="b" marL="90000" marR="90000">
                    <a:lnL>
                      <a:noFill/>
                    </a:lnL>
                    <a:lnR w="5760">
                      <a:solidFill>
                        <a:srgbClr val="000000"/>
                      </a:solidFill>
                    </a:lnR>
                    <a:lnT>
                      <a:noFill/>
                    </a:lnT>
                    <a:lnB>
                      <a:noFill/>
                    </a:lnB>
                    <a:solidFill>
                      <a:srgbClr val="ccffcc"/>
                    </a:solidFill>
                  </a:tcPr>
                </a:tc>
              </a:tr>
              <a:tr h="42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379,150</a:t>
                      </a:r>
                      <a:endParaRPr b="0" lang="en-US" sz="2000" spc="-1" strike="noStrike">
                        <a:solidFill>
                          <a:srgbClr val="003366"/>
                        </a:solidFill>
                        <a:latin typeface="Arial"/>
                      </a:endParaRPr>
                    </a:p>
                  </a:txBody>
                  <a:tcPr anchor="b" marL="90000" marR="90000">
                    <a:lnL w="5760">
                      <a:solidFill>
                        <a:srgbClr val="000000"/>
                      </a:solidFill>
                    </a:lnL>
                    <a:lnR>
                      <a:noFill/>
                    </a:lnR>
                    <a:lnT>
                      <a:no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a:t>
                      </a:r>
                      <a:endParaRPr b="0" lang="en-US" sz="2000" spc="-1" strike="noStrike">
                        <a:solidFill>
                          <a:srgbClr val="003366"/>
                        </a:solidFill>
                        <a:latin typeface="Arial"/>
                      </a:endParaRPr>
                    </a:p>
                  </a:txBody>
                  <a:tcPr anchor="b" marL="90000" marR="90000">
                    <a:lnL>
                      <a:no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9T12:58:41Z</dcterms:created>
  <dc:creator>leila</dc:creator>
  <dc:description/>
  <dc:language>en-US</dc:language>
  <cp:lastModifiedBy>G Jason Goddard</cp:lastModifiedBy>
  <dcterms:modified xsi:type="dcterms:W3CDTF">2012-03-12T13:25:50Z</dcterms:modified>
  <cp:revision>93</cp:revision>
  <dc:subject/>
  <dc:title>Tonight’s Plan</dc:title>
</cp:coreProperties>
</file>