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18A-0469-484C-99A0-CBE575A3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D22-1AB2-491E-9BA7-FB7FDD21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28D-BFBC-4AF4-977C-19B93A46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EF4-1FED-4EBC-9219-AA68613A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636-5391-4188-BFEA-611C3C71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1874-6487-4DE0-A0F6-0254E73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720F-6DB8-4DC8-82DF-6B09CB7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B473-095F-4224-85A6-FF8EC0B7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CB80-9B21-4F27-8623-F8D44A31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9BF9-4E6D-4126-AFC0-A36A81E8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384B-8D0F-4436-ABBE-CC88F58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BDA-011B-42BA-B9B0-3CA60013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3473-BDD1-46F6-A158-2230131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3BD9-A3FF-473F-A522-1F86747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974-3EDA-4266-BE73-AA3D1D14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EAF-C01F-459F-8818-1ED2BFAD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5AE-6B30-43A1-8375-857BF879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EC2-9325-4967-A929-EC96A72D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456-3B1D-42D6-B806-B5080B6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AB8-F345-4A3E-9E9D-918C667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6F6-4441-44BB-A5C6-13271ED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8D2-0218-4B88-AE5F-CB39A9B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BF3-3454-4102-90B3-0B5D6E7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A00-4102-4BDC-8F49-5844178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B2BF-FACB-4AB4-90A9-812D151CDF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B36C-41EA-4FBE-A91A-3EA3B1A8E7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Ni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tail and Office propertie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 two retail and two office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the DC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nchore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tail strip center which is smaller than a neighborhood center: does not have a primary ten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nk of some of near cam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arc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tract of land at front of shopping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includes a restaurant, bank, or movie theat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onal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large mall containing 400,000 square feet of leasable space (and abov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has one to three major department s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types of properties are typically too large for the average real estate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require a lot of maintenance and property management due to the size of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ous Shopping Cen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935440"/>
                <a:gridCol w="1819080"/>
                <a:gridCol w="1573200"/>
                <a:gridCol w="1365480"/>
              </a:tblGrid>
              <a:tr h="78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Prima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 of Shopping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ize (Sq. Ft.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Anchor Rati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rade Are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ighborhood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,000-1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shion/Special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,000-2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5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ty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,000-35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-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6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ional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,000-8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wer Cen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0,000-600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-9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10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er-Regional Center (Mall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0,000 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-7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-25 mi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anges in Shopping Center Retur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Fac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etition entering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dated design and 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trade area income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population den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s in highway construction/traffic patte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ing Retail De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y Trading Area:  Measure of potential revenue of tenants in property from geographic boundary where 60-80% of sales in a given area orig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property size, goods/services offered, population density, &amp; transportation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petition equals lower possible reven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for choosing locations in a given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near residential neighborhoo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ing should be facing the road vs. perpendicular to the r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at an inters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p light is a big pl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convenient to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th consumers and product delive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Home side of the road (groc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ing to Work side of road (coffee, baker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landlords require their retail tenants to pay for their own utilities, and tenants typically will pay for taxes, insurance, and maintenance of the property on a pro-rata bas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andlord pays for these expenses, and then is reimbursed by the ten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of this is spelled out in the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Story Retai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15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very hard to l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do not want to climb stairs or take elevators in most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what was supposed to be second story retail space is converted into office space or possibly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ome metro locations, two story retail space is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 Lee, NJ 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. Catherine’s Street in Montr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Tenant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vary from grocery store chains, drug stores, dollar stores, restaurants, hobby stor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drug stores will surviv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would you find out about the financial strength of the tena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would be a crucial time to find this 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QQD here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 Improvemen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per square foot for 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weighted average of above x sq ft of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 inflation/growth factor depending on when in holding period expense is estimated to occ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Vs.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ers of tenants in office space visit the property due to having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ail customers typically are spur of the moment visitors so the location is much more important for retail vs.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gress: Entrance in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gress: Exit from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h should be clear, visible from the road, and located near major roads and other retail shopping cen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ant Improvements &amp; Leasing Commissions in DC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ing Commiss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imate probability of renewal vs. new lease and the costs as % of EGI for 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ulate weighted average of above x % of EGI of space x length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inflation/growth factor as this is included in DCF estimation of EGI for a given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survey market averages for inputs to include cost of renewal and new lease and length of le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, B, &amp; 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es features based on construction materials used, floor and roof structures, fireproofing, quality of interior finish/amenities, and lo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A is typically skyscraper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nforced concrete framing, superior location and access, good condition and professional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B is typically suburban office buildings, with brick façade, and professionally landscap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 C is typically old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5-25 years)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lock walls, notable physical deterioration (or converted retail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Office Character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medic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the hospit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professional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in office park or in neighborhoods of similar quality and ut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be located near residential areas where employees of the tenants l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ld be a downtown office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have adequate parking, be near hotels, restaurants, and have good access from major high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Defin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ss Build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 square footage of the building, measuring from outside wall to outside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Rentable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ctual useable area.  The gross area less areas not rented by tenant (restrooms, public corridors, janitor close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et amount of additional office space that is leased in a year’s time.  Can be positive or negative (if new product is built but not leas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ice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bestos has been a major problem in attaining financing by 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consider the age and condition of the elev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ge and efficiency of the HVAC, roof, and the ut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terms are typically 3-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ants include doctors, lawyers, insurance, banks, other service sector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entioned earlier, retail properties are more dependent on the whims of the customers (rather than appointment orien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hing like that appointment at McDonald’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chor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onal or regional chain store that is the primary draw for customers to the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Line ten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ing players relative to the anch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ino Cla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retail leases will specify that if the anchor tenant leaves, the other supporting tenants have the ability to break their leases early (for a fe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known as a “Go Dark Claus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les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a key measure of performance for retail tenants.  Investors can request last few years of sales history to gauge success at location (and the probability that a tenant will renew their l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tail Prope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ighborhood 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pping center containing up to 150,000 sq.ft. of leasa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will have an anchor (Food Lion), strong supporting players (Dollar General), and local mom &amp; pop tenants (local nail salon or local restaur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are many of these in most comm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uld determine if the property is experiencing a positive trend line or a negative trend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3:45Z</dcterms:modified>
  <cp:revision>48</cp:revision>
  <dc:subject/>
  <dc:title>Tonight’s Plan</dc:title>
</cp:coreProperties>
</file>