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BE2E8-A6CC-4AEC-A215-C37E0E0B3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B80A4-63DC-4991-9A3C-8141DE19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A4A0D-5468-4EA6-AE8C-E51E9AD5F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55EDC-0269-4EB5-B5C1-D1AAE35C0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60D70-7DCE-4023-874F-47018DA14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39DC4-215B-4D19-B198-425121D8A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6A46A-78B5-401D-9FD3-C915D17D3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2CF28-4677-4B73-8031-84F487477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B3E59-2DA1-4E0D-83EB-63CB6641F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E9439-EE55-4E64-A4F3-48405D468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44053-1954-42FC-828C-2665FBE5C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F6707-A88C-4751-A8B5-0AED88013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CF270-0F13-447C-817F-6ED61ECF4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CF771-9968-45D2-9F70-A0FBB4F1D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D30E8-9B12-4707-B854-A73710B69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5EF2B-27FB-40A2-AB4D-C0045CEF2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70490-542B-44DA-B528-B4CB5EDEB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AC1B1-E698-4E85-8E8F-C438074D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4B707-13B3-46C7-AB22-1DA47C3FC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668AF-2287-4C5E-85C8-9191A6735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074F3-0868-45FC-9B4B-5C6E4E7F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2659-4EF4-4F5F-A738-0AFC17705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3B7AD-394D-46C7-87A9-91B302B1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D5272-7926-40C0-A9C2-A5EDB135B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8061-1DA3-4379-B83D-6C6F314C74B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1D8E-6A57-442B-87F5-77A8FEEE5BD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ssion Plan</a:t>
            </a:r>
            <a:endParaRPr b="1" lang="en-US" sz="3600" spc="-1" strike="noStrike">
              <a:solidFill>
                <a:srgbClr val="006666"/>
              </a:solidFill>
              <a:latin typeface="Arial"/>
            </a:endParaRPr>
          </a:p>
        </p:txBody>
      </p:sp>
      <p:sp>
        <p:nvSpPr>
          <p:cNvPr id="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Te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rt Discussion on warehouse and self-storage proper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Industrial Case Stud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of questions from any of the case stud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jecting Demand for Storage Space</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imate average rentable sq ft of storage per person vs. current population in primary market are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compare to existing supply in the mark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s Self-Storage Recession Proof?</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investors believe that this is tru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ought pattern is that people always need storage space and if economy is doing bad, people will attempt to reduce the size of their homes and store their belongings when unemployed</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has not proven to be the case</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y large cities have an over-supply of this type of space and occupancy levels have suffered</a:t>
            </a:r>
            <a:endParaRPr b="0" lang="en-US" sz="24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hing in real estate is immune to the business cyc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
            </a:r>
            <a:r>
              <a:rPr b="1" lang="en-US" sz="3600" spc="-1" strike="noStrike">
                <a:solidFill>
                  <a:srgbClr val="006666"/>
                </a:solidFill>
                <a:latin typeface="Arial"/>
              </a:rPr>
              <a:t>Ayatollah of Climate Controllah”</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my all-time favorite ads outside a self-storage facility</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table On Demand Self Storage (PODS) is the latest fad</a:t>
            </a:r>
            <a:endParaRPr b="0" lang="en-US" sz="2800" spc="-1" strike="noStrike">
              <a:solidFill>
                <a:srgbClr val="003366"/>
              </a:solidFill>
              <a:latin typeface="Arial"/>
            </a:endParaRPr>
          </a:p>
          <a:p>
            <a:pPr lvl="1" marL="668520" indent="-2570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have probably seen these in your neighbors’ driveways</a:t>
            </a:r>
            <a:endParaRPr b="0" lang="en-US" sz="24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can be good investments due to the low cost of construction (for the basic units) and the high concentration of income per square fo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orage Auc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en around since late 1970’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se agreement allows for lien if bill is left unpai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ctions begin typically after unit is 90-120 days in arrear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lps prove property is not recession-proo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age Auction Impact on Own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ypically not recovering full amount owed</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bt recovery vs. a profit opportunity</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y profit must be returned to original owner of unit contents</a:t>
            </a: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Self Storage</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taining supply and demand for these units is toug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as easy to glean future demand levels from demographic information as in apart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ercial banks have a hard time approving loans for “start-up” projec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nt to see a track record of performance firs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ery Fragmented Market</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Storage industry does have a few major players, but for the most part has thousands of small owners throughout the cou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ew larger players have much deeper pockets than the typical investor, and they have the ability to temporarily lower their prices to drive out better located, smaller rivals, to increase their market sha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Session</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rehouse Properties</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structures designed and used for storage of wares, goods, and merchandis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iling clearance for a warehouse is very importan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igher that items can be stored the bette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lk warehouses have higher ceilings (24’ height) than service warehouses (18’ height)</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ess specialized the design and the less risk in operation, the more likely to be investment proper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Warehouses</a:t>
            </a:r>
            <a:endParaRPr b="1" lang="en-US" sz="3600" spc="-1" strike="noStrike">
              <a:solidFill>
                <a:srgbClr val="006666"/>
              </a:solidFill>
              <a:latin typeface="Arial"/>
            </a:endParaRPr>
          </a:p>
        </p:txBody>
      </p:sp>
      <p:sp>
        <p:nvSpPr>
          <p:cNvPr id="99" name="PlaceHolder 2"/>
          <p:cNvSpPr>
            <a:spLocks noGrp="1"/>
          </p:cNvSpPr>
          <p:nvPr>
            <p:ph/>
          </p:nvPr>
        </p:nvSpPr>
        <p:spPr>
          <a:xfrm>
            <a:off x="380520" y="2286000"/>
            <a:ext cx="8458200" cy="4572000"/>
          </a:xfrm>
          <a:prstGeom prst="rect">
            <a:avLst/>
          </a:prstGeom>
          <a:noFill/>
          <a:ln w="0">
            <a:noFill/>
          </a:ln>
        </p:spPr>
        <p:txBody>
          <a:bodyPr lIns="90000" rIns="90000" tIns="46800" bIns="46800"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Distribution Warehouse</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engineered metal primarily</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er ceiling heights as previously mentioned</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rvice Warehouse</a:t>
            </a:r>
            <a:r>
              <a:rPr b="0" lang="en-US" sz="2800" spc="-1" strike="noStrike">
                <a:solidFill>
                  <a:srgbClr val="003366"/>
                </a:solidFill>
                <a:latin typeface="Arial"/>
              </a:rPr>
              <a:t>	</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ceiling heights than bulk</a:t>
            </a:r>
            <a:endParaRPr b="0" lang="en-US" sz="24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office space typically than bulk</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ex</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x of office and warehouse space (20/80 split)</a:t>
            </a:r>
            <a:endParaRPr b="0" lang="en-US" sz="24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Storage</a:t>
            </a:r>
            <a:endParaRPr b="0" lang="en-US" sz="2800" spc="-1" strike="noStrike">
              <a:solidFill>
                <a:srgbClr val="003366"/>
              </a:solidFill>
              <a:latin typeface="Arial"/>
            </a:endParaRPr>
          </a:p>
          <a:p>
            <a:pPr lvl="1" marL="713160" indent="-2743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discuss short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ffice/Warehouse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much better “curb appeal” than bulk warehouses</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us higher rent per square foot</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multi-tenant facilities, with office space ranging from 25-50% of the total space</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lk warehouse usually has single tenant</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rehouse ceiling clearance is lower than for bulk &amp; service warehous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ortance of Location</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have easy access to major arteries</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ximity to rail road and airport is desirable</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 warehouses are often located in an industrial park</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lk warehouses need wide streets that provide easy access for large trucks</a:t>
            </a:r>
            <a:endParaRPr b="0" lang="en-US" sz="2800" spc="-1" strike="noStrike">
              <a:solidFill>
                <a:srgbClr val="003366"/>
              </a:solidFill>
              <a:latin typeface="Arial"/>
            </a:endParaRPr>
          </a:p>
          <a:p>
            <a:pPr marL="294840" indent="-294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king availability is less important than for the other primary property types</a:t>
            </a:r>
            <a:endParaRPr b="0" lang="en-US" sz="2800" spc="-1" strike="noStrike">
              <a:solidFill>
                <a:srgbClr val="003366"/>
              </a:solidFill>
              <a:latin typeface="Arial"/>
            </a:endParaRPr>
          </a:p>
          <a:p>
            <a:pPr lvl="1" marL="639000" indent="-245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hough need more for office warehous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jecting Demand for Industrial Space</a:t>
            </a:r>
            <a:endParaRPr b="1" lang="en-US" sz="32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 from firms moving into an area, relocations within an area, &amp; expansion of existing faciliti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current # and productivity of worker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future industrial employment by indust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can obtain output per sq. ft. of floor spac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ture land requirements: projected area required per worker (industrial density) x expected industrial employment for each u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show increase in output per square foot of floor space</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versity of Income</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warehouses are single tenant facilities</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prudent investor would want to find out about the financial health of the tenant before either purchasing the property or signing the tenant for a long-term leas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estors should request copies of environmental reports to see if facilities contained any “at-risk” manufacturing in the pa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Storage Facilities</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known as Mini-Stor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are simply constructed properties that may have climate control in some of the units, and may have keyless e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one use self-storage facil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are the primary users of this type of spa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Storage Customers</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e personal items during summer break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ansition adult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ving, down-sizing, up-sizing house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all business owners</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rmaceutical representatives</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litary personnel</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large deployments, occupancy rates soa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6T02:03:39Z</dcterms:created>
  <dc:creator>leila</dc:creator>
  <dc:description/>
  <dc:language>en-US</dc:language>
  <cp:lastModifiedBy>G Jason Goddard</cp:lastModifiedBy>
  <dcterms:modified xsi:type="dcterms:W3CDTF">2012-03-12T13:34:57Z</dcterms:modified>
  <cp:revision>53</cp:revision>
  <dc:subject/>
  <dc:title>Tonight’s Plan</dc:title>
</cp:coreProperties>
</file>