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D7A-6657-45E6-869A-79A93D23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91A-26EE-4E29-BDDE-FD6F76E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92A-5AAF-463C-B981-A9E7F574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7E1-6328-474B-A76F-99B351ED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01C-DD00-4B0E-AE15-03A7FADC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B26-FFB9-4EF1-A84B-4CF2366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5EF-A9DD-4BAA-8718-84620C8C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850-87A8-434F-9DEF-D8A8C328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18D5-B240-49BA-8EE0-5B16034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AFC-29FD-4E6B-BFE0-CF41A10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5F8-406B-4599-BAF4-E4FF648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216-722F-423E-91CD-2DABC10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3F78-F4DC-445B-A1B7-EE7B6B8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C60D-B09C-45A6-BE9E-E2FDD64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4419-C76A-4285-8081-E96EE0D2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281C-2896-42B8-AFA7-01F42A70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063-D174-4B02-B5A2-D1FE80AA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D40-15DA-4E8E-8823-18715A53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5F4-71B8-4622-BD14-424C00AE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8F2-5F16-461E-B87C-1FDA917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185-110C-4C7D-A828-06A1C106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11B-098A-4518-BD85-83B1A96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F52-F57C-482C-B4C8-5C0A061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F73-64B7-4725-9D02-67EABFC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E81-866A-43D7-ADA9-3139A229A6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B8F3-20BB-4754-B9FE-41E46B05DE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igh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Occupancy Study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artments as an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Apartment case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ndard Vs. Luxury Apt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xury units are typically newer and of much higher quality than lower priced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a general rule, the luxury apartments do not compete with standard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the more amenities in a property, the higher the rent per square foo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always consider the supply and demand of COMPETING units when deciding on the viability of an apartment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ment Rese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direct capitalization spreadsheet contains one expense item that will not be given to you; replacement reser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is an estimate of items which will need to be replaced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ke roof, structural repairs, HVAC, appliances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es depending on age and condition of th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artments: From $100 to $250 per un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ffice/Retail/Industrial:  From 1-3% of EG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ors used to have to place this amount of money in an escrow account each ye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 most lenders look to make sure investor has cash on hand in case something goes bump in the nigh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gher the Bet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apartments higher than two floors will have an elev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any areas of the country this is requi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n elevator exists, should always inquire about its age and condi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 subject property has a third floor with stair access, it may be harder to lease those un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ight you try to get those units lea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f-Campus Student 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er properties have better ame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 them ready in time for Fall semester…or els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N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st one to market in saturated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ters to students and the general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27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ff-Campus Student Housing Market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l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just student apart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 need to include rental hou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 campus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regional/city officials for future construction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tal enrollment minus on-campus and commu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University officials for on-campus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act appraiser if need occupancy study (good for approx. one ye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01200" y="753120"/>
            <a:ext cx="80179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sults of Off-Campus Occupancy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all Current Market Vacancy: 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ree Year Average Vacancy: __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per Square Foot: 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al Rate: $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Monthly Rent per Bed: $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erage Age of Complex: ____ years 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 Different Apartment Complexes Survey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otal of ____ apartment unit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will use these to compare our case studies to see if the rental rates are within the market averages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Role as Le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atulations!  You are now employed as a senior commercial lender at a large commercial bank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pefully a solvent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you will be looking at these investments from the perspective of a lender, it will be helpful to get familiar with your lending guidel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will provide you the lending criteria (loan amount, interest rate, amortization period, cap rate), you will do the re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Apartment Slide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maining Te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we have covered the bulk of the textbook material, the course moves into the “real world” application ph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erous properties will be discussed in chapters 8-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 of Case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ase study will contain a one or two page summary of the cas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values that you have determined for the following it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oss Potential Income (GP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ective Gross Income (EG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t Operating Income (NO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ual Debt Service &amp; Debt Coverag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perty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h Flow Fundament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lease income per month (historical/projected)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arison to market rental rates per square foot for similar proper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ersification (number of tena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financial strength (internal information or Business Credit Report when applica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leases relative to term of lo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gmt Experience with property (or similar propert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iew of Apartment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e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features of a particular unit (fireplace, vaulted ceilings, etc.) or of the complex as a whole (swimming pools, tennis courts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partment without a separate bed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den Un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all on one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wn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unit on two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A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lk-up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to 5 floors, patio on first floor, balcony on 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d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 to 9 stories, will have an elevator to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-rise Apar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 rule is one elevator for every 8 flo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Apartment Complexes Contain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ed leases with terms of one year or l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laces of employment, shopping centers, churches, schools, and public transpor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be located in a residential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ximity to parks, lakes, etc.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not be located too close to industrial fac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uld have adequate amount of pa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 of Constr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rick exterior is typically more desirable than a wood or other ex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er &amp; Dryer hook-ups are a p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not need access to laundry fac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ral Air Conditioning is desir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opposed to window a/c un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ition of roof, siding, entrances, parking lot etc. affect the effective age of the prope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ior quality also affects desi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0:56Z</dcterms:modified>
  <cp:revision>57</cp:revision>
  <dc:subject/>
  <dc:title>Tonight’s Plan</dc:title>
</cp:coreProperties>
</file>