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527-7580-4A51-AFDD-BE753673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6F5-A94C-46C1-B83F-09B4DD8A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F73-6B4A-479D-BC7B-9BD295E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916-9984-4D09-A87A-5E5E2011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2DF-5819-45C1-AAB6-2C2BDAD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E5E8-A140-4133-8B40-D04C81C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2557-50E4-499D-A561-FDD0571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EC67-6037-4554-BC73-68AF7FC3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295-8D2D-499B-B024-8B68D53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015A-93F2-4A0F-9AF2-6FEF200F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9037-241F-4691-9875-C36EC61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470-13DD-43A5-BD6D-D2B0EDA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837D-B94A-40AF-871A-2002D97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3148-361E-4642-A4F2-59B197D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A8EE-81F5-4575-A718-835100BF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221C-11F1-4D8F-AAD4-13D89DE9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6512-162E-42F7-A0C1-AB25FE86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3C0-9D17-4D7D-AD39-93E67E58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9FA-46AB-4B75-AB02-26C5E9A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4D6-DABA-4B8B-BA0B-D7BC5887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E38-E1B9-43D7-A709-F7168D0B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119-CDA8-47EB-B5C2-F741B53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1FA-4954-4C92-9FBF-3AB5F85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1CC-AF08-49A3-BE3F-B02397E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B70-C022-45BC-8797-EE75CAE18D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87E1-73D3-4284-B346-3473573BEB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F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ce of Market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y of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reading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and operating expenses tied to index (C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duated Rental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can move up or down during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alator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or pays first year operating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ee pays overage for remaining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aluation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iodic rent adjustments based on revaluation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od for properties in flux (redevelopm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M and NNN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leases provide for tenants reimbursing owners for various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for the maintenance of the common areas of a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could be for repairs, taxes, insurance, and utilities as negotiated by the owner and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 must be paid by the owner for any space in property that is vaca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2361960"/>
            <a:ext cx="6248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 is typically for repairs, maintenance, and utilities but can be for any expense depending on how the lease is structu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enant would typically reimburse the owner for their proportionate share of the expense being sha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the following rent roll and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4419720"/>
          <a:ext cx="5028840" cy="2100240"/>
        </p:xfrm>
        <a:graphic>
          <a:graphicData uri="http://schemas.openxmlformats.org/drawingml/2006/table">
            <a:tbl>
              <a:tblPr/>
              <a:tblGrid>
                <a:gridCol w="2176920"/>
                <a:gridCol w="285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553080" y="4419720"/>
          <a:ext cx="2282760" cy="2132640"/>
        </p:xfrm>
        <a:graphic>
          <a:graphicData uri="http://schemas.openxmlformats.org/drawingml/2006/table">
            <a:tbl>
              <a:tblPr/>
              <a:tblGrid>
                <a:gridCol w="1400400"/>
                <a:gridCol w="88236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ir/Ma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3740040"/>
        </p:xfrm>
        <a:graphic>
          <a:graphicData uri="http://schemas.openxmlformats.org/drawingml/2006/table">
            <a:tbl>
              <a:tblPr/>
              <a:tblGrid>
                <a:gridCol w="939960"/>
                <a:gridCol w="2581200"/>
                <a:gridCol w="939960"/>
                <a:gridCol w="941400"/>
                <a:gridCol w="1350720"/>
                <a:gridCol w="939960"/>
              </a:tblGrid>
              <a:tr h="90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s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pair/Mai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6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4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7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6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663560" y="6361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pays if there is a vacanc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other CAM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own a 20,000 sq. ft. retail strip center.  There are currently four tenants.  The leases allow for the taxes, insurance, utilities, repairs and maintenance to be paid by the tenan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in $ per square foot would each tenant reimburse the landlord for the current year if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xes are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urance is $4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tilities are $7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airs &amp; maintenance is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would each tenant pay annually if each tenant occupied 5,000 square feet of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f a tenant vacates?  Who pays the expenses th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of an expense st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enant has an expense stop of $5 per square foot based on expenses during the first year of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nses are currently $7 per square foot and the tenant has 15,000 sq. ft. of rentable are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does the owner and tenant pay in expenses for this tenant’s spa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wner pays: $5 x 15,000= $7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pays: $2 x 15,000= $3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ease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disclose amount of free rent, if tenant improvements will be paid by the owner, and other discou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When would these be more likely: Low or High Vacancy marke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compete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specify if cannot lease adjacent space to a competi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dilution/radius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 if tenant cannot lease another location within a certain radi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on for retail leas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mino (or “Go Dark”)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anchor tenant vacates, in-line (or supporting) tenants may have the ability to break their leases for a specified f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Contents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der approval of major le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both changes to existing tenant mix and for any new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ad Fa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to pro-rat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able area per floor divided by useable area per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Addendums: S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ordina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ase is subordinate to all provisions of loan including renewals, modifications and ext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Disturbanc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event of foreclosure, tenant can stay in property as long as they are paying rent as ag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orn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nant agrees to be tenant for any subsequent landlord (bank or otherwis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Rollover Ri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of % of leases maturing in same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d maturity vs. business risk 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concern for both investors and l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 property may be performing well but others in portfolio could cause repayment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&amp; Ten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Househol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to avoid transportation costs, want to locate close to economic cen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proximity to customers, suppliers, and work fo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 Pr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ce of land decreases with further distance from economic activity cent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value of the expected income stream from the lease minus any expe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to compare leasing altern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tract out any expenses landlord mus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Panera Bread leases 2,000 sq. ft. in a retail strip center in Winston-Salem.  They are paying $20 per square foot for the next five years, absolute net.  Each year, the rent will increase by 5%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 rent for this lease assuming a 10% discount r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nera Bread 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362320"/>
          <a:ext cx="8305920" cy="2649240"/>
        </p:xfrm>
        <a:graphic>
          <a:graphicData uri="http://schemas.openxmlformats.org/drawingml/2006/table">
            <a:tbl>
              <a:tblPr/>
              <a:tblGrid>
                <a:gridCol w="1600200"/>
                <a:gridCol w="1425600"/>
                <a:gridCol w="1319040"/>
                <a:gridCol w="1319400"/>
                <a:gridCol w="1322280"/>
                <a:gridCol w="1319400"/>
              </a:tblGrid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nual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 4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4,1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6,30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8,62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u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3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46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10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V of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36,363.6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4,710.7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3,132.98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1,629.1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0,189.19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P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166,025.6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990720" y="51814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 then calculate effective r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=5, I=10, PV= (166,025.65), FV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ve for PMT=  $43,797.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member: Set your calculator to 1 P/Yr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humbnail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574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und Lease Dec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5257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ow many different owners could there be in a ground leas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Which portion of the property would you want to own and wh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6720" y="804960"/>
            <a:ext cx="80668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und Leases: Bank’s Persp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 and Lease Back of Land creates a ground lease between the purchaser of the land, and the owner of the buil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banks will not want to loan against a property that has a ground lease, unless that ground lease has a substantial period of time left on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Rule of Thumb is that lease should exceed the amortization of the loan by at least 25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the ground lease expires, the building improvements may revert back to the owner of the lan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xt S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Research Mini-C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l Market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l Estate Brokers typically have regional or sub-market related information available for their customers (for a f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ppraisers can also be hired to conduct market studies for an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y vacancy, rental, and expense rates in ar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level of new construction approved or under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analysis of demographic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similar to your WFU Off-Campus Student Housing Occupanc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ck the Tires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hing beats visiting the property yourself, obtaining pictures of the property, and assessing the neighborhood and overall location of the property being considered as an inves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tures in broker packages often represent the “best case” view of a property, so as an investor, seeing is believ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ce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represents the “duration” of the income stream for an investment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is an agreement between the lessor (owner) and lessee (ten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Terms can vary depending on property typ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artment: monthly to annu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fice/retail: monthly up to five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tel/motel: dai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rehouse/industrial: much longer terms (2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Price of Rent is Determi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et Rates for Comparable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brokers, appraisers, other market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w additional rent relative to IRR and NP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on between lessor and l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atomy of a L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es to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ngth of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ved use &amp; legal description of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ponsibility for maintenance and rep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d by negotiating power of landlord and tena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Limitations on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 rent plus any esca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ewal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tomy of a Lease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be set over entire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rise with a certain index (CPI for examp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ex should not be something controlled by the landl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ntage/Overage 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retail properties.  Have a base rent and then additional rent once tenant’s sales surpass a certain benchm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example: Tenant pays $20 per square foot annually, but could also pay 1% annually for sales over $400,000 at the Panera Bread located on Miller Stre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f rent is fixed over entire term of lease, who bears the risk if rental rates rise over the perio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lease: Gross, Modified Gross, or 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ss/Full Serv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owner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ified Gros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nant pays for some expenses (possibly utilities for an office build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ipl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for taxes, insurance, and maintenance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ense Stops:  owner pays for expenses up to a certain (stop) point.  Above this level, the tenant p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nses are passed through to the tena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15:02Z</dcterms:modified>
  <cp:revision>77</cp:revision>
  <dc:subject/>
  <dc:title>Tonight’s Plan</dc:title>
</cp:coreProperties>
</file>