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445E-FF2A-4E4F-A82B-3B5462B95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715E-7E3C-4465-8A50-335CCF46C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89C4-967E-4CBC-9429-E9DEFBBD2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13CB-C64F-41F6-884B-9C64DF3C6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72867-5631-434D-8826-BDE073609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93E41-EC7D-4AD3-A1CF-D7A6D8F52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CD77F-06DA-43B5-8849-5E7ECA24D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702DF-9218-494F-B34F-24F9E38EB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BFE04-6B26-4832-B9FD-488092B36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50852-A085-4295-B181-54D32A732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3288D-39F1-49FC-B9B8-86852F36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0AE8-8FE3-4ABB-A295-86482E532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A1FA8-FF30-47C1-9073-B5530544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A893C-C15B-4915-81CF-9122E25F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3CE30-C272-45FB-91DD-7BD13426E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34C01-F72C-42D6-9AF5-302880DFD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0591A-BF80-40AC-B653-42A381D18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4DB9-829C-4982-9820-F3E142128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E264-AD08-4654-BFD3-2B435ACEC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FE74-CC0E-491F-9D8A-C51B5EDCD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A824-8064-41D2-81EC-934DDBD8A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0E3C-184F-481B-A638-4B266EED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6808-9A00-41F4-BE2E-16FEB0DF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56DD-514A-4114-AACF-981C70FB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30D97-91E7-4E8F-94C7-25063E7B309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7419-FF95-4B23-8456-086D10E4A15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ssion Pla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apter Eight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scussion of Occupancy Study Resul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partments as an investment alternativ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wo Apartment case stud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andard Vs. Luxury Apts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09120" y="23623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uxury units are typically newer and of much higher quality than lower priced uni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 a general rule, the luxury apartments do not compete with standard apart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ypically, the more amenities in a property, the higher the rent per square foo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hould always consider the supply and demand of COMPETING units when deciding on the viability of an apartment proje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placement Reserv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direct capitalization spreadsheet contains one expense item that will not be given to you; replacement reserv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s is an estimate of items which will need to be replaced each yea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ike roof, structural repairs, HVAC, appliances, etc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Varies depending on age and condition of the propert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partments: From $100 to $250 per uni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Office/Retail/Industrial:  From 1-3% of EG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vestors used to have to place this amount of money in an escrow account each yea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ow most lenders look to make sure investor has cash on hand in case something goes bump in the night!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Higher the Better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ypically apartments higher than two floors will have an elevat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 many areas of the country this is require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an elevator exists, should always inquire about its age and conditio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a subject property has a third floor with stair access, it may be harder to lease those uni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ow might you try to get those units leased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ff-Campus Student Hous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o Ol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wer properties have better amenit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o La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et them ready in time for Fall semester…or else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o Ne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ast one to market in saturated environ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o Bro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ters to students and the general publ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0627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ff-Campus Student Housing Market Stud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upply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cus on just student apartmen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y need to include rental hous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tact university officials for on campus uni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tact regional/city officials for future construction pla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mand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tal enrollment minus on-campus and commut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tact University officials for on-campus projec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tact appraiser if need occupancy study (good for approx. one year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01200" y="753120"/>
            <a:ext cx="80179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esults of Off-Campus Occupancy Stud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verall Current Market Vacancy:  __%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ree Year Average Vacancy: __%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nt per Square Foot:  $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verage Monthly Rental Rate: $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verage Monthly Rent per Bed: $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verage Age of Complex: ____ years ol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____ Different Apartment Complexes Survey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 Total of ____ apartment units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e will use these to compare our case studies to see if the rental rates are within the market averages…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Your Role as Lend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gratulations!  You are now employed as a senior commercial lender at a large commercial bank!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opefully a solvent one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 you will be looking at these investments from the perspective of a lender, it will be helpful to get familiar with your lending guidelin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 will provide you the lending criteria (loan amount, interest rate, amortization period, cap rate), you will do the rest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d Apartment Slide Ses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Remaining Ter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w that we have covered the bulk of the textbook material, the course moves into the “real world” application phas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umerous properties will be discussed in chapters 8-1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rmat of Case Stud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ach case study will contain a one or two page summary of the case da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 will discuss values that you have determined for the following item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ross Potential Income (GPI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ffective Gross Income (EGI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t Operating Income (NOI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nual Debt Service &amp; Debt Coverage Rat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nsitivity Analys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14680" y="8150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perty Life Cyc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28600" y="2514600"/>
            <a:ext cx="8686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sh Flow Fundamenta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Quant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ow much lease income per month (historical/projected)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mparison to market rental rates per square foot for similar properti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Qual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versification (number of tenant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enant financial strength (internal information or Business Credit Report when applicabl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urabil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ength of leases relative to term of loa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gmt Experience with property (or similar propertie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4012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view of Apartment Term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80520" y="228600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meni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pecial features of a particular unit (fireplace, vaulted ceilings, etc.) or of the complex as a whole (swimming pools, tennis courts, etc.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fficienc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 apartment without a separate bedroo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den Un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unit all on one flo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wnhou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unit on two floo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es of Apartme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alk-up Apart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3 to 5 floors, patio on first floor, balcony on re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d-rise Apart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6 to 9 stories, will have an elevator to servi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gh-rise Apart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eneral rule is one elevator for every 8 floo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ical Apartment Complexes Contain…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2286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gned leases with terms of one year or l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ximity to places of employment, shopping centers, churches, schools, and public transport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hould be located in a residential are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ximity to parks, lakes, etc. is desira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hould not be located too close to industrial facili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hould have adequate amount of park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Quality of Construc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09120" y="2361960"/>
            <a:ext cx="81536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brick exterior is typically more desirable than a wood or other exteri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asher &amp; Dryer hook-ups are a pl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not need access to laundry facilit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entral Air Conditioning is desira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 opposed to window a/c uni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dition of roof, siding, entrances, parking lot etc. affect the effective age of the proper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ior quality also affects desirabil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6T02:03:39Z</dcterms:created>
  <dc:creator>leila</dc:creator>
  <dc:description/>
  <dc:language>en-US</dc:language>
  <cp:lastModifiedBy>G Jason Goddard</cp:lastModifiedBy>
  <dcterms:modified xsi:type="dcterms:W3CDTF">2012-03-12T13:30:56Z</dcterms:modified>
  <cp:revision>57</cp:revision>
  <dc:subject/>
  <dc:title>Tonight’s Plan</dc:title>
</cp:coreProperties>
</file>