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12BA-74BE-4FD1-977E-5D322F57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0D5F-2E10-46E0-BCE1-8E71832D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E035-8662-4A04-B8DD-0AD6C6FB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0DA0-ADCD-4543-A569-4F3DCD9B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4757-B8BC-4B1B-B217-1A27A535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D55C-13CA-47F2-A20D-5C49A01F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1FBB-948F-4F6C-84B3-8090ACE9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964E-6A91-45B4-A3A5-0DD08509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E363-44AF-4CBD-B0C1-2CD104BF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9979-6C56-46C5-A323-A78F0A83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CEB9-775E-47DB-9016-D2CD5E61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97F-6052-4C3D-AD2B-592755C5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E2BC-8C9F-47E7-8CFA-FFE40EC6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17BA-F8BD-4FBC-97D4-2B4B1A28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7421-6605-4603-B823-A0C1BE9E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8C4C-C7D9-4797-9122-F83FF844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AB65-F3B7-45E1-A521-67D2A040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2BE3-9865-48FC-A956-0E199AC5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2F66-302A-43EB-9C87-AD2B80C7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1C2D-1F1C-4AB1-8080-AC8884A5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3C6B-5C2D-48C5-B35A-6682CC6F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61BD-646D-46B4-9C27-880746C9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EE17-E2C5-4533-B928-584C90D0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665-796E-4F8E-A694-43407D47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6C07-7E9A-488D-8211-CEE497F6450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D0F2-EA70-4B35-B5FE-559972C5C44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ssion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pter Eleve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igins of real estate securitiz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gency Guarantees vs. Private Lab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MOs and REM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MBS &amp; QQ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gency Guarante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SE’s have slightly higher credit risk as they are backed by an agency guarantee and not explicitly by the US Treasu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ency backed securities lowered the cost of home financing by lowering transaction costs, increasing liquidity,&amp; improving the standardization of contr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uarantees also promoted acceptability of these invest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ortgage Conformabili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nnie Mae and Freddie Mac mortgage conformability standards are set by Office of Federal Housing Enterprise Oversight (OFHE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HEO sets size limit for conforming loans (i.e. no jumbo mortgag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ve “super-conforming” loans in areas where prices are higher than the avera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SE’s may only purchase conforming &amp; super-conforming lo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r borrowers outside of conformability standards, their borrowing expenses are high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rivate Label MB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sued by banks, insurance companies, savings institutions (known as underwrit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vernment encouraged private label development given size of agency guarante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vate conduit buys loans from originators &amp; creates pools for sale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(without guarante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y 2006 private label issuances &gt; agency iss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MBS &amp; Prepayment Ris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residential mortgages have the option to prepay, the uncertainty of timing and the magnitude of the cash flows received by the investor are uncert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 rates drop below the contract rate, prepayment is more like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 the interest rates on LT bonds falls, homeowner is more likely to prepay the mortg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epayment can occur for other reasons such as selling the proper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ust as the reinvestment rate drops, the RMBS investor is more likely to get paid ear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d will have to reinvest their money at a lower ra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MBS &amp; Prepayment Ris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vexity:  Non-linearity in a financial model; the relationship of bond price with respect to interest rat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creases as interest rates fall (&amp; prepayments rise) and as interest rates rise ( &amp; prepayments fal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bability of prepayment is inversely related to the prevailing mortgage ra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nce prepayment rates fall as mortgage rates rise, prepayments slow down for RMBS investors just as they desire them to pick up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uld have reinvested cash flows at a higher ra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MBS &amp; Prepayment Ris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payment risk is the lynchpin to pricing RMB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Mortgage Rates fall: pool pays quicker than expec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or loses interest income &amp; gets principal back in a low rate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Mortgage Rates rise: pool pays slower than expec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or earns relatively lower rate for a longer period of time (harms their yiel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llateralized Mortgage Obligation (CM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st was by Freddie Mac in 198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ists of a multi-class MB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fferent classes (tranches) have different maturities, interest rates, &amp; prepayment ris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anches from 2 to 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ach tranche has an estimated first and last payment d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earn a higher coupon rate, investor must bear more prepayment ris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M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l Estate Mortgage Investment Condu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tablished in 198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&amp;I Payments are divided into various payment streams to create tranch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IC avoids double tax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C is tax exemp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ors pay tax on dividends receiv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most all CMOs are issued as REM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quential Pay (Plain Vanill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anches are paid in strict seque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nown as “waterfalls” as cash flows down to lower rated tranch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ned Amortization Class (PAC) C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s support or companion tranche to provide protection for PAC or “main” tranch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lows investors in main tranche to receive more certain cash flows soon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C yield, average life, &amp; lockout periods are more closely tied to original estima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nned Amortization Class (PAC) CMO Continu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prepayment is different than expected, the support tranche absorbs the variable portion of the pay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have different levels of prior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YPE I PAC, Type II PAC,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er yields are offered for riskier, more variable support tranch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rigin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ization: Process of pooling individual assets that are used as collateral, for the issuance of secur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idential Mortgage Backed Securities (RMB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ateralized Mortgage Obligations (CM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ateralized Debt Obligations (CD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ercial Mortgage Backed Securities (CMB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rgeted Amortization Class (TAC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uctured like PACs, but investor is protected from rise in prepayment rate (as interest rates fal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PAC &amp; TAC are in same CMO, PAC receives prior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C is inferior to PAC as investor is only protected from unexpected increase in prepay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 Tranches (Z Bonds, Accretion Bonds, Accrual Bond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ceives no interest until lockout period ends and begins to receive princip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ckout period ends when all other tranches have been paid o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uring lockout period, tranche is credited with accrued interest that is taxable (although not receiv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se are best for tax deferred retirement account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ve terms of 18-22 yea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ncipal Only (PO) Stri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or receives principal only, buys at a steep discount from face val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rates fall, prepayments rise which lowers the effective term of the secur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rates rise, PO investor yield suffers (gets paid slowe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est Only (IO) Stri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y CMO offering PO will also offer 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O is sold at steep discount to notional principal (no par or face valu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principal in pool is paid down, notional value of tranche declines, as do the interest pay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O Strips lose value rapidly as interest rates fall and as prepayments ri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reating a Private Label MB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n Agency backing allows for any asset to be included in the po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47920" y="3352680"/>
            <a:ext cx="643572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reating a Private Label MB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al Purpose Vehicle (SPV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rols collateral, collects P&amp;I payments, &amp; passes them on to invest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derwri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nks, investment banks, brokers that price and market MBS to invest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dit Agenc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credit enhancements requir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nks may only hold investment grade MB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oody’s Baa3 or high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&amp;P and Fitch BBB- and high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redit Enhancem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dit Enhancement is a process to lower risk of entire security within a securitized as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out credit enhancement marketing of private label MBS is difficul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ze of enhancement is determined b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orrower’s credit quality, incentives to default, size &amp; variability of potential loss, &amp; diversification of loans in the asset po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redit Enhancem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2362320"/>
            <a:ext cx="799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ternal Credit Enhanc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vernment Agency Guarante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noline Insur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vide “credit wraps’ to bolster rating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tter of Cred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nk assumes default risk by reimbursing SPV in cash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ss common given banking issues these days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quidity Provi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kes short term temporary pay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common in international securitiz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redit Enhancem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al Credit Enhanc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iginator provides protection to cover potential los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sh, assets, or profits into transaction while taking a lower priority bo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cess Interest/Spread or Prof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est rate paid by borrowers on loans used as collateral is not coupon r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ust also deduct for trustee &amp; servicer expen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duct more from borrower interest payment to enhance de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redit Enhancem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ver-Collateraliz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ol of collateral loans has 5-10% higher par value than the issued secur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sh Collateral Accou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 losses occur, cash is withdraw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t termination remaining funds are returned to originat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uctural Credit Enhance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nior/Subordinated Structures: lower credit rated classes provide protection for senior clas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rigin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 Housing Administration (FHA) in 193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 foreclosures were peaking, RE values dropped to 50% of 1927-1928 lev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apse of mortgage banking indust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HA was to insure mortgages against default &amp; to require standard contrac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wed for mortgages to become practicable investments for thrifts and insurance compan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MB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ols of Commercial Real Estate Lo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payments are not a significant issue he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ue to Lockout perio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easance: penalty for early termin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MBS loans are heterogeneo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fferent mortgage styles, maturities, property types, covenants, tenant and location qua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MBS lack agency guarante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ically set up as REMIC with tranches like for RMB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-piece investor vs. B-piece invest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rvicing CMBS Loa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r passes payment to trustee for disburs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r monitors changes in payment behavi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default, servicer contacts borrower &amp; may pursue foreclos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rvicing CMBS Loa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ster Servicer: servicing all loans not in defaul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llects payment, compiles inform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ten is same as original underwri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ttle ability to modify loan or obtain alternative collater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epting alternative collateral could impact REMIC tax exempt stat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al Servic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vicing loans in defaul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amed at issuance, usually affiliated with B-piece invest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-Piece: face higher risk so should be most familiar with pool ris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MBS Servicing Conflic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default in  depressed marke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may be in “A-piece” investors’ interest to foreclo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-piece” may not get anything so special servicer may wait longer than is prudent for borrower to become current on pay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ssuance of CMBS (in Billions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3" name="Chart 1"/>
          <p:cNvGraphicFramePr/>
          <p:nvPr/>
        </p:nvGraphicFramePr>
        <p:xfrm>
          <a:off x="990720" y="2514600"/>
          <a:ext cx="731520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14600"/>
                    <a:ext cx="73152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MBS 2.0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eaking system to generate busi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ss tranches now than bef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-piece” investors now more likely to appoint special servic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eliminate perception that investment grade tranches give up economic value at defaul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ant more authority to “A-piece” in defining commitments made by issu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iminates “B-piece” buyers from selling their part to a CDO (per Dodd-Frank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MBS &amp; QQ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parency is needed to revive the mark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losure of Debt Coverage Ratio for each loan in pool so investor can better assess ris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e and Better information should reduce price volat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roblem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ch of perceived bloom taken off of securitization ro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re is good and bad in innovation: autos and electricity examp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prime Mortg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 high as 22% of total mortgages, but 80% of these were securitiz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ltdown after “Yes Era” given higher leverage, poor underwriting, government intervention in markets, and extremely low interest ra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o’s to Blam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ginate to Distribu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t potato approach vs. originate to hold on balance she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tings Agenc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y underestimated default ris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ves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y asked for it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pside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wered cost of capital for investors and cost of funds for borrow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ten better terms than for on-balance sheet loan (non-recourse, 30 year amort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consistent funds avail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ed liquidity &amp; higher origination fees for lenders and investment ban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done correctly: diversification of investment options &amp; good return on invest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rigin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 National Mortgage Assoc (FNMA) in 1938 “Fannie Ma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d liquidity to market, but still no homes were being built….led to VA Progr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teran’s Administration (V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ants mortgage funds for veterans at interest rates equal or less than FH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gates mortgage insurance &amp; avoids down payment require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or Next Sess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will discuss chapter 12 on Real Estate Investment Trusts (REIT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rigin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NMA restructured as government sponsored, private corporation in 196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vernment National Mortgage Assoc (GNMA) chartered in 196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innie Mae” had explicit government guarantee and was to carry out FNMA’s prior support of FHA, VA, and Farmer Home Admin. (FmHA) lo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v’t guarantee was the spark that ignited the secondary mortgage market in the United Sta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rigin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590920"/>
            <a:ext cx="769320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st Mortgage Backed Security (MBS) was in 197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cked by GNMA with VA and FHA loans as collater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ors could purchase securities backed by conventional home lo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970 Federal Home Loan Mortgage Company (“Freddie Mac”) was created to compete with FNMA &amp; to boost liquid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rigin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ary Mortgage Market Enhancement Act of 198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astly expanded number of financial institutions that could hold mortgage related secur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gins of Securitization was the creation of Ginnie Mae, Fannie Mae, and Freddie Mac which provided implicit and explicit guarantees necessary to ease investor unease with mortgage deb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gency Guarante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ency guaranteed MBS allowed for viable secondary mortgage market in 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NMA secured with “full faith and credit of the US Treasury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idered to be free of default ris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y do not underwrite or issue MB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y guarantee those provided private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gency Guarante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nnie Mae &amp; Freddie Mac are Government Sponsored Ent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 mortgages, issue securities using poo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Modified pass-throug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guarantees only the timely repayment of interest and offers default prot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Fully Modified pass-throug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guarantees timely payment of principal, interest &amp; offers default prot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reddie offers both kinds, Fannie offers “fully” on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02:03:39Z</dcterms:created>
  <dc:creator>leila</dc:creator>
  <dc:description/>
  <dc:language>en-US</dc:language>
  <cp:lastModifiedBy>G Jason Goddard</cp:lastModifiedBy>
  <dcterms:modified xsi:type="dcterms:W3CDTF">2012-03-12T13:36:39Z</dcterms:modified>
  <cp:revision>75</cp:revision>
  <dc:subject/>
  <dc:title>Tonight’s Plan</dc:title>
</cp:coreProperties>
</file>