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8D3-5C48-4CCD-8F2B-13BCC9A5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2A6-2A28-4F40-A204-25D35ECE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D63-A888-4C43-8FC3-32CFBCA6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1E4-B565-4F89-B4F7-8705B9A7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C8B4-A4F3-4A0C-9831-18294987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71A6-A88F-4AD6-BA91-60B08305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390E-EE9D-40D4-BF80-0D157C32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6312-51D6-41D8-8339-8FB6B36B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6AB7-3ECB-42CF-8C54-27EEB1ED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F95D-E776-4DB8-8A3E-166D710B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4117-EF11-4576-9C6B-033BF15A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E31-042F-4AC8-91FA-7A13CAA6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2986-BF96-4752-AC9F-D80CE81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9292-FE46-481B-B196-C04FEB37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B78A-8B7A-4892-BB30-E9676305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AFD5-B32A-4CAE-AB0E-9A44BF8C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87B3-C126-4612-9841-3263926B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CA2-2348-46C8-958B-F813C95B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149-98F6-4714-924B-59291CFB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297-9D6D-4B62-8CFA-0EB768F9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55E-AE00-4787-8C40-48E0C83B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3E9-27C2-4466-AEA1-E8780A47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50C-1190-4DD7-8A1A-80EC56EB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01C-C99B-4AF4-8AAF-CE1CFF16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6F26-A550-4024-B862-7AD66263D90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4D8F-BF9A-4A27-8040-BA0FACC546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ssion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pter Elev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gins of real estate securit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ncy Guarantees vs. Private Lab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Os and REM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BS &amp; QQ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cy Guarante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SE’s have slightly higher credit risk as they are backed by an agency guarantee and not explicitly by the US Treas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ncy backed securities lowered the cost of home financing by lowering transaction costs, increasing liquidity,&amp; improving the standardization of contr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uarantees also promoted acceptability of these invest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tgage Conformabili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nnie Mae and Freddie Mac mortgage conformability standards are set by Office of Federal Housing Enterprise Oversight (OFHE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HEO sets size limit for conforming loans (i.e. no jumbo mortgag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ve “super-conforming” loans in areas where prices are higher than the aver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SE’s may only purchase conforming &amp; super-conforming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borrowers outside of conformability standards, their borrowing expenses are hig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ivate Label 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sued by banks, insurance companies, savings institutions (known as underwrit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encouraged private label development given size of agency guarant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conduit buys loans from originators &amp; creates pools for sal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(without guarante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2006 private label issuances &gt; agency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BS &amp; Prepayment Ris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residential mortgages have the option to prepay, the uncertainty of timing and the magnitude of the cash flows received by the investor are uncert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rates drop below the contract rate, prepayment is more like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the interest rates on LT bonds falls, homeowner is more likely to prepay the mortg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epayment can occur for other reasons such as selling the prope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ust as the reinvestment rate drops, the RMBS investor is more likely to get paid ear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will have to reinvest their money at a lower r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BS &amp; Prepayment Ris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vexity:  Non-linearity in a financial model; the relationship of bond price with respect to interest rat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reases as interest rates fall (&amp; prepayments rise) and as interest rates rise ( &amp; prepayments fal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ability of prepayment is inversely related to the prevailing mortgage r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nce prepayment rates fall as mortgage rates rise, prepayments slow down for RMBS investors just as they desire them to pick up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uld have reinvested cash flows at a higher r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MBS &amp; Prepayment Ris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payment risk is the lynchpin to pricing RM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ortgage Rates fall: pool pays quicker than exp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 loses interest income &amp; gets principal back in a low rate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ortgage Rates rise: pool pays slower than exp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 earns relatively lower rate for a longer period of time (harms their yiel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teralized Mortgage Obligation (CM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was by Freddie Mac in 198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sts of a multi-class M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erent classes (tranches) have different maturities, interest rates, &amp; prepayment ri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ches from 2 to 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ch tranche has an estimated first and last payment d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earn a higher coupon rate, investor must bear more prepaymen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M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 Estate Mortgage Investment Condu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ablished in 198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&amp;I Payments are divided into various payment streams to create tran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IC avoids double tax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C is tax exem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s pay tax on dividends recei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most all CMOs are issued as REM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quential Pay (Plain Vanill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ches are paid in strict sequ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nown as “waterfalls” as cash flows down to lower rated tranch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ned Amortization Class (PAC) C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s support or companion tranche to provide protection for PAC or “main” tran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ows investors in main tranche to receive more certain cash flows soon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C yield, average life, &amp; lockout periods are more closely tied to original estim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ned Amortization Class (PAC) CMO Continu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prepayment is different than expected, the support tranche absorbs the variable portion of the 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have different levels of prio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YPE I PAC, Type II PAC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r yields are offered for riskier, more variable support tran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ization: Process of pooling individual assets that are used as collateral, for the issuance of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idential Mortgage Backed Securities (RMB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teralized Mortgage Obligations (CM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teralized Debt Obligations (CD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ercial Mortgage Backed Securities (CMB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rgeted Amortization Class (TA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ctured like PACs, but investor is protected from rise in prepayment rate (as interest rates fa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PAC &amp; TAC are in same CMO, PAC receives prio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C is inferior to PAC as investor is only protected from unexpected increase in pre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Tranches (Z Bonds, Accretion Bonds, Accrual Bon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ceives no interest until lockout period ends and begins to receive princip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ckout period ends when all other tranches have been paid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uring lockout period, tranche is credited with accrued interest that is taxable (although not receiv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se are best for tax deferred retirement accou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ve terms of 18-22 yea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cipal Only (PO) Str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 receives principal only, buys at a steep discount from face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rates fall, prepayments rise which lowers the effective term of the secu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rates rise, PO investor yield suffers (gets paid slow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MO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est Only (IO) Str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CMO offering PO will also offer 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 is sold at steep discount to notional principal (no par or face valu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principal in pool is paid down, notional value of tranche declines, as do the interest 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O Strips lose value rapidly as interest rates fall and as prepayments r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reating a Private Label 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n Agency backing allows for any asset to be included in the po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4357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reating a Private Label 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 Purpose Vehicle (SP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ols collateral, collects P&amp;I payments, &amp; passes them on to inves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wri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nks, investment banks, brokers that price and market MBS to inves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dit Ag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credit enhancements requi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nks may only hold investment grade MB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ody’s Baa3 or hig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&amp;P and Fitch BBB- and hig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dit Enhancement is a process to lower risk of entire security within a securitized as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out credit enhancement marketing of private label MBS is difficul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ze of enhancement is determined b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rrower’s credit quality, incentives to default, size &amp; variability of potential loss, &amp; diversification of loans in the asset po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99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ernal Credit Enhanc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ernment Agency Guarant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oline Insur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“credit wraps’ to bolster rat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tter of Cre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nk assumes default risk by reimbursing SPV in cas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ss common given banking issues these days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quidity Provi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kes short term temporary pay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common in international securitiz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al Credit Enhanc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ginator provides protection to cover potential lo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sh, assets, or profits into transaction while taking a lower priority bo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ess Interest/Spread or Prof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est rate paid by borrowers on loans used as collateral is not coupon r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st also deduct for trustee &amp; servicer expe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duct more from borrower interest payment to enhance d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Credit Enhance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-Collater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ol of collateral loans has 5-10% higher par value than the issued secur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sh Collateral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losses occur, cash is withdraw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t termination remaining funds are returned to origina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ctural Credit Enhanc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nior/Subordinated Structures: lower credit rated classes provide protection for senior clas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Housing Administration (FHA) in 193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 foreclosures were peaking, RE values dropped to 50% of 1927-1928 lev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pse of mortgage banking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HA was to insure mortgages against default &amp; to require standard contra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ed for mortgages to become practicable investments for thrifts and insurance compan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ols of Commercial Real Estate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payments are not a significant issue h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ue to Lockout peri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easance: penalty for early termin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BS loans are heterogeneo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erent mortgage styles, maturities, property types, covenants, tenant and location qu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MBS lack agency guarant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ly set up as REMIC with tranches like for RM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-piece investor vs. B-piece inves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rvicing CMBS Loa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r passes payment to trustee for disburs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r monitors changes in payment behav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default, servicer contacts borrower &amp; may pursue forecl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rvicing CMBS Loa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ster Servicer: servicing all loans not in defaul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ects payment, compiles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ten is same as original underwri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ttle ability to modify loan or obtain alternative collater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pting alternative collateral could impact REMIC tax exempt stat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 Servi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ing loans in defaul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med at issuance, usually affiliated with B-piece inves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-Piece: face higher risk so should be most familiar with pool ri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 Servicing Conflic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default in  depressed marke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may be in “A-piece” investors’ interest to forecl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-piece” may not get anything so special servicer may wait longer than is prudent for borrower to become current on pay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ssuance of CMBS (in Billions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3" name="Chart 1"/>
          <p:cNvGraphicFramePr/>
          <p:nvPr/>
        </p:nvGraphicFramePr>
        <p:xfrm>
          <a:off x="990720" y="2514600"/>
          <a:ext cx="73152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7315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 2.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eaking system to generate busi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ss tranches now than bef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-piece” investors now more likely to appoint special servi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eliminate perception that investment grade tranches give up economic value at defaul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nt more authority to “A-piece” in defining commitments made by issu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iminates “B-piece” buyers from selling their part to a CDO (per Dodd-Fran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MBS &amp; QQ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parency is needed to revive the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losure of Debt Coverage Ratio for each loan in pool so investor can better assess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and Better information should reduce price volat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oblem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ch of perceived bloom taken off of securitization r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re is good and bad in innovation: autos and electricity examp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prime Mortg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 high as 22% of total mortgages, but 80% of these were securitiz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ltdown after “Yes Era” given higher leverage, poor underwriting, government intervention in markets, and extremely low interest 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o’s to Blam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ginate to Distribu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t potato approach vs. originate to hold on balance she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tings Ag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underestimated defaul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es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asked for i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pside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wered cost of capital for investors and cost of funds for borrow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ten better terms than for on-balance sheet loan (non-recourse, 30 year amort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consistent funds avail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ed liquidity &amp; higher origination fees for lenders and investment ban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done correctly: diversification of investment options &amp; good return on invest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National Mortgage Assoc (FNMA) in 1938 “Fannie Ma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d liquidity to market, but still no homes were being built….led to VA Pro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teran’s Administration (V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nts mortgage funds for veterans at interest rates equal or less than FH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gates mortgage insurance &amp; avoids down payment requir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r Next Ses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discuss chapter 12 on Real Estate Investment Trusts (REI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NMA restructured as government sponsored, private corporation in 196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National Mortgage Assoc (GNMA) chartered in 196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nnie Mae” had explicit government guarantee and was to carry out FNMA’s prior support of FHA, VA, and Farmer Home Admin. (FmHA)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’t guarantee was the spark that ignited the secondary mortgage market in the United St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590920"/>
            <a:ext cx="769320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Mortgage Backed Security (MBS) was in 197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cked by GNMA with VA and FHA loans as collat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estors could purchase securities backed by conventional home lo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970 Federal Home Loan Mortgage Company (“Freddie Mac”) was created to compete with FNMA &amp; to boost liquid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rigins of Securit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ary Mortgage Market Enhancement Act of 198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stly expanded number of financial institutions that could hold mortgage related secur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gins of Securitization was the creation of Ginnie Mae, Fannie Mae, and Freddie Mac which provided implicit and explicit guarantees necessary to ease investor unease with mortgage deb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cy Guarante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ncy guaranteed MBS allowed for viable secondary mortgage market in 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NMA secured with “full faith and credit of the US Treasury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dered to be free of default ri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do not underwrite or issue M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guarantee those provided private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cy Guarante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nnie Mae &amp; Freddie Mac are Government Sponsored Ent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mortgages, issue securities using poo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Modified pass-throug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guarantees only the timely repayment of interest and offers default pro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Fully Modified pass-throug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guarantees timely payment of principal, interest &amp; offers default pro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reddie offers both kinds, Fannie offers “fully” on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2:03:39Z</dcterms:created>
  <dc:creator>leila</dc:creator>
  <dc:description/>
  <dc:language>en-US</dc:language>
  <cp:lastModifiedBy>G Jason Goddard</cp:lastModifiedBy>
  <dcterms:modified xsi:type="dcterms:W3CDTF">2012-03-12T13:36:39Z</dcterms:modified>
  <cp:revision>75</cp:revision>
  <dc:subject/>
  <dc:title>Tonight’s Plan</dc:title>
</cp:coreProperties>
</file>