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0C21-B788-4D73-ACDF-DDD91E10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03D3-C4AA-4B9A-93CB-C98F8221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645-EC71-49A0-9426-55EF8863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8B33-ED5B-46CA-BC3F-3E469F0B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A0BA-B931-4089-83DB-0F819A68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1184-2455-4A49-8806-6A2F2336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9922-DDF0-4763-B8EA-C9929838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D773-6AD2-44DC-809F-FBD2456A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44D5-60D3-48D9-90E7-4A3D6101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5C30-8A14-4EF3-B048-63DE3FCF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C56B-D8D8-4644-A458-04B0EFBD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183A-5B7B-4E9B-82BC-E4E57DD8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CA93-FDC8-4EF5-8DA0-8470711A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17ED-CCDC-4BBA-8379-5CF45545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52E9-1CF2-416A-BE42-728A3E26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FD45-1BB9-4760-B29E-60FD8515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DDB6-E439-4DB5-9963-5E1CA631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134-3FF2-4BC0-8E51-3CB6F9D1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BE7-52A2-4AC3-8C68-DF16A3C5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BB6-C461-4C3B-8D65-963C69B3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68B0-21EA-4E77-A80E-AD1FA9A2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C01-834D-4010-AEDA-412F3A03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6FEE-A279-48B8-9AD7-4AC8B384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E6B3-1C92-4B68-B133-F402624A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4308-DA8B-49BC-8368-5CB30962767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948D-C742-46A8-9436-D10B7C701BC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ssion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pter Nin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tail and Office properties as an investment alterna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uss two retail and two office c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-Case on the DC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Retail Proper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anchored Cen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retail strip center which is smaller than a neighborhood center: does not have a primary ten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nk of some of near cam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parc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 tract of land at front of shopping cen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ically includes a restaurant, bank, or movie theat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Retail Proper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gional Cen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large mall containing 400,000 square feet of leasable space (and abov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ually has one to three major department st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se types of properties are typically too large for the average real estate inves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so require a lot of maintenance and property management due to the size of the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rious Shopping Cen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2935440"/>
                <a:gridCol w="1819080"/>
                <a:gridCol w="1573200"/>
                <a:gridCol w="1365480"/>
              </a:tblGrid>
              <a:tr h="78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Primar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ype of Shopping Cen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Size (Sq. Ft.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Anchor Rati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rade Are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ighborhood Cen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,000-150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-5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ashion/Specialt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,000-250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-5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-15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munity Cen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,000-350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-6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-6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gional Cen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0,000-800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-7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-10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wer Cen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0,000-600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-9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-10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er-Regional Center (Mall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0,000 +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-7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-25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anges in Shopping Center Retur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y Facto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etition entering mark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dated design and 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nges in trade area income lev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nges in population dens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nges in highway construction/traffic patter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jecting Retail Dem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mary Trading Area:  Measure of potential revenue of tenants in property from geographic boundary where 60-80% of sales in a given area origin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sed on property size, goods/services offered, population density, &amp; transportation facil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competition equals lower possible reven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od for choosing locations in a given mar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cation of Retail Proper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near residential neighborhoo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ilding should be facing the road vs. perpendicular to the ro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located at an inters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op light is a big pl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convenient to major highwa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r both consumers and product delive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ing Home side of the road (groceri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ing to Work side of road (coffee, bakeri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Area Maintenance (CAM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cally landlords require their retail tenants to pay for their own utilities, and tenants typically will pay for taxes, insurance, and maintenance of the property on a pro-rata basi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landlord pays for these expenses, and then is reimbursed by the ten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of this is spelled out in the leas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cond Story Retai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150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s very hard to le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stomers do not want to climb stairs or take elevators in most c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times what was supposed to be second story retail space is converted into office space or possibly apar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some metro locations, two story retail space is success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t Lee, NJ exam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. Catherine’s Street in Montre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tail Tenant Mi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ants vary from grocery store chains, drug stores, dollar stores, restaurants, hobby stores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ich drug stores will survive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would you find out about the financial strength of the tenant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would be a crucial time to find this ou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ember QQD here…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enant Improvements &amp; Leasing Commissions in DCF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ant Improvement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timate probability of renewal vs. new lease and the costs per square foot for ea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lculate weighted average of above x sq ft of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lude inflation/growth factor depending on when in holding period expense is estimated to occu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fice Vs. Reta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stomers of tenants in office space visit the property due to having appoin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tail customers typically are spur of the moment visitors so the location is much more important for retail vs.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gress: Entrance into the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gress: Exit from the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th should be clear, visible from the road, and located near major roads and other retail shopping cen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enant Improvements &amp; Leasing Commissions in DCF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sing Commission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stimate probability of renewal vs. new lease and the costs as % of EGI for sp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lculate weighted average of above x % of EGI of space x length of le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 inflation/growth factor as this is included in DCF estimation of EGI for a given ye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survey market averages for inputs to include cost of renewal and new lease and length of le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Sessio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fice Character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ss A, B, &amp; C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fies features based on construction materials used, floor and roof structures, fireproofing, quality of interior finish/amenities, and lo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ss A is typically skyscraper qu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inforced concrete framing, superior location and access, good condition and professional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ss B is typically suburban office buildings, with brick façade, and professionally landscap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ss C is typically older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5-25 years),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lock walls, notable physical deterioration (or converted retail spac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Office Character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uld be a medical office buil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located near the hospit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uld be a professional office buil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located in office park or in neighborhoods of similar quality and ut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located near residential areas where employees of the tenants l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uld be a downtown office buil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have adequate parking, be near hotels, restaurants, and have good access from major highwa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fice Defin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ss Building Ar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tal square footage of the building, measuring from outside wall to outside w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 Rentable Ar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ctual useable area.  The gross area less areas not rented by tenant (restrooms, public corridors, janitor closets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sor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et amount of additional office space that is leased in a year’s time.  Can be positive or negative (if new product is built but not lease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fice Conside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bestos has been a major problem in attaining financing by commercial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uld consider the age and condition of the eleva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ge and efficiency of the HVAC, roof, and the util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se terms are typically 3-5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ants include doctors, lawyers, insurance, banks, other service sector employ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tail Proper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mentioned earlier, retail properties are more dependent on the whims of the customers (rather than appointment orient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hing like that appointment at McDonald’s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chor ten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tional or regional chain store that is the primary draw for customers to the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-Line ten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rting players relative to the anch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mino Clau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retail leases will specify that if the anchor tenant leaves, the other supporting tenants have the ability to break their leases early (for a fe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so known as a “Go Dark Clause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les per square foo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is a key measure of performance for retail tenants.  Investors can request last few years of sales history to gauge success at location (and the probability that a tenant will renew their leas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Retail Proper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ighborhood Cen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pping center containing up to 150,000 sq.ft. of leasable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ically will have an anchor (Food Lion), strong supporting players (Dollar General), and local mom &amp; pop tenants (local nail salon or local restauran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e are many of these in most commun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determine if the property is experiencing a positive trend line or a negative trend l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02:03:39Z</dcterms:created>
  <dc:creator>leila</dc:creator>
  <dc:description/>
  <dc:language>en-US</dc:language>
  <cp:lastModifiedBy>G Jason Goddard</cp:lastModifiedBy>
  <dcterms:modified xsi:type="dcterms:W3CDTF">2012-03-12T13:33:45Z</dcterms:modified>
  <cp:revision>48</cp:revision>
  <dc:subject/>
  <dc:title>Tonight’s Plan</dc:title>
</cp:coreProperties>
</file>